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3B6-AE40-4277-A759-FA56F7E9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4D3-7CE7-4C73-BF33-C42081A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7E4-E2D7-4C9B-A31F-D930D68F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E53-8371-4697-AA19-F275E501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BC7-477D-429E-8F50-3909428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38B-48AD-4865-B2FF-7D4590B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560-AF05-42B9-A3C7-D7B98AC6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F8B-A15E-4AC8-9554-17F4742D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E71-0974-41C9-AEF4-7A081936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701-EB74-488F-BBB2-F443A94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270-1EAD-414F-88F0-17708A5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02D-BECB-4445-B930-66A7AEF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9F34-4B1D-4A48-8AA0-A40A6B60F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7400" y="2356920"/>
            <a:ext cx="4600440" cy="35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ruthCYR Thin"/>
              </a:rPr>
              <a:t>Урок окружающ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684360" y="18900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ниципальное автономное обще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яя  общеобразовательная школа № 59 города Тю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95280" y="6237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рябина Вера Викторовна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3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рганизационный момент (1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ть готовность обучащихся к уроку, настроить их на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11280" y="3564000"/>
          <a:ext cx="7875360" cy="1371600"/>
        </p:xfrm>
        <a:graphic>
          <a:graphicData uri="http://schemas.openxmlformats.org/drawingml/2006/table">
            <a:tbl>
              <a:tblPr/>
              <a:tblGrid>
                <a:gridCol w="3940200"/>
                <a:gridCol w="3935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, проверка готовности обучающихся к уро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аиваются на работу , приветствуют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ктуализация знаний (10 м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ировать знания учащихся, полученные на предыдущем уроке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есный, наглядный, метод контро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3878280"/>
          <a:ext cx="7866000" cy="1920960"/>
        </p:xfrm>
        <a:graphic>
          <a:graphicData uri="http://schemas.openxmlformats.org/drawingml/2006/table">
            <a:tbl>
              <a:tblPr/>
              <a:tblGrid>
                <a:gridCol w="3933720"/>
                <a:gridCol w="3932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 фронтальную беседу, итогом которой является самостоятельная работа обучающихся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чают на вопросы, делают выв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2" name="Равнобедренный треугольник 4">
            <a:hlinkClick r:id="rId2" action="ppaction://hlinksldjump"/>
          </p:cNvPr>
          <p:cNvSpPr/>
          <p:nvPr/>
        </p:nvSpPr>
        <p:spPr>
          <a:xfrm rot="5400000">
            <a:off x="8176320" y="6042600"/>
            <a:ext cx="855720" cy="774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меры карто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чи предложения об изменениях в неживой природе осен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заметное изменение в неживой природе – это __________________________. Небо часто закрыто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ёт _________________________________ дождь. Вода в реках, прудах, озёрах становится _________________ . Над водоёмами часто бывают _______________. Почва стала 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Слова для справок: туманы, промерзать, похолодание, мелкий, моросящий, тучами, холоднее.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меры карто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17730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иши недостающие слова, чтобы получился рассказ об осенних изменениях в живой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ю листья на деревьях и кустарниках ________________.   Не изменяют окраску листьев ______________________. Они по-прежнему стоят _________________. Улетели в тёплые края __________, _________________, _____________, 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_____________, _____________, ______________. ____________ не боятся наступающей зимы. Люди помогут им перезимовать, развесят ________________, насыплют в них ________________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Слова для вставки: хвойные деревья, вороны, соловьи, скворцы, зелёные, ласточки, воробьи, дятлы, кормушки, журавли, пожелтели, синицы, корм.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меры карто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280" y="17730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Запиши по порядку следующие за осенью времена год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ень, ……………… , ……………….. , …………………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Запиши цифрами порядок осенних месяце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октябр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сентябр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нояб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Как осенью солнце поднимается над горизонтом по сравнению с летом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 выше, чем ле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так же, как ле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 ниже, чем лет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Кто и что готовит на зиму? Соедини стрелка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дведи      мё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бры          зер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ыши         ж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лки          ветки деревь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чёлы         грибы, орех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Подчеркни перелётных птиц одной чертой, а зимующих птиц – двумя черта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ворец, журавль, синица, соловей, воробей, кукушка, ворона, ласточ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Равнобедренный треугольник 3">
            <a:hlinkClick r:id="rId2" action="ppaction://hlinksldjump"/>
          </p:cNvPr>
          <p:cNvSpPr/>
          <p:nvPr/>
        </p:nvSpPr>
        <p:spPr>
          <a:xfrm rot="5400000">
            <a:off x="8201160" y="5874480"/>
            <a:ext cx="765360" cy="734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856800"/>
            <a:ext cx="7732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общение темы и целей (3 м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вить перед учениками учебную задачу, решение которой потребует активного применения имеющихся знаний; сформировать мотивацию к поиск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: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есный, проблемная ситу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4508640"/>
          <a:ext cx="7875360" cy="1096920"/>
        </p:xfrm>
        <a:graphic>
          <a:graphicData uri="http://schemas.openxmlformats.org/drawingml/2006/table">
            <a:tbl>
              <a:tblPr/>
              <a:tblGrid>
                <a:gridCol w="3938400"/>
                <a:gridCol w="393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 проблемную ситуац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агают свои варианты ре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280" y="95364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Открытие» новых знаний. Практическая работа (15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6280" y="2438280"/>
            <a:ext cx="792972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самостоятельную деятельность учеников по поиску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-поисковый, работа с книг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66640" y="4373640"/>
          <a:ext cx="7831080" cy="1646280"/>
        </p:xfrm>
        <a:graphic>
          <a:graphicData uri="http://schemas.openxmlformats.org/drawingml/2006/table">
            <a:tbl>
              <a:tblPr/>
              <a:tblGrid>
                <a:gridCol w="3916440"/>
                <a:gridCol w="3914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 инструктаж и координирует  практическую работу в групп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тся работать в группах, соблюдают правила взаимоотношений и сотрудниче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общение и закрепление знаний (8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результаты групповой работы, выяснить представления детей о том, что было предметом обсуждения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, нагляд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4194000"/>
          <a:ext cx="7875360" cy="1646280"/>
        </p:xfrm>
        <a:graphic>
          <a:graphicData uri="http://schemas.openxmlformats.org/drawingml/2006/table">
            <a:tbl>
              <a:tblPr/>
              <a:tblGrid>
                <a:gridCol w="3825720"/>
                <a:gridCol w="404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выступления групп, помогает делать выводы, анализирует работу гру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яют результат работы, аргументируют свой ответ, анализируют ответы других выступающ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тог урока. Рефлексия (3 м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ать оценку достижений цели урока через самоанализ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, метод контр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4194000"/>
          <a:ext cx="7875360" cy="1097280"/>
        </p:xfrm>
        <a:graphic>
          <a:graphicData uri="http://schemas.openxmlformats.org/drawingml/2006/table">
            <a:tbl>
              <a:tblPr/>
              <a:tblGrid>
                <a:gridCol w="3825720"/>
                <a:gridCol w="404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одит итог, проводит рефлексию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ируют свое настроение и отношение к уро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все получило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Я немного ошиб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было много оши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ничего не получи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3"/>
          <p:cNvSpPr/>
          <p:nvPr/>
        </p:nvSpPr>
        <p:spPr>
          <a:xfrm>
            <a:off x="1403280" y="2276640"/>
            <a:ext cx="86508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1403280" y="4221000"/>
            <a:ext cx="865080" cy="792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6"/>
          <p:cNvSpPr/>
          <p:nvPr/>
        </p:nvSpPr>
        <p:spPr>
          <a:xfrm>
            <a:off x="1403280" y="3284640"/>
            <a:ext cx="865080" cy="79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403280" y="5157720"/>
            <a:ext cx="865080" cy="79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560" y="104256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В гости к осе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3920" y="26604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 -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урока - 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– «Природа» (урок в разделе 8,            по данной теме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31640" y="1133280"/>
            <a:ext cx="8280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дготови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 в осенний лес, на метеостанц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в общешкольном празднике «Золотая осень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борка, разучивание стихотворений об осени, организация  выставки рисун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ежающее задание – поиск народных примет осени, характерных для нашего края (микроисследование, интервьюировани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91640" y="203328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ение представлений обучающихся об осенних изменениях в живой и неживой природ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мения работать с научной и периодической литерату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2000" y="-360"/>
            <a:ext cx="6715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0920" y="863280"/>
            <a:ext cx="8235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вязной речи обучающихся, мышления (умение анализировать, систематизировать, сравнивать, обобщать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щение к народной культуре родного кра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важительного отношения к народной памяти, людям старшего поколения, друг к другу, умения работать в группе, отвечать за общий результа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прир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орудование 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нстрационная таблица «Осе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сь голосов п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очки для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и и журн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«Естествозн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ая бумага, ножницы, шаблоны листь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ние 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озап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5560" y="95364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емы и методы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22000" y="2484360"/>
            <a:ext cx="792972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ы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-поисковы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6640" y="95364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иды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6280" y="5902920"/>
            <a:ext cx="79293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285920" y="2438280"/>
            <a:ext cx="274644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рупп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751280" y="2438280"/>
            <a:ext cx="279108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2097000" y="4149720"/>
            <a:ext cx="436572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467000" y="1089000"/>
            <a:ext cx="5535360" cy="80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9"/>
          <p:cNvCxnSpPr>
            <a:stCxn id="60" idx="2"/>
            <a:endCxn id="57" idx="0"/>
          </p:cNvCxnSpPr>
          <p:nvPr/>
        </p:nvCxnSpPr>
        <p:spPr>
          <a:xfrm flipH="1">
            <a:off x="2658240" y="1898280"/>
            <a:ext cx="157572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11"/>
          <p:cNvCxnSpPr>
            <a:stCxn id="60" idx="2"/>
          </p:cNvCxnSpPr>
          <p:nvPr/>
        </p:nvCxnSpPr>
        <p:spPr>
          <a:xfrm>
            <a:off x="4233600" y="1898640"/>
            <a:ext cx="68760" cy="22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>
            <a:stCxn id="60" idx="2"/>
            <a:endCxn id="58" idx="0"/>
          </p:cNvCxnSpPr>
          <p:nvPr/>
        </p:nvCxnSpPr>
        <p:spPr>
          <a:xfrm>
            <a:off x="4233600" y="1898280"/>
            <a:ext cx="19134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уктур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изация опорных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бщение темы и целей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ткрытие» новых знаний. Практическ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 и закрепление новых зн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 урока. Рефлек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4:47:43Z</dcterms:created>
  <dc:creator>User</dc:creator>
  <dc:description/>
  <dc:language>en-US</dc:language>
  <cp:lastModifiedBy>Дерябина</cp:lastModifiedBy>
  <dcterms:modified xsi:type="dcterms:W3CDTF">2015-01-30T02:21:36Z</dcterms:modified>
  <cp:revision>14</cp:revision>
  <dc:subject/>
  <dc:title>Слайд 1</dc:title>
</cp:coreProperties>
</file>