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5699-E740-4A3D-91C4-336030ED1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51D6-A03E-41BB-A801-2D06C144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7D61-398C-4CA4-B089-F0717DC57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E7ED-0AC4-4C10-B0DE-61298412F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267F-5147-47F9-9DB7-5D4F67CE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B536-B370-42B4-8928-E3AE2BAE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D031-8996-4647-8E9D-3D173A0E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9B65-77D0-488B-957C-09837ACE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18FB-638C-4480-9579-98C5AB81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A26B-0E6F-42AD-8752-CEECCF1A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0463-0D65-4B67-B8C5-8623A85D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0823-F7CB-4813-AF58-E8904A9D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7F95-C1A3-4F19-BF47-14F8C197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8825-BA2B-4FED-9A04-64B7B458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AEB8-6E85-4A80-80DF-4D42AE87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1C8F-A030-47F5-AD40-E143C64D9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ED76-DCDD-4A39-AA61-628EEC756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FD67-DC06-4738-81C1-CFF7F82E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3E58-6DD4-45A2-9F97-BE1A849E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7CAD-400C-42CB-A9D6-E5628D06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1859-4ADE-4FA6-AC45-93A08133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932E-A860-4251-B58F-4380156B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B3E2-45BA-47C7-AEDF-316DC345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5D3A-D7DF-4469-947E-F2655DBD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3FCA-46D6-44AD-A32E-30E10EC39DB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B073-C8B9-4B12-8C45-5918487D6AA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295280"/>
            <a:ext cx="7623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Линейная перспектива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495252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812f"/>
                </a:solidFill>
                <a:latin typeface="Arial"/>
              </a:rPr>
              <a:t>Подготовила учитель МБОУ « СОШ № 151 г. Красноярска Егорова Елена Александ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90920" y="2265480"/>
            <a:ext cx="373356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одготовьте набросок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754380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одумайте детал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23888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Продумайте и нарисуйте детал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69644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Раскрасьте рисунок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16292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124440" cy="2017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04920" y="2895480"/>
            <a:ext cx="3581280" cy="2686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181480" y="609480"/>
            <a:ext cx="3276720" cy="2048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343400" y="3505320"/>
            <a:ext cx="453384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Удачной работ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&amp;Fcy;&amp;ocy;&amp;rcy;&amp;ucy;&amp;mcy; &amp;Rcy;&amp;Fcy;&amp;Kcy; * &amp;Pcy;&amp;rcy;&amp;ocy;&amp;scy;&amp;mcy;&amp;ocy;&amp;tcy;&amp;rcy; &amp;tcy;&amp;iecy;&amp;mcy;&amp;ycy; - &amp;Scy;&amp;ocy;&amp;vcy;&amp;iecy;&amp;lcy;&amp;ucy; &amp;icy; &amp;Scy;&amp;acy;&amp;shcy;&amp;acy; &quot;&amp;Vcy;&amp;zcy;&amp;gcy;&amp;lcy;&amp;yacy;&amp;dcy; &amp;vcy; &amp;dcy;&amp;acy;&amp;lcy;&amp;softcy;&quot;"/>
          <p:cNvPicPr/>
          <p:nvPr/>
        </p:nvPicPr>
        <p:blipFill>
          <a:blip r:embed="rId1"/>
          <a:stretch/>
        </p:blipFill>
        <p:spPr>
          <a:xfrm>
            <a:off x="762120" y="1089000"/>
            <a:ext cx="7391160" cy="50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Найдите точку схода лини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08660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8080" y="1122480"/>
            <a:ext cx="678204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0160"/>
            <a:ext cx="822960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84872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На природе тоже можно увидеть точку сход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07732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0T09:47:35Z</dcterms:created>
  <dc:creator>Елена</dc:creator>
  <dc:description/>
  <dc:language>en-US</dc:language>
  <cp:lastModifiedBy>Елена</cp:lastModifiedBy>
  <dcterms:modified xsi:type="dcterms:W3CDTF">2015-01-30T10:04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