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A69E-7A27-43E5-BF0A-171DDD71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2DE7-7418-44D6-BC5A-7FEA8DD3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649E-F4A8-4657-8506-42E9CD6A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3AAE-D2F0-4C54-A5A6-E72FE09C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EE06-5929-4864-9262-3D5E3F6F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B679-B700-4F5F-8FF7-983CE044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2FCA-7728-4D4C-93EE-4F9FAC3D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92B4-7034-41FE-8C6B-DC104ACB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4849-C45C-46AA-A413-0A20003A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CDE9-EEDA-4FCF-BB72-219EE098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DCEB-32A3-48EC-9593-5C21CC37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ABD-0C0F-4438-9E04-2F81F392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7ECD-F55A-4660-AB6E-BCC27BE0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12FC-24B5-4799-94BA-E90A0798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0B4D-68AB-4847-958A-ADEBB1D3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2EA1-5500-4553-9903-48DF17DF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186C-2FBA-4167-A17B-3BCDF919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C10D-0592-4521-844F-CD337350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8D3B-8B50-4E14-96C2-9353F661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19D9-E375-462F-BDB3-CD3FBCC8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BB8F-68A4-4746-AC7C-9EF43C9A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95EE-3445-4E7E-9A09-CEF3E342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BA73-D496-4EF0-AADB-75FEC9A0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DADA-995E-49A4-86A6-49A09B4A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FAD9-C460-4B88-8FF3-AEAF51CFA40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3414-3E71-44BD-B30B-2C84ADF220C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295280"/>
            <a:ext cx="7623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Линейная перспектива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495252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812f"/>
                </a:solidFill>
                <a:latin typeface="Arial"/>
              </a:rPr>
              <a:t>Подготовила учитель МБОУ « СОШ № 151 г. Красноярска Егорова Елена Александ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90920" y="2265480"/>
            <a:ext cx="373356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одготовьте набросо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75438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одумайте детал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2388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родумайте и нарисуйте детал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69644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аскрасьте рисуно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1629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124440" cy="2017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181480" y="609480"/>
            <a:ext cx="3276720" cy="2048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343400" y="3505320"/>
            <a:ext cx="45338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Удачной работ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&amp;Fcy;&amp;ocy;&amp;rcy;&amp;ucy;&amp;mcy; &amp;Rcy;&amp;Fcy;&amp;Kcy; * &amp;Pcy;&amp;rcy;&amp;ocy;&amp;scy;&amp;mcy;&amp;ocy;&amp;tcy;&amp;rcy; &amp;tcy;&amp;iecy;&amp;mcy;&amp;ycy; - &amp;Scy;&amp;ocy;&amp;vcy;&amp;iecy;&amp;lcy;&amp;ucy; &amp;icy; &amp;Scy;&amp;acy;&amp;shcy;&amp;acy; &quot;&amp;Vcy;&amp;zcy;&amp;gcy;&amp;lcy;&amp;yacy;&amp;dcy; &amp;vcy; &amp;dcy;&amp;acy;&amp;lcy;&amp;softcy;&quot;"/>
          <p:cNvPicPr/>
          <p:nvPr/>
        </p:nvPicPr>
        <p:blipFill>
          <a:blip r:embed="rId1"/>
          <a:stretch/>
        </p:blipFill>
        <p:spPr>
          <a:xfrm>
            <a:off x="762120" y="1089000"/>
            <a:ext cx="739116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Найдите точку схода лини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08660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1122480"/>
            <a:ext cx="678204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0160"/>
            <a:ext cx="822960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84872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На природе тоже можно увидеть точку сход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07732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09:47:35Z</dcterms:created>
  <dc:creator>Елена</dc:creator>
  <dc:description/>
  <dc:language>en-US</dc:language>
  <cp:lastModifiedBy>Елена</cp:lastModifiedBy>
  <dcterms:modified xsi:type="dcterms:W3CDTF">2015-01-30T10:04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