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376-25C3-4521-9AE7-624E724B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2F8-9768-456A-850F-5AE32723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32D-302A-4F81-94F8-F73DACA0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CCB-C8E8-44FC-8A52-961607BF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FF8-3097-4B13-B71F-EB95D25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F11-90BA-450A-84F1-73457E2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60F-DFBE-4669-88EE-1C237EB7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6C4-0988-4D37-9FAD-0EDC949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6E1-470C-455E-A031-92EE682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6A5-B965-4454-9CB1-9090886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922-2FBF-4777-92CA-49E3F078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A83-02CC-4D30-9C75-D2D677F3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981F-EA9D-45E9-A498-580461C8A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ОГОПЕДИЧЕСКАЯ РАБОТА ПРИ ДИЗАРТ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304920"/>
            <a:ext cx="7620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фференцированное применение различных приемов массажа позволяет понизить мышечный тонус при спастичности мышц и, напротив, повысить его при гипотонии артикуляционной мускулатуры. В зависимости от состояния мышечного тонуса проводится расслабляющий массаж (при спастичности мышц - с целью расслабления) и стимулирующий массаж (при гипотонии - с целью активизации мышечного тонус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74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опоказания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екционные заболевания (в том числе ОРВИ, грипп), заболевания кожи, герпес на губе, стоматит, конъюктивит. С большой осторожностью следует применять массаж у детей с эписиндромом (судорогами), особенно, если ребенок плачет, кричит, вырывается из рук, у него «синеет» носогубный «треугольник» или отмечается тремор подбород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12800"/>
            <a:ext cx="792468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ж проводят циклами по 10-15-20 сеансов, желательно каждый день или через день. После перерыва на 1-2 месяца цикл можно повтори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тельность одной процедуры может варьировать в зависимости от возраста ребенка, тяжести речедвигательного нарушения, индивидуальных особенно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ьная длительность первых сеансов – от 1-2 минут до 5-6 минут, а затем 15 - 20 мин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ннем возрасте массаж не должен превышать 10 минут, а в дошкольном и школьном возрасте – 15-25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838080"/>
            <a:ext cx="777240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яющий массаж артикуляционной мускулату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в случае повышения мышечного тонуса в речевых мышцах (в лицевой, губной, язычной мускулатур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 оральной мускулатуры достигается легким поглаживанием, похлопыванием мышц лица, губ, шеи, языка. Движения проводятся двумя руками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авлении от периферии к центру. Движения должны быть легкими, скользящими, слегка прижимающими, но не растягивающими кожу. Каждое движение повторяется 5-8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380880"/>
            <a:ext cx="716256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 лицев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ние от середины лба к вис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бровей к волосистой части голо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инии лба вокруг гл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живание бровей от переносицы в стороны до края волос, продолжая линию бров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инии лба вниз через все лицо по щекам, подбородку и ш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нижнего края ушной раковины (от мочек уха) по щекам к крыльям н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е пощипывающие движения по краю нижней челю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авливающий массаж лица от корней волос вни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1066680"/>
            <a:ext cx="723924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лабление губн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верхней губы от углов рта к цент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ижней губы от углов рта к цент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верхней губы (движение сверху вни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ижней губы (движение снизу вверх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осогубных складок от крыльев носа к углам г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ечный массаж губ (легкие вращательные движения по часовой стрелке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гкое постукивание губ пальц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1143000"/>
            <a:ext cx="716292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мулирующий массаж артикуляционн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ий массаж осуществляется при гипотонии мышц (с целью укрепления мышечного тонуса). Массажные движения проводятся от центра к периферии. Укрепление лицевой мускулатуры осуществляется путем поглаживания, растирания, разминания, пощипывания, вибрации. После 4-5 легких движений сила их нарастает. Они становятся надавливающими, но не болезненными. Движения повторяются 8-1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304920"/>
            <a:ext cx="80773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епление лицев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лба от середины к вис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лба от бровей к воло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бров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по векам от внутренних к внешним углам глаз и в сторо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щек от носа к ушам и от подбородка к уш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жимание подбородка ритмичными движе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инание скуловой и щечной мышцы (спиралевидные движения по скуловой и щечной мышца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тирание щечной мышцы (указательный палец во рту, остальные снаруж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щипывание щ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762120"/>
            <a:ext cx="78483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епление губной мускулату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от середины верхней губы к угл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середины нижней губы к угл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носогубных складок от углов губ к крыльям н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щипывание г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лывание г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990720"/>
            <a:ext cx="78487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язычной мускулатуры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 массажа языка: а) Нормализация мышечного тонуса; б) Включение в речевую деятельность новых групп мышц и увеличение интенсивности ранее включенных мышц; в) Увеличение объема и амплитуды артикуляционных движений; г) Уменьшение слюнотечения; д) Афферентация в речевые зоны коры головного мозга (для стимуляции речевого развит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1143000"/>
            <a:ext cx="67816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опедической работ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дизартр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разборчивости речевого высказывания для того, чтобы обеспечить ребенку большее понимание его речи окружающи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609480"/>
            <a:ext cx="74674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языка можно осуществлять различны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довый массаж (используются зонды Е.В.Новиковой или постановочные зонды Ра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льцевый массаж (в напальчнике или через марлевую салфетк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деревянным или металлическим шпа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зубными щетками (различными по материалу, форме, жесткости щетины, размеру). При массаже используются как щетина, так и палочка щ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53452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емы массажа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аживание языка в различных направлениях: - от корня языка к кончику (воздействие на продольные мышцы); от центра языка к боковым краям (поперечные мышцы); круговые, спиралевидные дви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хлопывание языка (начиная с кончика, продвигаясь постепенно к корню и обратно. (Ритмичные надавливания воздействуют на вертикальные мышц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гкие вибрирующие движения, передаваемые языку через зонд (шпатель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лывание языка (игольчатым зонд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ж верхнего подъема языка, растягивая уздечку (движение снизу вверх под язык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Перетирание" языка марлевой салфеткой или чистым носовым платком (в случае повышенной чувствительности ребенка к марле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ластывание языка маленькой клизмой-спринцовкой (сложенная два раза большая часть клизмы - во рту; кончик - снаруж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09480"/>
            <a:ext cx="80010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артикуляционная гимнаст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артикуляционная гимнастика проводится после массажа. Логопед выполняет пассивные движения органов артикуляции. Их целью является включение в процесс артикулирования новых групп мышц, до этого бездействующих, или увеличение интенсивности мышц, ранее включенных. Это создает условия для формирования произвольных движений речевой мускулатуры. Направление, объем и траектория пассивных движений те же, что и активных. Они отличаются от активных движений тем, что время включения и выключения из движения, фиксация не зависят от ребенка. Логопед оформляет схему артикуляционного движения, по возможности объясняя ее ребенку, требуя от него зрительного контроля. Пассивные упражнения осуществляются сериями по 3-5 движений. Ребенку предлагается осознать 3 стадии каждого движения: вход, фиксация, выхо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609480"/>
            <a:ext cx="83055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гимнастика язы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дение языка из ротовой полости впере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ягивание языка наз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ние языка вниз (к нижней губ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ние языка вверх (к верхней губ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ые отведения языка (влево и вправ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вливание кончика языка ко дну ротовой пол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однимание кончика языка к твердому неб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е плавные покачивающие движения языка в стор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457200"/>
            <a:ext cx="807732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ая гимнастика гу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е верхней губы (поместив указательные пальцы обеих рук в углы губ, проводят движение к средней лини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е нижней губы (тем же прием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ние губ в трубочку ("хоботок"), производя движение к средней ли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гивание губ в "улыбку", фиксируя пальцами в углах р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ние верхней губ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ние нижней губ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кание губ для выработки кинестетического ощущения закрытого р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личных укладов губ, необходимых для произнесения гласных звуков (а, о, у, и, ы, э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304920"/>
            <a:ext cx="784872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логопедическ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степени проявления двигательных дефектов речевого аппарата - спастического пареза, гиперкинезов, атаксии (в более легких случаях - нормализация тонуса мышц и моторики артикуляционного аппарат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дыхания и голоса. Формирование силы, продолжительности, звонкости, управляемости голоса в речевом потоке. Выработка синхронности голоса, дыхания и артикуля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ация просодической системы речи (мелодико-интонационных и темпо-ритмических характеристик реч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ртикуляционного праксиса на этапе постановки, автоматизации и дифференциации звуков ре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онематического восприятия и звукового анализа (если нарушен не только фонетический строй речи, но и фонематические процесс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ация лексико-грамматических навыков экспрессивной речи (при смешанном, сложном речевом расстройстве, проявляющемся в нарушении всех компонентов реч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457200"/>
            <a:ext cx="777240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ы логопедического воздействия при дизарт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ованный логопедический массаж (расслабляющий или стимулирующи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довый, точечный, мануальный, щеточный масса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ссив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икуляционная гимнас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  Активная артикуляционная гимнас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ыхательные и голосовые упраж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усственная локальная контрастотермия (сочетание гипо- и гипертерми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143000"/>
            <a:ext cx="75438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педическую работу при дизартрических расстройствах следует начинать с ослабления проявления расстройств иннервации мышц речевого аппар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яя возможности движения речевых мышц, можно рассчитывать на их лучшее спонтанное включение в артикуляционный процес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066680"/>
            <a:ext cx="761976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ованный логопедический масса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огопедический массаж – это одна из логопедических технологий, активный метод механического воздействия. Массаж применяется в тех случаях, когда имеют место нарушения тонуса артикуляционных мышц. Изменяя состояние мышц периферического речевого аппарата, он в конечном счете опосредованно способствует улучшению произносительной стороны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990720"/>
            <a:ext cx="723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саж может проводиться на всех этапах коррекционно-логопедического воздействия. Но особенно значимо его использование  на начальных этапах работы, когда у ребенка еще нет принципиальной возможности выполнить определенные артикуляционные движения или они ограниче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533520"/>
            <a:ext cx="876312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задачи логопедического массаж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лизация тонуса мышц артикуляционного аппарата (в более тяжелых случаях – уменьшение степени проявления двигательных дефектов артикуляционной мускулатуры: спастического пареза, гиперкинезов, атаксии, синкинези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ация тех групп мышц периферического речевого аппарата, в которых была недостаточная сократительная способность (или включение в процесс артикулирования новых групп мышц, до этого бездействующи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яция проприоцептивных ощущ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условий к формированию произвольных, координированных движений органов артикуля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ение гиперсалив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ение глоточного рефлек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фферентация в речевые зоны коры головного мозга (для стимуляции речевого развития при задержке формирования реч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7164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массажа состоит в нанесении механических раздражений в виде поглаживания, пощипывания, растирания, разминания, поколачивания и вибрации. При легком, медленном поглаживании снижается возбудимость массируемых тканей, что оказывает успокаивающее, расслабляющее воздействие. Энергичные и быстрые движения при массаже повышают раздражимость массируемых тканей, сокращают мыш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9:04:54Z</dcterms:created>
  <dc:creator>Лесюшка</dc:creator>
  <dc:description/>
  <dc:language>en-US</dc:language>
  <cp:lastModifiedBy>Лесюшка</cp:lastModifiedBy>
  <dcterms:modified xsi:type="dcterms:W3CDTF">2008-10-27T17:06:35Z</dcterms:modified>
  <cp:revision>17</cp:revision>
  <dc:subject/>
  <dc:title>Презентация PowerPoint</dc:title>
</cp:coreProperties>
</file>