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CB72-5630-4FB3-8F78-B0D9B18D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250-A224-46E8-8136-989BCE6A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3C1-1A20-41F9-AF94-3C50CCE9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87B-ED9E-4E4B-A6F4-CEA3E1FC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B84E-AFE2-44A2-89C9-2241C21A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9A82-FBDD-4508-82AF-497FDB5D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C2B9-733F-4CA7-854F-3484EAD0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5E1B-761F-4A8F-AC0A-36577274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D358-C7CA-4059-902B-E70E934E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C1BE-87C9-49F7-B091-1C0F3C3C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75D7-A3A5-42F4-9555-A935EE2B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747-542B-4D42-9186-C50CDDD1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D109-5980-4E09-B3CA-A2D0FE0D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DCF4-FAAA-4297-B192-AFB2BD6C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DD26-68A1-4605-864F-A0CE74FA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DB95-35DB-4ED0-B515-9B69D197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5512-8C23-4D91-964C-6C2A726F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0E48-A478-49EE-8315-2E4F8F9D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B7C-A345-4842-A0AF-5F28FE86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FE18-7145-43EB-9DB1-B60E82EB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C70-05CD-4DF0-82D9-11EEF7C9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6B0-5BFC-404D-B164-D1E5F36E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5388-58CB-4F9A-B70E-68B8296A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C30-39FD-42D5-B07E-6BE9F431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96969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3a3a3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a3a3a3"/>
                </a:gs>
                <a:gs pos="100000">
                  <a:srgbClr val="96969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3a3a3"/>
                </a:gs>
                <a:gs pos="100000">
                  <a:srgbClr val="969696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4AB5-164A-4BEA-93DA-E8599A03D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dc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dc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96969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3a3a3"/>
                </a:gs>
                <a:gs pos="100000">
                  <a:srgbClr val="96969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3a3a3"/>
                </a:gs>
                <a:gs pos="100000">
                  <a:srgbClr val="96969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dc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dc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6517-CDD9-4DCB-9FB6-1F641A713F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Kunstler Script"/>
              </a:rPr>
              <a:t>Михаил Юрьевич Лермонтов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200" y="1628640"/>
            <a:ext cx="4870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urlz MT"/>
              </a:rPr>
              <a:t>«Бородин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Curlz MT"/>
              </a:rPr>
              <a:t>Композици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Curlz MT"/>
              </a:rPr>
              <a:t>особенности повествов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42920" y="6165720"/>
            <a:ext cx="2952720" cy="6922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ОУ СОШ №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изарова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lermontov-1"/>
          <p:cNvPicPr/>
          <p:nvPr/>
        </p:nvPicPr>
        <p:blipFill>
          <a:blip r:embed="rId1"/>
          <a:stretch/>
        </p:blipFill>
        <p:spPr>
          <a:xfrm>
            <a:off x="4716360" y="1052640"/>
            <a:ext cx="4248360" cy="53737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591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5. </a:t>
            </a:r>
            <a:r>
              <a:rPr b="1" lang="ru-RU" sz="2800" spc="-1" strike="noStrike" u="sng">
                <a:solidFill>
                  <a:srgbClr val="0066cc"/>
                </a:solidFill>
                <a:uFillTx/>
                <a:latin typeface="Arial Black"/>
              </a:rPr>
              <a:t>О чём рассказывают 4-5 строфы?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Что происходит накануне сражения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вот нашли большое поле: есть разгуляться где на воле! Построили ре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Рисунок5"/>
          <p:cNvPicPr/>
          <p:nvPr/>
        </p:nvPicPr>
        <p:blipFill>
          <a:blip r:embed="rId1"/>
          <a:stretch/>
        </p:blipFill>
        <p:spPr>
          <a:xfrm>
            <a:off x="1042920" y="1917720"/>
            <a:ext cx="6588360" cy="4940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Рисунок6"/>
          <p:cNvPicPr/>
          <p:nvPr/>
        </p:nvPicPr>
        <p:blipFill>
          <a:blip r:embed="rId2"/>
          <a:stretch/>
        </p:blipFill>
        <p:spPr>
          <a:xfrm>
            <a:off x="1116000" y="1916280"/>
            <a:ext cx="6551640" cy="4914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Documents and Settings\Администратор\Рабочий стол\Таня\Бородино\2.jpg"/>
          <p:cNvPicPr/>
          <p:nvPr/>
        </p:nvPicPr>
        <p:blipFill>
          <a:blip r:embed="rId3"/>
          <a:stretch/>
        </p:blipFill>
        <p:spPr>
          <a:xfrm>
            <a:off x="684360" y="113364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684360" y="5300640"/>
            <a:ext cx="7632720" cy="1557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лдат-артиллерист рассказывает 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ке к сражению, о готовности рус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стоять головою за родину свою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6. </a:t>
            </a:r>
            <a:r>
              <a:rPr b="1" lang="ru-RU" sz="2800" spc="-1" strike="noStrike" u="sng">
                <a:solidFill>
                  <a:srgbClr val="0066cc"/>
                </a:solidFill>
                <a:uFillTx/>
                <a:latin typeface="Arial Black"/>
              </a:rPr>
              <a:t>Как происходило сражение 6-7 строфы?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Как ведут себя русские и французы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ва дня мы были в перестрел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Documents and Settings\Администратор\Рабочий стол\Таня\Бородино\8-1.jpg"/>
          <p:cNvPicPr/>
          <p:nvPr/>
        </p:nvPicPr>
        <p:blipFill>
          <a:blip r:embed="rId1"/>
          <a:stretch/>
        </p:blipFill>
        <p:spPr>
          <a:xfrm>
            <a:off x="684360" y="1214280"/>
            <a:ext cx="7524720" cy="564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Рисунок8"/>
          <p:cNvPicPr/>
          <p:nvPr/>
        </p:nvPicPr>
        <p:blipFill>
          <a:blip r:embed="rId2"/>
          <a:stretch/>
        </p:blipFill>
        <p:spPr>
          <a:xfrm>
            <a:off x="755640" y="1268280"/>
            <a:ext cx="7451640" cy="5589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Рисунок1"/>
          <p:cNvPicPr/>
          <p:nvPr/>
        </p:nvPicPr>
        <p:blipFill>
          <a:blip r:embed="rId3"/>
          <a:stretch/>
        </p:blipFill>
        <p:spPr>
          <a:xfrm>
            <a:off x="684360" y="998640"/>
            <a:ext cx="7812000" cy="5859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Documents and Settings\Администратор\Рабочий стол\Таня\Бородино\7-1.jpg"/>
          <p:cNvPicPr/>
          <p:nvPr/>
        </p:nvPicPr>
        <p:blipFill>
          <a:blip r:embed="rId4"/>
          <a:stretch/>
        </p:blipFill>
        <p:spPr>
          <a:xfrm>
            <a:off x="611280" y="1023840"/>
            <a:ext cx="7777080" cy="5834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вухдневная перестрелка стала подготовкой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третьему, решающему дню боя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Французы, увер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воей победе, ликуют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усские тщательно готовя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нимая, что битва будет смертель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 Black"/>
              </a:rPr>
              <a:t>7. Как начинался решающий третий день битвы?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360" y="476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только небо засветилось, всё шумно вдруг зашевелилось, сверкнул за строем ст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Рисунок2"/>
          <p:cNvPicPr/>
          <p:nvPr/>
        </p:nvPicPr>
        <p:blipFill>
          <a:blip r:embed="rId1"/>
          <a:stretch/>
        </p:blipFill>
        <p:spPr>
          <a:xfrm>
            <a:off x="1116000" y="1455840"/>
            <a:ext cx="7201080" cy="54021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Бородинский бой. Художник В. Шевченко. 1970-е"/>
          <p:cNvPicPr/>
          <p:nvPr/>
        </p:nvPicPr>
        <p:blipFill>
          <a:blip r:embed="rId2"/>
          <a:stretch/>
        </p:blipFill>
        <p:spPr>
          <a:xfrm>
            <a:off x="1116000" y="1341360"/>
            <a:ext cx="712800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8567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8. </a:t>
            </a:r>
            <a:r>
              <a:rPr b="1" lang="ru-RU" sz="2800" spc="-1" strike="noStrike" u="sng">
                <a:solidFill>
                  <a:srgbClr val="0066cc"/>
                </a:solidFill>
                <a:uFillTx/>
                <a:latin typeface="Arial Black"/>
              </a:rPr>
              <a:t>Какими видятся командиры и рядовые солдаты 8-9 строфы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Ребята! не Москва ль за нами? Умрёмте ж под Москвой, как наши братья умирали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Рисунок10"/>
          <p:cNvPicPr/>
          <p:nvPr/>
        </p:nvPicPr>
        <p:blipFill>
          <a:blip r:embed="rId1"/>
          <a:stretch/>
        </p:blipFill>
        <p:spPr>
          <a:xfrm>
            <a:off x="4832280" y="1773360"/>
            <a:ext cx="4311720" cy="5084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безымянный15"/>
          <p:cNvPicPr/>
          <p:nvPr/>
        </p:nvPicPr>
        <p:blipFill>
          <a:blip r:embed="rId2"/>
          <a:stretch/>
        </p:blipFill>
        <p:spPr>
          <a:xfrm>
            <a:off x="324000" y="1963800"/>
            <a:ext cx="8675640" cy="48942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олдаты (простые русские люди) и их команди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дворяне, привилегированный класс)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ратья по оруж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ни едины в своём порыве отдать жизнь за отеч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856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9. </a:t>
            </a:r>
            <a:r>
              <a:rPr b="1" lang="ru-RU" sz="2800" spc="-1" strike="noStrike" u="sng">
                <a:solidFill>
                  <a:srgbClr val="0066cc"/>
                </a:solidFill>
                <a:uFillTx/>
                <a:latin typeface="Arial Black"/>
              </a:rPr>
              <a:t>Сколько строф посвящено описанию решающего боя?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60660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Кульминация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й напряжённый момент пове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Documents and Settings\Администратор\Рабочий стол\Таня\Бородино\5-1.jpg"/>
          <p:cNvPicPr/>
          <p:nvPr/>
        </p:nvPicPr>
        <p:blipFill>
          <a:blip r:embed="rId1"/>
          <a:stretch/>
        </p:blipFill>
        <p:spPr>
          <a:xfrm>
            <a:off x="1187280" y="83664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700360" y="6021360"/>
            <a:ext cx="6264360" cy="836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0-12 строфы кульмин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 Black"/>
              </a:rPr>
              <a:t>10 строфа.</a:t>
            </a:r>
            <a:r>
              <a:rPr b="1" lang="ru-RU" sz="2400" spc="-1" strike="noStrike">
                <a:solidFill>
                  <a:srgbClr val="0066cc"/>
                </a:solidFill>
                <a:latin typeface="Arial Black"/>
              </a:rPr>
              <a:t> Как описаны атакующие французы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852156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у ж был денёк! Сквозь дым летучий французы двинулись, как тучи, и всё на наш ре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564564"/>
          <p:cNvPicPr/>
          <p:nvPr/>
        </p:nvPicPr>
        <p:blipFill>
          <a:blip r:embed="rId1"/>
          <a:stretch/>
        </p:blipFill>
        <p:spPr>
          <a:xfrm>
            <a:off x="1116000" y="1241280"/>
            <a:ext cx="7488360" cy="5616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Documents and Settings\Администратор\Рабочий стол\Таня\Бородино\6-1.jpg"/>
          <p:cNvPicPr/>
          <p:nvPr/>
        </p:nvPicPr>
        <p:blipFill>
          <a:blip r:embed="rId2"/>
          <a:stretch/>
        </p:blipFill>
        <p:spPr>
          <a:xfrm>
            <a:off x="1116000" y="1241280"/>
            <a:ext cx="7488360" cy="56167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971640" y="5157720"/>
            <a:ext cx="7775640" cy="17002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ранцузы двинулись, как туч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е промелькнули перед н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е побывали ту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–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аг очень силён, битва будет смертель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2058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cc"/>
                </a:solidFill>
                <a:uFillTx/>
                <a:latin typeface="Arial Black"/>
              </a:rPr>
              <a:t>11 строфа.</a:t>
            </a: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 Как описана сама битва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280" y="476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ам не видать таких сражени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5" descr="Бородинское сражение. Художник В. Шевченко. 1970-е"/>
          <p:cNvPicPr/>
          <p:nvPr/>
        </p:nvPicPr>
        <p:blipFill>
          <a:blip r:embed="rId1"/>
          <a:stretch/>
        </p:blipFill>
        <p:spPr>
          <a:xfrm>
            <a:off x="755640" y="971640"/>
            <a:ext cx="7848720" cy="58863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4" descr="Эпизод Бородинского сражения. Хромолитография Н. Богатова. 1912"/>
          <p:cNvPicPr/>
          <p:nvPr/>
        </p:nvPicPr>
        <p:blipFill>
          <a:blip r:embed="rId2"/>
          <a:stretch/>
        </p:blipFill>
        <p:spPr>
          <a:xfrm>
            <a:off x="468360" y="566640"/>
            <a:ext cx="8388360" cy="62913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тина жестокого кровавого боя яркая, динамич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яжённая, нарисована одним сложным предложени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оящим из коротких выразительных ча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252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cc"/>
                </a:solidFill>
                <a:uFillTx/>
                <a:latin typeface="Arial Black"/>
              </a:rPr>
              <a:t>12 строфа. </a:t>
            </a: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 Как сражаются русские воины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4762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зведал враг в тот день немало, что значит русский бой удалый, наш рукопашный бой!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Рисунок13"/>
          <p:cNvPicPr/>
          <p:nvPr/>
        </p:nvPicPr>
        <p:blipFill>
          <a:blip r:embed="rId1"/>
          <a:stretch/>
        </p:blipFill>
        <p:spPr>
          <a:xfrm>
            <a:off x="755640" y="1295280"/>
            <a:ext cx="7416720" cy="5562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Рисунок12"/>
          <p:cNvPicPr/>
          <p:nvPr/>
        </p:nvPicPr>
        <p:blipFill>
          <a:blip r:embed="rId2"/>
          <a:stretch/>
        </p:blipFill>
        <p:spPr>
          <a:xfrm>
            <a:off x="684360" y="1239840"/>
            <a:ext cx="7489800" cy="5618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Рисунок11"/>
          <p:cNvPicPr/>
          <p:nvPr/>
        </p:nvPicPr>
        <p:blipFill>
          <a:blip r:embed="rId3"/>
          <a:stretch/>
        </p:blipFill>
        <p:spPr>
          <a:xfrm>
            <a:off x="755640" y="126828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250920" y="5373720"/>
            <a:ext cx="8642160" cy="14842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ой кажется бесконечным,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е солдаты сражаются отчаянно, мужествен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на жизнь, а насмерть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ни настоящие богаты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 Black"/>
              </a:rPr>
              <a:t>10. </a:t>
            </a: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 Black"/>
              </a:rPr>
              <a:t>Как закончилась битва?</a:t>
            </a:r>
            <a:br>
              <a:rPr sz="2400"/>
            </a:br>
            <a:r>
              <a:rPr b="1" lang="ru-RU" sz="2400" spc="-1" strike="noStrike">
                <a:solidFill>
                  <a:srgbClr val="0066cc"/>
                </a:solidFill>
                <a:latin typeface="Arial Black"/>
              </a:rPr>
              <a:t>     Какими чувствами проникнута 13 строфа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87280" y="602136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т смерклось. Были все готовы заутра бой затеять новый и до конца стоя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бородино"/>
          <p:cNvPicPr/>
          <p:nvPr/>
        </p:nvPicPr>
        <p:blipFill>
          <a:blip r:embed="rId1"/>
          <a:stretch/>
        </p:blipFill>
        <p:spPr>
          <a:xfrm>
            <a:off x="611280" y="836640"/>
            <a:ext cx="8064360" cy="52354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0" y="4653000"/>
            <a:ext cx="9144000" cy="2205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е солдаты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готовы до конца стоять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х  мужество заставляет французов отступить, от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еренности в собственной непобедимости не оста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да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раг морально сломлен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держана нравстве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беда. Но за неё пришлось заплатить высокую ц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11. </a:t>
            </a:r>
            <a:r>
              <a:rPr b="1" lang="ru-RU" sz="2800" spc="-1" strike="noStrike" u="sng">
                <a:solidFill>
                  <a:srgbClr val="0066cc"/>
                </a:solidFill>
                <a:uFillTx/>
                <a:latin typeface="Arial Black"/>
              </a:rPr>
              <a:t>Как заканчивает свой рассказ старый солдат  14 строфа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15640" y="836640"/>
            <a:ext cx="8785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, были люди в наше время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огучее, лихое племя: богатыри – не 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Рисунок3"/>
          <p:cNvPicPr/>
          <p:nvPr/>
        </p:nvPicPr>
        <p:blipFill>
          <a:blip r:embed="rId1"/>
          <a:stretch/>
        </p:blipFill>
        <p:spPr>
          <a:xfrm>
            <a:off x="1403280" y="161928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468360" y="4653000"/>
            <a:ext cx="8280360" cy="2205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каз солдата-артиллериста Лермо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вершает строфой, похожей на 2 строф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на проникнута гордостью за русских люд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они названы могучими, лихими богатырям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за свою страну, оставшуюся непобежденной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851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 Black"/>
              </a:rPr>
              <a:t>Историческая справка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1992240"/>
            <a:ext cx="9144000" cy="4865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0" y="549360"/>
            <a:ext cx="9144000" cy="60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12 июня 1812 года огромная наполеоновская армия, перейдя р. Березину вторглась в Росс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ва месяца отступали русские войска. Пал Смоленс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26 августа под д.Бородино в 124 км. к западу от Москвы произошло генеральное сражение Отечественной войны 181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Французы не были побеждены, но их армия, обескровленная битвой, потрясённая мужеством русских, потерпела моральное по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усские войска, также понесли огромные потери и вынуждены были сдать Моск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кидая столицу, москвичи предпочли поджечь город, чем оставить его врагу. Началась жестокая партизанская война с вра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имой 1812 года Наполеон бежал из Москвы 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Герой, служащий Отечеству, никогда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не умирает и оживает в потомстве,» – 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   </a:t>
            </a: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генерал Я.П. Кульнев, герой войны 1812г.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6" name="Picture 4" descr="art_smol_1812"/>
          <p:cNvPicPr/>
          <p:nvPr/>
        </p:nvPicPr>
        <p:blipFill>
          <a:blip r:embed="rId1"/>
          <a:stretch/>
        </p:blipFill>
        <p:spPr>
          <a:xfrm>
            <a:off x="2124000" y="1547640"/>
            <a:ext cx="5473800" cy="53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3851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 Black"/>
              </a:rPr>
              <a:t>Домашнее задание.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497800" cy="583272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Составить цитатный 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ихотворения с опорой на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озиц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Выучить стихотвор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.Ю. Лермонтова «Бородин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800" spc="-1" strike="noStrike">
                <a:solidFill>
                  <a:srgbClr val="0066cc"/>
                </a:solidFill>
                <a:latin typeface="Arial"/>
              </a:rPr>
              <a:t>Письменно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Как солдат-артиллер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казывает о своём личном участии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родинской битве? Какие местои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отребляет? Сделайте выв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Выучить определения: </a:t>
            </a:r>
            <a:r>
              <a:rPr b="1" i="1" lang="ru-RU" sz="2800" spc="-1" strike="noStrike">
                <a:solidFill>
                  <a:srgbClr val="0066cc"/>
                </a:solidFill>
                <a:latin typeface="Arial"/>
              </a:rPr>
              <a:t>балла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66cc"/>
                </a:solidFill>
                <a:latin typeface="Arial"/>
              </a:rPr>
              <a:t>строфа, кульмин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920" y="259920"/>
            <a:ext cx="896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 Black"/>
              </a:rPr>
              <a:t>История создания стихотворения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58672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1837 г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в журнале «Современник» было напечатано стихотворение «Бородино», первая публикация за подписью самого поэ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тихотворение посвящено Бородинскому сражению и написано в год 25-ой годовщины этой бит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жанру произведение напоминает 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балладу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овествует о легендарном историческом событ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лерм"/>
          <p:cNvPicPr/>
          <p:nvPr/>
        </p:nvPicPr>
        <p:blipFill>
          <a:blip r:embed="rId1"/>
          <a:stretch/>
        </p:blipFill>
        <p:spPr>
          <a:xfrm>
            <a:off x="5748480" y="765000"/>
            <a:ext cx="3395520" cy="39610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007120" cy="568800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комство с содержанием стихотво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комство особенностями повеств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комство с композицией стихотвор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cc"/>
                </a:solidFill>
                <a:uFillTx/>
                <a:latin typeface="Arial"/>
              </a:rPr>
              <a:t>Строф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о объединённые одной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икротемо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несколько строчек стихотворения, отделённых друг от друга пробелом. </a:t>
            </a:r>
            <a:r>
              <a:rPr b="1" i="1" lang="ru-RU" sz="2800" spc="-1" strike="noStrike">
                <a:solidFill>
                  <a:srgbClr val="0066cc"/>
                </a:solidFill>
                <a:latin typeface="Arial"/>
              </a:rPr>
              <a:t>Сколько строф в стихотворении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14 стро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8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Arial Black"/>
              </a:rPr>
              <a:t>Цели урока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3851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cc"/>
                </a:solidFill>
                <a:latin typeface="Arial Black"/>
              </a:rPr>
              <a:t>Словарная работа.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78544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едут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полевое укреп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Лафет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станок, на котором укрепляется ствол пуш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артечь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небольшие артиллерийские снаряды для стрельбы на близком расстоя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Бивак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– стоянка войск под открытым неб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ивер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– высокий головной убор вое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ождён был хватом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– смелым, отважным, мужественн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ражён булатом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то есть булатным (стальным) оружием, са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920" y="115560"/>
            <a:ext cx="88203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еч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– битва, сраж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Уланы, драгуны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кавалеристы, конные войска. Пёстрые значки и острые хвосты на киверах были отличительным знаком этих войс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Бусурманы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здесь: вра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" descr="Бородинский бой. Художник В. Шевченко. 1970-е"/>
          <p:cNvPicPr/>
          <p:nvPr/>
        </p:nvPicPr>
        <p:blipFill>
          <a:blip r:embed="rId1"/>
          <a:stretch/>
        </p:blipFill>
        <p:spPr>
          <a:xfrm>
            <a:off x="0" y="2924280"/>
            <a:ext cx="9144000" cy="37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 Black"/>
              </a:rPr>
              <a:t>1. </a:t>
            </a: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 Black"/>
              </a:rPr>
              <a:t>В какой форме написан зачин (1-2 строфы)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кажи-ка, дядя, ведь не даром Москва, спалённая пожаром, французу отдана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, были люди в наше время,   не то, что нынешнее племя:   Богатыри – не в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Documents and Settings\Администратор\Рабочий стол\Таня\Бородино\1.jpg"/>
          <p:cNvPicPr/>
          <p:nvPr/>
        </p:nvPicPr>
        <p:blipFill>
          <a:blip r:embed="rId1"/>
          <a:stretch/>
        </p:blipFill>
        <p:spPr>
          <a:xfrm>
            <a:off x="1476360" y="134136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179280" y="4005360"/>
            <a:ext cx="8640720" cy="2852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еред нами –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диалог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ывалого солда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стника Бородинской битвы и молодого челове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орому горько осознавать, что Москва все 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ла отдана французам и сожжена. Спраши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 Бородинском сражении, он хочет узн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ем же знаменателен этот ден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 котором «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е даром помнит вся Россия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cc"/>
                </a:solidFill>
                <a:uFillTx/>
                <a:latin typeface="Arial Black"/>
              </a:rPr>
              <a:t>2. Что представляет собой 3 строфа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 долго молча отступали, досадно было, боя ждали, ворчали стар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3" descr="Герои Бородинской битвы. Художник В. Шевченко. 1970-е"/>
          <p:cNvPicPr/>
          <p:nvPr/>
        </p:nvPicPr>
        <p:blipFill>
          <a:blip r:embed="rId1"/>
          <a:stretch/>
        </p:blipFill>
        <p:spPr>
          <a:xfrm>
            <a:off x="1116000" y="1457280"/>
            <a:ext cx="7201080" cy="54007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0" y="4149720"/>
            <a:ext cx="9144000" cy="27082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 строфа рассказывает о двух месяц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адного отступления в ожидании решающего бо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переход к основной части –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монологу-воспоминани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казу бывалого воина о битве.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Такая форма дел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стихотворение правдивым и эмоциона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3. </a:t>
            </a:r>
            <a:r>
              <a:rPr b="1" lang="ru-RU" sz="2800" spc="-1" strike="noStrike" u="sng">
                <a:solidFill>
                  <a:srgbClr val="0066cc"/>
                </a:solidFill>
                <a:uFillTx/>
                <a:latin typeface="Arial Black"/>
              </a:rPr>
              <a:t>Сколько строф в основной части, рассказывающей о Бородинской битве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5" descr="Рисунок9"/>
          <p:cNvPicPr/>
          <p:nvPr/>
        </p:nvPicPr>
        <p:blipFill>
          <a:blip r:embed="rId1"/>
          <a:stretch/>
        </p:blipFill>
        <p:spPr>
          <a:xfrm>
            <a:off x="1258920" y="981000"/>
            <a:ext cx="5599080" cy="5877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115400" y="5589720"/>
            <a:ext cx="1791720" cy="520560"/>
          </a:xfrm>
          <a:prstGeom prst="rect">
            <a:avLst/>
          </a:prstGeom>
          <a:solidFill>
            <a:srgbClr val="99ff99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10 стро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7:59:42Z</dcterms:created>
  <dc:creator>XTreme</dc:creator>
  <dc:description/>
  <dc:language>en-US</dc:language>
  <cp:lastModifiedBy>ЖЕНЯ</cp:lastModifiedBy>
  <dcterms:modified xsi:type="dcterms:W3CDTF">2015-01-30T10:25:26Z</dcterms:modified>
  <cp:revision>24</cp:revision>
  <dc:subject/>
  <dc:title>Михаил Юрьевич Лермонтов</dc:title>
</cp:coreProperties>
</file>