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C57-FD9A-4A3F-9635-F74B297F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244-ED06-464F-86CE-074142ED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6AA-6383-4FEE-9615-B99CD0EF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AE1-C5DF-4FD4-BE7D-4E349E06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CA4F-AC18-46C6-91B7-22FE51DE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6D78-AEA8-4E57-9A83-B8A696F3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868D-132E-45C6-B6D6-43BDC26F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40CF-BEC6-4A1A-BCF5-BEE52544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2A60-ED64-4DBF-94BB-46312FF1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0FA4-8F63-4E3B-A9D9-E6D4E195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0861-99C3-48A0-998B-2380B8D1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25E1-CEF2-4DF3-9428-BFBE9B5B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558A-EE3B-4E5A-9AD1-DAB6C383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ED92-324F-4D87-BB92-157A746B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C0CF-35FF-4589-B6BD-57B62A23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FEA3-244F-4896-BED4-D48816B0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BE1D-42EE-4DF3-9DB9-294AC5F6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E62-D9D1-448B-B979-CFFD3D7A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B7B-5323-4967-860E-6397D381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D1F-1FF7-404F-BEA6-46710D04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AB0-2254-41E8-A357-EA8C1F33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3B3-3DEB-4577-B17A-9F0E725D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ABE-D6BF-4230-83F7-051E1423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93B-093C-4FF9-8468-1D820223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96969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3a3a3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a3a3a3"/>
                </a:gs>
                <a:gs pos="100000">
                  <a:srgbClr val="96969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3a3a3"/>
                </a:gs>
                <a:gs pos="100000">
                  <a:srgbClr val="969696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7ED5-5BFA-41B3-BD17-AE8A2357B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dc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dc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96969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3a3a3"/>
                </a:gs>
                <a:gs pos="100000">
                  <a:srgbClr val="96969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3a3a3"/>
                </a:gs>
                <a:gs pos="100000">
                  <a:srgbClr val="96969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dc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dc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41A8-7E60-4669-9834-3528A17BB2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Kunstler Script"/>
              </a:rPr>
              <a:t>Михаил Юрьевич Лермонтов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200" y="1628640"/>
            <a:ext cx="4870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urlz MT"/>
              </a:rPr>
              <a:t>«Бородин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Curlz MT"/>
              </a:rPr>
              <a:t>Композиц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Curlz MT"/>
              </a:rPr>
              <a:t>особенности повествов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42920" y="6165720"/>
            <a:ext cx="2952720" cy="692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У СОШ №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изарова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lermontov-1"/>
          <p:cNvPicPr/>
          <p:nvPr/>
        </p:nvPicPr>
        <p:blipFill>
          <a:blip r:embed="rId1"/>
          <a:stretch/>
        </p:blipFill>
        <p:spPr>
          <a:xfrm>
            <a:off x="4716360" y="1052640"/>
            <a:ext cx="4248360" cy="53737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91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5. </a:t>
            </a: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О чём рассказывают 4-5 строфы?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Что происходит накануне сражения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вот нашли большое поле: есть разгуляться где на воле! Построили ре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Рисунок5"/>
          <p:cNvPicPr/>
          <p:nvPr/>
        </p:nvPicPr>
        <p:blipFill>
          <a:blip r:embed="rId1"/>
          <a:stretch/>
        </p:blipFill>
        <p:spPr>
          <a:xfrm>
            <a:off x="1042920" y="1917720"/>
            <a:ext cx="6588360" cy="4940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Рисунок6"/>
          <p:cNvPicPr/>
          <p:nvPr/>
        </p:nvPicPr>
        <p:blipFill>
          <a:blip r:embed="rId2"/>
          <a:stretch/>
        </p:blipFill>
        <p:spPr>
          <a:xfrm>
            <a:off x="1116000" y="1916280"/>
            <a:ext cx="6551640" cy="4914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Documents and Settings\Администратор\Рабочий стол\Таня\Бородино\2.jpg"/>
          <p:cNvPicPr/>
          <p:nvPr/>
        </p:nvPicPr>
        <p:blipFill>
          <a:blip r:embed="rId3"/>
          <a:stretch/>
        </p:blipFill>
        <p:spPr>
          <a:xfrm>
            <a:off x="684360" y="113364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684360" y="5300640"/>
            <a:ext cx="7632720" cy="1557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дат-артиллерист рассказывает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е к сражению, о готовности рус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стоять головою за родину свою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6. </a:t>
            </a: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Как происходило сражение 6-7 строфы?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Как ведут себя русские и французы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ва дня мы были в перестрел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Администратор\Рабочий стол\Таня\Бородино\8-1.jpg"/>
          <p:cNvPicPr/>
          <p:nvPr/>
        </p:nvPicPr>
        <p:blipFill>
          <a:blip r:embed="rId1"/>
          <a:stretch/>
        </p:blipFill>
        <p:spPr>
          <a:xfrm>
            <a:off x="684360" y="1214280"/>
            <a:ext cx="7524720" cy="564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Рисунок8"/>
          <p:cNvPicPr/>
          <p:nvPr/>
        </p:nvPicPr>
        <p:blipFill>
          <a:blip r:embed="rId2"/>
          <a:stretch/>
        </p:blipFill>
        <p:spPr>
          <a:xfrm>
            <a:off x="755640" y="1268280"/>
            <a:ext cx="7451640" cy="5589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Рисунок1"/>
          <p:cNvPicPr/>
          <p:nvPr/>
        </p:nvPicPr>
        <p:blipFill>
          <a:blip r:embed="rId3"/>
          <a:stretch/>
        </p:blipFill>
        <p:spPr>
          <a:xfrm>
            <a:off x="684360" y="998640"/>
            <a:ext cx="7812000" cy="5859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Documents and Settings\Администратор\Рабочий стол\Таня\Бородино\7-1.jpg"/>
          <p:cNvPicPr/>
          <p:nvPr/>
        </p:nvPicPr>
        <p:blipFill>
          <a:blip r:embed="rId4"/>
          <a:stretch/>
        </p:blipFill>
        <p:spPr>
          <a:xfrm>
            <a:off x="611280" y="1023840"/>
            <a:ext cx="7777080" cy="5834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вухдневная перестрелка стала подготовкой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третьему, решающему дню боя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Французы, увер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воей победе, ликуют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усские тщательно готовя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нимая, что битва будет смертель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 Black"/>
              </a:rPr>
              <a:t>7. Как начинался решающий третий день битвы?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360" y="476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только небо засветилось, всё шумно вдруг зашевелилось, сверкнул за строем ст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Рисунок2"/>
          <p:cNvPicPr/>
          <p:nvPr/>
        </p:nvPicPr>
        <p:blipFill>
          <a:blip r:embed="rId1"/>
          <a:stretch/>
        </p:blipFill>
        <p:spPr>
          <a:xfrm>
            <a:off x="1116000" y="1455840"/>
            <a:ext cx="7201080" cy="54021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Бородинский бой. Художник В. Шевченко. 1970-е"/>
          <p:cNvPicPr/>
          <p:nvPr/>
        </p:nvPicPr>
        <p:blipFill>
          <a:blip r:embed="rId2"/>
          <a:stretch/>
        </p:blipFill>
        <p:spPr>
          <a:xfrm>
            <a:off x="1116000" y="1341360"/>
            <a:ext cx="712800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567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8. </a:t>
            </a: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Какими видятся командиры и рядовые солдаты 8-9 строфы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Ребята! не Москва ль за нами? Умрёмте ж под Москвой, как наши братья умирали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Рисунок10"/>
          <p:cNvPicPr/>
          <p:nvPr/>
        </p:nvPicPr>
        <p:blipFill>
          <a:blip r:embed="rId1"/>
          <a:stretch/>
        </p:blipFill>
        <p:spPr>
          <a:xfrm>
            <a:off x="4832280" y="1773360"/>
            <a:ext cx="4311720" cy="5084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безымянный15"/>
          <p:cNvPicPr/>
          <p:nvPr/>
        </p:nvPicPr>
        <p:blipFill>
          <a:blip r:embed="rId2"/>
          <a:stretch/>
        </p:blipFill>
        <p:spPr>
          <a:xfrm>
            <a:off x="324000" y="1963800"/>
            <a:ext cx="8675640" cy="48942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олдаты (простые русские люди) и их команди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дворяне, привилегированный класс)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ратья по оруж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и едины в своём порыве отдать жизнь за отеч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85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9. </a:t>
            </a: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Сколько строф посвящено описанию решающего боя?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6066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Кульминация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й напряжённый момент пов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Администратор\Рабочий стол\Таня\Бородино\5-1.jpg"/>
          <p:cNvPicPr/>
          <p:nvPr/>
        </p:nvPicPr>
        <p:blipFill>
          <a:blip r:embed="rId1"/>
          <a:stretch/>
        </p:blipFill>
        <p:spPr>
          <a:xfrm>
            <a:off x="1187280" y="83664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00360" y="6021360"/>
            <a:ext cx="6264360" cy="836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-12 строфы кульмин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 Black"/>
              </a:rPr>
              <a:t>10 строфа.</a:t>
            </a:r>
            <a:r>
              <a:rPr b="1" lang="ru-RU" sz="2400" spc="-1" strike="noStrike">
                <a:solidFill>
                  <a:srgbClr val="0066cc"/>
                </a:solidFill>
                <a:latin typeface="Arial Black"/>
              </a:rPr>
              <a:t> Как описаны атакующие французы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52156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у ж был денёк! Сквозь дым летучий французы двинулись, как тучи, и всё на наш ре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564564"/>
          <p:cNvPicPr/>
          <p:nvPr/>
        </p:nvPicPr>
        <p:blipFill>
          <a:blip r:embed="rId1"/>
          <a:stretch/>
        </p:blipFill>
        <p:spPr>
          <a:xfrm>
            <a:off x="1116000" y="1241280"/>
            <a:ext cx="7488360" cy="5616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Администратор\Рабочий стол\Таня\Бородино\6-1.jpg"/>
          <p:cNvPicPr/>
          <p:nvPr/>
        </p:nvPicPr>
        <p:blipFill>
          <a:blip r:embed="rId2"/>
          <a:stretch/>
        </p:blipFill>
        <p:spPr>
          <a:xfrm>
            <a:off x="1116000" y="1241280"/>
            <a:ext cx="7488360" cy="56167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971640" y="5157720"/>
            <a:ext cx="7775640" cy="1700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нцузы двинулись, как туч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 промелькнули перед н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 побывали ту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аг очень силён, битва будет смертель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058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11 строфа.</a:t>
            </a: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 Как описана сама битва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476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ам не видать таких сражен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5" descr="Бородинское сражение. Художник В. Шевченко. 1970-е"/>
          <p:cNvPicPr/>
          <p:nvPr/>
        </p:nvPicPr>
        <p:blipFill>
          <a:blip r:embed="rId1"/>
          <a:stretch/>
        </p:blipFill>
        <p:spPr>
          <a:xfrm>
            <a:off x="755640" y="971640"/>
            <a:ext cx="7848720" cy="58863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4" descr="Эпизод Бородинского сражения. Хромолитография Н. Богатова. 1912"/>
          <p:cNvPicPr/>
          <p:nvPr/>
        </p:nvPicPr>
        <p:blipFill>
          <a:blip r:embed="rId2"/>
          <a:stretch/>
        </p:blipFill>
        <p:spPr>
          <a:xfrm>
            <a:off x="468360" y="566640"/>
            <a:ext cx="8388360" cy="62913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тина жестокого кровавого боя яркая, динамич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яжённая, нарисована одним сложным предложени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оящим из коротких выразительных ча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52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12 строфа. </a:t>
            </a: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 Как сражаются русские воины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4762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зведал враг в тот день немало, что значит русский бой удалый, наш рукопашный бой!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Рисунок13"/>
          <p:cNvPicPr/>
          <p:nvPr/>
        </p:nvPicPr>
        <p:blipFill>
          <a:blip r:embed="rId1"/>
          <a:stretch/>
        </p:blipFill>
        <p:spPr>
          <a:xfrm>
            <a:off x="755640" y="1295280"/>
            <a:ext cx="7416720" cy="5562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Рисунок12"/>
          <p:cNvPicPr/>
          <p:nvPr/>
        </p:nvPicPr>
        <p:blipFill>
          <a:blip r:embed="rId2"/>
          <a:stretch/>
        </p:blipFill>
        <p:spPr>
          <a:xfrm>
            <a:off x="684360" y="1239840"/>
            <a:ext cx="7489800" cy="5618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Рисунок11"/>
          <p:cNvPicPr/>
          <p:nvPr/>
        </p:nvPicPr>
        <p:blipFill>
          <a:blip r:embed="rId3"/>
          <a:stretch/>
        </p:blipFill>
        <p:spPr>
          <a:xfrm>
            <a:off x="755640" y="126828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250920" y="5373720"/>
            <a:ext cx="8642160" cy="1484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ой кажется бесконечным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е солдаты сражаются отчаянно, мужествен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а жизнь, а насмерть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и настоящие богаты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 Black"/>
              </a:rPr>
              <a:t>10. </a:t>
            </a: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 Black"/>
              </a:rPr>
              <a:t>Как закончилась битва?</a:t>
            </a:r>
            <a:br>
              <a:rPr sz="2400"/>
            </a:br>
            <a:r>
              <a:rPr b="1" lang="ru-RU" sz="2400" spc="-1" strike="noStrike">
                <a:solidFill>
                  <a:srgbClr val="0066cc"/>
                </a:solidFill>
                <a:latin typeface="Arial Black"/>
              </a:rPr>
              <a:t>     Какими чувствами проникнута 13 строфа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7280" y="602136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т смерклось. Были все готовы заутра бой затеять новый и до конца стоя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бородино"/>
          <p:cNvPicPr/>
          <p:nvPr/>
        </p:nvPicPr>
        <p:blipFill>
          <a:blip r:embed="rId1"/>
          <a:stretch/>
        </p:blipFill>
        <p:spPr>
          <a:xfrm>
            <a:off x="611280" y="836640"/>
            <a:ext cx="8064360" cy="52354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е солдаты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готовы до конца стоять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  мужество заставляет французов отступить, от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ренности в собственной непобедимости не ост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раг морально сломлен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держана нравстве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беда. Но за неё пришлось заплатить высокую ц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11. </a:t>
            </a: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Как заканчивает свой рассказ старый солдат  14 строфа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15640" y="836640"/>
            <a:ext cx="8785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, были люди в наше время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огучее, лихое племя: богатыри – не 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Рисунок3"/>
          <p:cNvPicPr/>
          <p:nvPr/>
        </p:nvPicPr>
        <p:blipFill>
          <a:blip r:embed="rId1"/>
          <a:stretch/>
        </p:blipFill>
        <p:spPr>
          <a:xfrm>
            <a:off x="1403280" y="161928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468360" y="4653000"/>
            <a:ext cx="8280360" cy="2205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каз солдата-артиллериста Лермо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вершает строфой, похожей на 2 строф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а проникнута гордостью за русских люд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они названы могучими, лихими богатырям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за свою страну, оставшуюся непобежденной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851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 Black"/>
              </a:rPr>
              <a:t>Историческая справка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1992240"/>
            <a:ext cx="9144000" cy="4865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0" y="549360"/>
            <a:ext cx="9144000" cy="60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2 июня 1812 года огромная наполеоновская армия, перейдя р. Березину вторглась в Росс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ва месяца отступали русские войска. Пал Смоленс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26 августа под д.Бородино в 124 км. к западу от Москвы произошло генеральное сражение Отечественной войны 181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Французы не были побеждены, но их армия, обескровленная битвой, потрясённая мужеством русских, потерпела моральное по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усские войска, также понесли огромные потери и вынуждены были сдать Моск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кидая столицу, москвичи предпочли поджечь город, чем оставить его врагу. Началась жестокая партизанская война с вра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имой 1812 года Наполеон бежал из Москвы 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Герой, служащий Отечеству, никогда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не умирает и оживает в потомстве,» –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генерал Я.П. Кульнев, герой войны 1812г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6" name="Picture 4" descr="art_smol_1812"/>
          <p:cNvPicPr/>
          <p:nvPr/>
        </p:nvPicPr>
        <p:blipFill>
          <a:blip r:embed="rId1"/>
          <a:stretch/>
        </p:blipFill>
        <p:spPr>
          <a:xfrm>
            <a:off x="2124000" y="1547640"/>
            <a:ext cx="5473800" cy="53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385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 Black"/>
              </a:rPr>
              <a:t>Домашнее задание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497800" cy="58327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Составить цитатный 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ихотворения с опорой на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озиц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Выучить стихотвор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Ю. Лермонтова «Бороди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800" spc="-1" strike="noStrike">
                <a:solidFill>
                  <a:srgbClr val="0066cc"/>
                </a:solidFill>
                <a:latin typeface="Arial"/>
              </a:rPr>
              <a:t>Письменно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Как солдат-артиллер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казывает о своём личном участии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родинской битве? Какие местои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отребляет? Сделайте выв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Выучить определения: </a:t>
            </a:r>
            <a:r>
              <a:rPr b="1" i="1" lang="ru-RU" sz="2800" spc="-1" strike="noStrike">
                <a:solidFill>
                  <a:srgbClr val="0066cc"/>
                </a:solidFill>
                <a:latin typeface="Arial"/>
              </a:rPr>
              <a:t>балла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66cc"/>
                </a:solidFill>
                <a:latin typeface="Arial"/>
              </a:rPr>
              <a:t>строфа, кульмин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920" y="259920"/>
            <a:ext cx="896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 Black"/>
              </a:rPr>
              <a:t>История создания стихотворения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58672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1837 г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 журнале «Современник» было напечатано стихотворение «Бородино», первая публикация за подписью сам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тихотворение посвящено Бородинскому сражению и написано в год 25-ой годовщины этой бит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жанру произведение напоминает 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балладу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овествует о легендарном историческом событ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лерм"/>
          <p:cNvPicPr/>
          <p:nvPr/>
        </p:nvPicPr>
        <p:blipFill>
          <a:blip r:embed="rId1"/>
          <a:stretch/>
        </p:blipFill>
        <p:spPr>
          <a:xfrm>
            <a:off x="5748480" y="765000"/>
            <a:ext cx="3395520" cy="39610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007120" cy="568800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комство с содержанием стихотво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комство особенностями повеств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комство с композицией стихотвор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"/>
              </a:rPr>
              <a:t>Строф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о объединённые одной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икротемо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несколько строчек стихотворения, отделённых друг от друга пробелом. </a:t>
            </a:r>
            <a:r>
              <a:rPr b="1" i="1" lang="ru-RU" sz="2800" spc="-1" strike="noStrike">
                <a:solidFill>
                  <a:srgbClr val="0066cc"/>
                </a:solidFill>
                <a:latin typeface="Arial"/>
              </a:rPr>
              <a:t>Сколько строф в стихотворении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14 стро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Arial Black"/>
              </a:rPr>
              <a:t>Цели урока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851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 Black"/>
              </a:rPr>
              <a:t>Словарная работа.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785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едут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полевое укреп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афет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станок, на котором укрепляется ствол пуш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артечь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небольшие артиллерийские снаряды для стрельбы на близком расстоя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Бивак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– стоянка войск под открытым неб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ивер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– высокий головной убор вое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ождён был хватом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– смелым, отважным, мужествен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ражён булато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то есть булатным (стальным) оружием, са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920" y="115560"/>
            <a:ext cx="8820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еч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– битва, сраж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ланы, драгун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кавалеристы, конные войска. Пёстрые значки и острые хвосты на киверах были отличительным знаком этих войс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Бусурман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здесь: вр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" descr="Бородинский бой. Художник В. Шевченко. 1970-е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37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 Black"/>
              </a:rPr>
              <a:t>1. </a:t>
            </a: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 Black"/>
              </a:rPr>
              <a:t>В какой форме написан зачин (1-2 строфы)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ажи-ка, дядя, ведь не даром Москва, спалённая пожаром, французу отдана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, были люди в наше время,   не то, что нынешнее племя:   Богатыри – не в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Администратор\Рабочий стол\Таня\Бородино\1.jpg"/>
          <p:cNvPicPr/>
          <p:nvPr/>
        </p:nvPicPr>
        <p:blipFill>
          <a:blip r:embed="rId1"/>
          <a:stretch/>
        </p:blipFill>
        <p:spPr>
          <a:xfrm>
            <a:off x="1476360" y="134136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179280" y="4005360"/>
            <a:ext cx="8640720" cy="2852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еред нами –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диало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ывалого солда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ника Бородинской битвы и молодого челове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ому горько осознавать, что Москва все 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а отдана французам и сожжена. Спраши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Бородинском сражении, он хочет узн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ем же знаменателен этот ден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 котором «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е даром помнит вся Россия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2. Что представляет собой 3 строфа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 долго молча отступали, досадно было, боя ждали, ворчали стар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3" descr="Герои Бородинской битвы. Художник В. Шевченко. 1970-е"/>
          <p:cNvPicPr/>
          <p:nvPr/>
        </p:nvPicPr>
        <p:blipFill>
          <a:blip r:embed="rId1"/>
          <a:stretch/>
        </p:blipFill>
        <p:spPr>
          <a:xfrm>
            <a:off x="1116000" y="145728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0" y="4149720"/>
            <a:ext cx="9144000" cy="2708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 строфа рассказывает о двух месяц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адного отступления в ожидании решающего б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переход к основной части –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монологу-воспоминани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казу бывалого воина о битве.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Такая форма дел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стихотворение правдивым и эмоцион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3. </a:t>
            </a:r>
            <a:r>
              <a:rPr b="1" lang="ru-RU" sz="2800" spc="-1" strike="noStrike" u="sng">
                <a:solidFill>
                  <a:srgbClr val="0066cc"/>
                </a:solidFill>
                <a:uFillTx/>
                <a:latin typeface="Arial Black"/>
              </a:rPr>
              <a:t>Сколько строф в основной части, рассказывающей о Бородинской битве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5" descr="Рисунок9"/>
          <p:cNvPicPr/>
          <p:nvPr/>
        </p:nvPicPr>
        <p:blipFill>
          <a:blip r:embed="rId1"/>
          <a:stretch/>
        </p:blipFill>
        <p:spPr>
          <a:xfrm>
            <a:off x="1258920" y="981000"/>
            <a:ext cx="5599080" cy="5877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115400" y="5589720"/>
            <a:ext cx="1791720" cy="520560"/>
          </a:xfrm>
          <a:prstGeom prst="rect">
            <a:avLst/>
          </a:prstGeom>
          <a:solidFill>
            <a:srgbClr val="99ff99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10 стро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7:59:42Z</dcterms:created>
  <dc:creator>XTreme</dc:creator>
  <dc:description/>
  <dc:language>en-US</dc:language>
  <cp:lastModifiedBy>ЖЕНЯ</cp:lastModifiedBy>
  <dcterms:modified xsi:type="dcterms:W3CDTF">2015-01-30T10:25:26Z</dcterms:modified>
  <cp:revision>24</cp:revision>
  <dc:subject/>
  <dc:title>Михаил Юрьевич Лермонтов</dc:title>
</cp:coreProperties>
</file>