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A84F0-A113-4280-B272-86A7B3BE3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96658-6CE6-4F2A-8CF0-89718D86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5253F-1F76-4241-B33D-2E764E4DF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08C4D-08D6-49A2-8086-91FF2D5A1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EC3F6-CF86-4FA3-806F-36FB0FA22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3B26B-0957-418B-A61B-0B53E2CF9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0FF7D-CB53-40C1-B7B5-113F24CD4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B6244-CDCF-4E96-9BD7-88C91A59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80238-557F-40A5-847D-B8E9F5526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4A47F-181B-4295-8238-8E57E98EE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AD43F-0171-4E8A-AFF2-6B3D8691B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5E3D-D481-4244-9975-F39956A95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71A42-20E8-4C31-BCD2-6073796B1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E2761-928F-41F1-A6EE-FF771FB34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F2972-3D95-40CC-B6B7-316CA8370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BD513-1A6A-4D60-AD73-938F3475F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B1BFD-F074-4693-A556-DFA980624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58493-6E46-4406-84A9-689F0EBB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98FCA-F394-4A9B-BFB5-A637A906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C1EAD-5BFD-4F66-8A05-385A0E48D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31B4-D6F1-44EC-8BD3-6228B580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30AD-F492-48CE-A5CC-359AC373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C606-8005-49B4-AEF7-8A83FA93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39F7-4B22-4688-B3C2-9B34BF2D4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5D9F-88AE-400F-A0B3-55B12AFE763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F3CA-50C6-40E7-8C1B-04769708334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ru.wikipedia.org/wiki/&#1052;&#1072;&#1083;&#1077;"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Arial"/>
              </a:rPr>
              <a:t>Мальдивы</a:t>
            </a:r>
            <a:endParaRPr b="0" lang="en-US" sz="5400" spc="-1" strike="noStrike">
              <a:solidFill>
                <a:srgbClr val="ccecff"/>
              </a:solidFill>
              <a:latin typeface="Arial"/>
            </a:endParaRPr>
          </a:p>
        </p:txBody>
      </p:sp>
      <p:sp>
        <p:nvSpPr>
          <p:cNvPr id="157" name="PlaceHolder 2"/>
          <p:cNvSpPr>
            <a:spLocks noGrp="1"/>
          </p:cNvSpPr>
          <p:nvPr>
            <p:ph type="subTitle"/>
          </p:nvPr>
        </p:nvSpPr>
        <p:spPr>
          <a:xfrm>
            <a:off x="3780000" y="4797000"/>
            <a:ext cx="5184720" cy="18716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езентацию подготовила:</a:t>
            </a:r>
            <a:endParaRPr b="0" lang="en-US" sz="2000" spc="-1" strike="noStrike">
              <a:solidFill>
                <a:srgbClr val="ffffff"/>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читель географии Рашевская М.Н. ГБОУ СОШ № 892 г. Москв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Климат</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Verdana"/>
              </a:rPr>
              <a:t>Теплый и влажный: температура воздуха - около +30°С, воды - около +26° С, кратковременные дожди идут в основном по ночам.</a:t>
            </a:r>
            <a:br>
              <a:rPr sz="2400"/>
            </a:br>
            <a:r>
              <a:rPr b="0" i="1" lang="ru-RU" sz="2400" spc="-1" strike="noStrike">
                <a:solidFill>
                  <a:srgbClr val="ffffff"/>
                </a:solidFill>
                <a:latin typeface="Verdana"/>
              </a:rPr>
              <a:t>Из-за близкого расположения к экватору сезонные изменения, связанные с муссонами, незначительны. </a:t>
            </a:r>
            <a:br>
              <a:rPr sz="2400"/>
            </a:br>
            <a:r>
              <a:rPr b="0" i="1" lang="ru-RU" sz="2400" spc="-1" strike="noStrike">
                <a:solidFill>
                  <a:srgbClr val="ffffff"/>
                </a:solidFill>
                <a:latin typeface="Verdana"/>
              </a:rPr>
              <a:t>Во время юго-западного муссона  чаще идут дожди, и погода более ветренная; сезон северо-восточного муссона  считается менее влажным сезоном.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Географическое положение</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Verdana"/>
              </a:rPr>
              <a:t>Мальдивский архипелаг находится в Индийском океане в 685 км на запад от Шри-Ланки и пересекает линию экватора. Общая площадь - 90 тыс.км², протяженность с севера на юг - 820 км, с востока на запад - 120 км.</a:t>
            </a:r>
            <a:br>
              <a:rPr sz="2400"/>
            </a:br>
            <a:r>
              <a:rPr b="0" i="1" lang="ru-RU" sz="2400" spc="-1" strike="noStrike">
                <a:solidFill>
                  <a:srgbClr val="ffffff"/>
                </a:solidFill>
                <a:latin typeface="Verdana"/>
              </a:rPr>
              <a:t>Из 1190 островов, объединенных в 26 атоллов, только 200 обитаемы, и около 100 островов являются туристическими курортами. </a:t>
            </a:r>
            <a:br>
              <a:rPr sz="2400"/>
            </a:br>
            <a:r>
              <a:rPr b="0" i="1" lang="ru-RU" sz="2400" spc="-1" strike="noStrike">
                <a:solidFill>
                  <a:srgbClr val="ffffff"/>
                </a:solidFill>
                <a:latin typeface="Verdana"/>
              </a:rPr>
              <a:t>Столица Мальдивской республики - </a:t>
            </a:r>
            <a:r>
              <a:rPr b="1" i="1" lang="ru-RU" sz="2400" spc="-1" strike="noStrike">
                <a:solidFill>
                  <a:srgbClr val="ffffff"/>
                </a:solidFill>
                <a:latin typeface="Verdana"/>
              </a:rPr>
              <a:t>Мале</a:t>
            </a:r>
            <a:r>
              <a:rPr b="0" i="1"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Население </a:t>
            </a:r>
            <a:endParaRPr b="0" lang="en-US" sz="4400" spc="-1" strike="noStrike">
              <a:solidFill>
                <a:srgbClr val="ccecff"/>
              </a:solidFill>
              <a:latin typeface="Arial"/>
            </a:endParaRPr>
          </a:p>
        </p:txBody>
      </p:sp>
      <p:sp>
        <p:nvSpPr>
          <p:cNvPr id="163" name="PlaceHolder 2"/>
          <p:cNvSpPr>
            <a:spLocks noGrp="1"/>
          </p:cNvSpPr>
          <p:nvPr>
            <p:ph/>
          </p:nvPr>
        </p:nvSpPr>
        <p:spPr>
          <a:xfrm>
            <a:off x="539280" y="1628280"/>
            <a:ext cx="8280360" cy="49690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Численность населения — 393 тыс. Самая большая концентрация — в </a:t>
            </a:r>
            <a:r>
              <a:rPr b="0" lang="ru-RU" sz="2400" spc="-1" strike="noStrike" u="sng">
                <a:solidFill>
                  <a:srgbClr val="ffffcc"/>
                </a:solidFill>
                <a:uFillTx/>
                <a:latin typeface="Verdana"/>
                <a:hlinkClick r:id="rId1"/>
              </a:rPr>
              <a:t>Мале</a:t>
            </a:r>
            <a:r>
              <a:rPr b="0" lang="ru-RU" sz="2400" spc="-1" strike="noStrike">
                <a:solidFill>
                  <a:srgbClr val="ffffff"/>
                </a:solidFill>
                <a:latin typeface="Verdana"/>
              </a:rPr>
              <a:t>. Многие из островов Мальдив необитаемы.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одавляющее большинство населения — потомки выходцев из Южной Азии и Ближнего Востока.В столице проживает некоторое количество индийцев, пакистанцев, арабов и сингалов.</a:t>
            </a:r>
            <a:endParaRPr b="0" lang="en-US" sz="24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Экономика</a:t>
            </a:r>
            <a:endParaRPr b="0" lang="en-US" sz="4400" spc="-1" strike="noStrike">
              <a:solidFill>
                <a:srgbClr val="ccecff"/>
              </a:solidFill>
              <a:latin typeface="Arial"/>
            </a:endParaRPr>
          </a:p>
        </p:txBody>
      </p:sp>
      <p:sp>
        <p:nvSpPr>
          <p:cNvPr id="16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новные сферы экономики — обслуживание туристов  и рыболовство.</a:t>
            </a: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pic>
        <p:nvPicPr>
          <p:cNvPr id="166" name="Picture 7" descr="Maldivyi-ekonomika-turisticheskogo-kraya"/>
          <p:cNvPicPr/>
          <p:nvPr/>
        </p:nvPicPr>
        <p:blipFill>
          <a:blip r:embed="rId1"/>
          <a:stretch/>
        </p:blipFill>
        <p:spPr>
          <a:xfrm>
            <a:off x="179280" y="177336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Живой мир</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 Мальдивах очень богатый живой мир.На Мальдивах нет опасных животных или ядовитых рептилий. Также нет собак, потому что их содержание запрещено. Из домашних животных можно увидеть кошек, хотя их не так уж много, и птицу. На некоторых островах встречаются козы — их разводят на мясо. Свиней нет, а коровы немногочисленны из-за скудности пастбищ. Фруктовых летучих мышей, или летающих лисиц, можно увидеть обычно на закате. Также на островах имеются черепахи, множество червей и моллюсков.</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map_of_Maldives_5"/>
          <p:cNvPicPr/>
          <p:nvPr/>
        </p:nvPicPr>
        <p:blipFill>
          <a:blip r:embed="rId1"/>
          <a:stretch/>
        </p:blipFill>
        <p:spPr>
          <a:xfrm>
            <a:off x="0" y="189000"/>
            <a:ext cx="9144000" cy="625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171" name="Picture 7" descr="Maldives"/>
          <p:cNvPicPr/>
          <p:nvPr/>
        </p:nvPicPr>
        <p:blipFill>
          <a:blip r:embed="rId1"/>
          <a:stretch/>
        </p:blipFill>
        <p:spPr>
          <a:xfrm>
            <a:off x="3635280" y="3414600"/>
            <a:ext cx="5508720" cy="3443400"/>
          </a:xfrm>
          <a:prstGeom prst="rect">
            <a:avLst/>
          </a:prstGeom>
          <a:ln w="0">
            <a:noFill/>
          </a:ln>
        </p:spPr>
      </p:pic>
      <p:pic>
        <p:nvPicPr>
          <p:cNvPr id="172" name="Picture 8" descr="004"/>
          <p:cNvPicPr/>
          <p:nvPr/>
        </p:nvPicPr>
        <p:blipFill>
          <a:blip r:embed="rId2"/>
          <a:stretch/>
        </p:blipFill>
        <p:spPr>
          <a:xfrm>
            <a:off x="0" y="0"/>
            <a:ext cx="5435640" cy="3397320"/>
          </a:xfrm>
          <a:prstGeom prst="rect">
            <a:avLst/>
          </a:prstGeom>
          <a:ln w="0">
            <a:noFill/>
          </a:ln>
        </p:spPr>
      </p:pic>
      <p:sp>
        <p:nvSpPr>
          <p:cNvPr id="173" name="Rectangle 9"/>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p:txBody>
      </p:sp>
      <p:pic>
        <p:nvPicPr>
          <p:cNvPr id="174" name="Picture 10" descr="27450"/>
          <p:cNvPicPr/>
          <p:nvPr/>
        </p:nvPicPr>
        <p:blipFill>
          <a:blip r:embed="rId3"/>
          <a:stretch/>
        </p:blipFill>
        <p:spPr>
          <a:xfrm>
            <a:off x="4229280" y="0"/>
            <a:ext cx="4914720" cy="3686040"/>
          </a:xfrm>
          <a:prstGeom prst="rect">
            <a:avLst/>
          </a:prstGeom>
          <a:ln w="0">
            <a:noFill/>
          </a:ln>
        </p:spPr>
      </p:pic>
      <p:pic>
        <p:nvPicPr>
          <p:cNvPr id="175" name="Picture 11" descr="10293146"/>
          <p:cNvPicPr/>
          <p:nvPr/>
        </p:nvPicPr>
        <p:blipFill>
          <a:blip r:embed="rId4"/>
          <a:stretch/>
        </p:blipFill>
        <p:spPr>
          <a:xfrm>
            <a:off x="0" y="3235320"/>
            <a:ext cx="5796000" cy="362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15:32:04Z</dcterms:created>
  <dc:creator>Elena</dc:creator>
  <dc:description/>
  <dc:language>en-US</dc:language>
  <cp:lastModifiedBy>Галина Михайловна</cp:lastModifiedBy>
  <dcterms:modified xsi:type="dcterms:W3CDTF">2015-01-30T09:25:33Z</dcterms:modified>
  <cp:revision>3</cp:revision>
  <dc:subject/>
  <dc:title>Слайд 1</dc:title>
</cp:coreProperties>
</file>