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7.png" ContentType="image/png"/>
  <Override PartName="/ppt/media/image4.gif" ContentType="image/gi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A7C60-BFB7-418A-A7DE-39BAE86DB2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96C96-1828-4C89-A469-1DBCAE7900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48391-6DA8-41B4-8969-7B23841F31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A9860-99BD-466D-A998-76162B6A2C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598BE-6847-4AF0-B777-C25A9858F2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44F6-8420-4C53-8885-7CA3058D2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A582-9AC3-4282-8D91-120087C1F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B44C-3DAE-498C-88A3-048D5A7E2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74FC-9BAA-4204-8B50-EE9B787BD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51C1-86F9-4349-AEA4-21C56FD10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D13C-1DB5-4961-A061-420EA7A1B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7E8B-2FBB-4CFA-B4D7-F14663FA7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99C6-27EB-4A43-ACE4-06F2C09DF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608E-1574-47A7-A68A-C05F296D8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DC1E-C0E8-4FF7-97C5-72FE4BE70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F3BC-676C-4F41-89E7-F4D9491BF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43AF-216E-4EC8-9901-3CCEB9490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574F1-5DC3-44B7-AAB3-45D7B94E9F8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&#1089;&#1083;2.wav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&#1089;&#1083;2.wav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hyperlink" Target="file:///tmp/home/.config/libreoffice/4/user/gallery/&#1089;&#1083;%209.wav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hyperlink" Target="file:///tmp/home/.config/libreoffice/4/user/gallery/&#1089;&#1083;%209.wav" TargetMode="External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64000" y="4716360"/>
            <a:ext cx="51087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Arial"/>
              </a:rPr>
              <a:t>Урок математики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Arial"/>
              </a:rPr>
              <a:t>Учитель: Терехова Татьяна                               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Arial"/>
              </a:rPr>
              <a:t>ГБОУ СОШ № 28 В.О. СПб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31640" y="684360"/>
            <a:ext cx="9217080" cy="3308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хождение неизвестного 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агаемого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4427640"/>
            <a:ext cx="1943280" cy="17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92000" y="324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016000" y="53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368360" y="14032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519280" y="1763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1800360" y="2771640"/>
            <a:ext cx="952200" cy="142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03280" y="3924360"/>
            <a:ext cx="504720" cy="647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08000" y="4572000"/>
            <a:ext cx="309564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03640" y="4572000"/>
            <a:ext cx="865080" cy="576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968720" y="4568400"/>
            <a:ext cx="792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88000" y="4572000"/>
            <a:ext cx="316872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856720" y="3992040"/>
            <a:ext cx="576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0360" y="4788000"/>
            <a:ext cx="949320" cy="1425600"/>
            <a:chOff x="360360" y="4788000"/>
            <a:chExt cx="949320" cy="1425600"/>
          </a:xfrm>
        </p:grpSpPr>
        <p:pic>
          <p:nvPicPr>
            <p:cNvPr id="152" name="" descr=""/>
            <p:cNvPicPr/>
            <p:nvPr/>
          </p:nvPicPr>
          <p:blipFill>
            <a:blip r:embed="rId7"/>
            <a:stretch/>
          </p:blipFill>
          <p:spPr>
            <a:xfrm>
              <a:off x="360360" y="4788000"/>
              <a:ext cx="949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60360" y="4788000"/>
              <a:ext cx="94932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1511280" y="565164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2592360" y="4716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3816360" y="579600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5111640" y="521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6335640" y="5724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7416720" y="4716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5977080" y="1619280"/>
            <a:ext cx="20890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V="1" rot="10800000">
            <a:off x="1434960" y="1544040"/>
            <a:ext cx="59119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5 + 2 =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9640" y="3782880"/>
            <a:ext cx="7389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7 – 5 =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31640" y="219564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333cc"/>
                </a:solidFill>
                <a:latin typeface="Arial"/>
              </a:rPr>
              <a:t>Если из суммы вычесть одно слагаемое, то получим другое слагаемо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456000" y="611280"/>
            <a:ext cx="25574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76360" y="826920"/>
            <a:ext cx="108108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24360" y="0"/>
            <a:ext cx="1800" cy="7308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04000" y="2771640"/>
            <a:ext cx="1224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8720" y="2771640"/>
            <a:ext cx="108108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0" y="826920"/>
            <a:ext cx="108108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360" y="2771640"/>
            <a:ext cx="1152360" cy="10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5640" y="4643280"/>
            <a:ext cx="122580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16000" y="4643280"/>
            <a:ext cx="237672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5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640" y="4643280"/>
            <a:ext cx="115272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871640" y="2771640"/>
            <a:ext cx="2448000" cy="1100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2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11640" y="2771640"/>
            <a:ext cx="122580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11640" y="4643280"/>
            <a:ext cx="1038240" cy="1055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704000" y="464328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111640" y="900000"/>
            <a:ext cx="1224000" cy="102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8720" y="826920"/>
            <a:ext cx="1152720" cy="10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704000" y="755640"/>
            <a:ext cx="1224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00360" y="826920"/>
            <a:ext cx="1079280" cy="109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111640" y="2771640"/>
            <a:ext cx="1150920" cy="113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3280" y="826920"/>
            <a:ext cx="108108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24360" y="0"/>
            <a:ext cx="1800" cy="7308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32720" y="2771640"/>
            <a:ext cx="1224000" cy="113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8720" y="2771640"/>
            <a:ext cx="108108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168720" y="826920"/>
            <a:ext cx="1224000" cy="115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360" y="2771640"/>
            <a:ext cx="115236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64360" y="4932360"/>
            <a:ext cx="1225440" cy="1152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 rot="5400000">
            <a:off x="6390000" y="3008880"/>
            <a:ext cx="11224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00360" y="2843280"/>
            <a:ext cx="2592360" cy="1100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2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87640" y="4932360"/>
            <a:ext cx="237636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5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00360" y="826920"/>
            <a:ext cx="1079280" cy="109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3280" y="4932360"/>
            <a:ext cx="1152360" cy="1152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11640" y="5003640"/>
            <a:ext cx="1038240" cy="1055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561440" y="4932360"/>
            <a:ext cx="122364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 rot="5400000">
            <a:off x="6374160" y="5112360"/>
            <a:ext cx="10494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 rot="5400000">
            <a:off x="391680" y="2962080"/>
            <a:ext cx="1049400" cy="66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 rot="5400000">
            <a:off x="571320" y="1053720"/>
            <a:ext cx="1049400" cy="595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111640" y="900000"/>
            <a:ext cx="1224000" cy="102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+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704000" y="826920"/>
            <a:ext cx="1224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8720" y="826920"/>
            <a:ext cx="1152720" cy="10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 rot="5400000">
            <a:off x="6401160" y="981720"/>
            <a:ext cx="1049400" cy="739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 rot="5400000">
            <a:off x="534600" y="5122800"/>
            <a:ext cx="1049400" cy="66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31640" y="219564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333cc"/>
                </a:solidFill>
                <a:latin typeface="Arial"/>
              </a:rPr>
              <a:t>Если из суммы вычесть одно слагаемое, то получим другое слагаемо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0" y="611280"/>
            <a:ext cx="25574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68360" y="1835280"/>
            <a:ext cx="6551640" cy="39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295280" y="826920"/>
            <a:ext cx="144000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0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63920" y="390600"/>
            <a:ext cx="536580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Arial"/>
                <a:ea typeface="Arial"/>
              </a:rPr>
              <a:t>На забор влетел петух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Arial"/>
                <a:ea typeface="Arial"/>
              </a:rPr>
              <a:t>Повстречал ещё там дву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Arial"/>
                <a:ea typeface="Arial"/>
              </a:rPr>
              <a:t>Сколько стало петухов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6600"/>
                </a:solidFill>
                <a:latin typeface="Arial"/>
                <a:ea typeface="Arial"/>
              </a:rPr>
              <a:t>У кого ответ готов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84360" y="4356000"/>
            <a:ext cx="6189480" cy="2822760"/>
            <a:chOff x="1584360" y="4356000"/>
            <a:chExt cx="6189480" cy="282276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5227560" y="4654440"/>
              <a:ext cx="254628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584360" y="4356000"/>
              <a:ext cx="2546280" cy="252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393840"/>
            <a:ext cx="3584520" cy="29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3040" y="6851520"/>
            <a:ext cx="335160" cy="3351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6"/>
          </p:cNvPr>
          <p:cNvSpPr/>
          <p:nvPr/>
        </p:nvSpPr>
        <p:spPr>
          <a:xfrm>
            <a:off x="198360" y="6727680"/>
            <a:ext cx="676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284560" y="4410000"/>
            <a:ext cx="6294240" cy="2822760"/>
            <a:chOff x="2284560" y="4410000"/>
            <a:chExt cx="6294240" cy="28227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989680" y="4708440"/>
              <a:ext cx="258912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284560" y="4410000"/>
              <a:ext cx="2589120" cy="252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393840"/>
            <a:ext cx="3584520" cy="2912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73040" y="6851520"/>
            <a:ext cx="335160" cy="33516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6"/>
          </p:cNvPr>
          <p:cNvSpPr/>
          <p:nvPr/>
        </p:nvSpPr>
        <p:spPr>
          <a:xfrm>
            <a:off x="198360" y="6727680"/>
            <a:ext cx="676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96000" y="1116000"/>
            <a:ext cx="3240000" cy="186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+2=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16240" y="755640"/>
            <a:ext cx="1036800" cy="1176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68360" y="587520"/>
            <a:ext cx="1035360" cy="1176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858000" y="2016000"/>
            <a:ext cx="1108080" cy="126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292720" y="1847880"/>
            <a:ext cx="1117440" cy="1270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rcRect l="15947" t="0" r="11592" b="8625"/>
          <a:stretch/>
        </p:blipFill>
        <p:spPr>
          <a:xfrm>
            <a:off x="0" y="3444840"/>
            <a:ext cx="420048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03520" y="-54000"/>
            <a:ext cx="8434080" cy="3625920"/>
          </a:xfrm>
          <a:prstGeom prst="pi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08480" y="1722600"/>
            <a:ext cx="2772000" cy="322200"/>
          </a:xfrm>
          <a:prstGeom prst="pi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39720" y="503280"/>
            <a:ext cx="4061160" cy="434880"/>
          </a:xfrm>
          <a:prstGeom prst="pie">
            <a:avLst/>
          </a:prstGeom>
          <a:solidFill>
            <a:srgbClr val="8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620000">
            <a:off x="6846840" y="213840"/>
            <a:ext cx="950760" cy="86832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3360000">
            <a:off x="1388880" y="-41040"/>
            <a:ext cx="952560" cy="86652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69200" y="1847880"/>
            <a:ext cx="950760" cy="86832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980000">
            <a:off x="5143320" y="1368000"/>
            <a:ext cx="447480" cy="61596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587520"/>
            <a:ext cx="952560" cy="868320"/>
          </a:xfrm>
          <a:prstGeom prst="pie">
            <a:avLst/>
          </a:prstGeom>
          <a:solidFill>
            <a:srgbClr val="008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0840" y="3695760"/>
            <a:ext cx="43675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spcBef>
                <a:spcPts val="1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пелых груши      На веточке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качалос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Дв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уши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сня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авлуша, А сколько груш осталось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0720" y="5219640"/>
            <a:ext cx="453564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spcBef>
                <a:spcPts val="49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900" spc="-1" strike="noStrike">
                <a:solidFill>
                  <a:srgbClr val="008000"/>
                </a:solidFill>
                <a:latin typeface="Arial"/>
              </a:rPr>
              <a:t>4 </a:t>
            </a:r>
            <a:r>
              <a:rPr b="1" lang="ru-RU" sz="79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1" lang="ru-RU" sz="7900" spc="-1" strike="noStrike">
                <a:solidFill>
                  <a:srgbClr val="008000"/>
                </a:solidFill>
                <a:latin typeface="Arial"/>
              </a:rPr>
              <a:t> 2 = </a:t>
            </a:r>
            <a:r>
              <a:rPr b="1" lang="ru-RU" sz="79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9618840" y="7097760"/>
            <a:ext cx="336240" cy="3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fill="hold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1.11111 -6 L 4.44444 -6 L 0.02361 0.38888 E">
                                      <p:cBhvr>
                                        <p:cTn id="1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 -6 L 2.22222 -6 L 0.01528 0.71111 E">
                                      <p:cBhvr>
                                        <p:cTn id="1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48400" y="4573440"/>
            <a:ext cx="3333960" cy="2779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9760" y="279720"/>
            <a:ext cx="432036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Три цыпленка стоят 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На скорлупки глядя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Три  яичка в гнезде 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У наседки лежат.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Сосчитай поверней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Отвечай поскорей: 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Сколько будет цыплят 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У наседки моей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65920" y="922320"/>
            <a:ext cx="2695680" cy="3597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rcRect l="9058" t="2816" r="10905" b="2872"/>
          <a:stretch/>
        </p:blipFill>
        <p:spPr>
          <a:xfrm>
            <a:off x="1338120" y="401652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98840" y="5670720"/>
            <a:ext cx="1827000" cy="1411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rcRect l="9058" t="2816" r="10905" b="2872"/>
          <a:stretch/>
        </p:blipFill>
        <p:spPr>
          <a:xfrm>
            <a:off x="314280" y="559116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236520" y="7008840"/>
            <a:ext cx="335160" cy="3348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8"/>
          </p:cNvPr>
          <p:cNvSpPr/>
          <p:nvPr/>
        </p:nvSpPr>
        <p:spPr>
          <a:xfrm>
            <a:off x="198360" y="6945480"/>
            <a:ext cx="39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548400" y="4573440"/>
            <a:ext cx="3333960" cy="277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65920" y="922320"/>
            <a:ext cx="2695680" cy="3597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9058" t="2816" r="10905" b="2872"/>
          <a:stretch/>
        </p:blipFill>
        <p:spPr>
          <a:xfrm>
            <a:off x="1338120" y="401652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98840" y="5670720"/>
            <a:ext cx="1827000" cy="141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rcRect l="9058" t="2816" r="10905" b="2872"/>
          <a:stretch/>
        </p:blipFill>
        <p:spPr>
          <a:xfrm>
            <a:off x="314280" y="559116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36520" y="7008840"/>
            <a:ext cx="335160" cy="33480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8"/>
          </p:cNvPr>
          <p:cNvSpPr/>
          <p:nvPr/>
        </p:nvSpPr>
        <p:spPr>
          <a:xfrm>
            <a:off x="198360" y="6945480"/>
            <a:ext cx="39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40000" y="826920"/>
            <a:ext cx="3743280" cy="2352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3+3=6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76360" y="1187280"/>
            <a:ext cx="4176720" cy="165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+2=3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6360" y="5219640"/>
            <a:ext cx="4321080" cy="4056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-2=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96000" y="2916360"/>
            <a:ext cx="4176720" cy="1861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+3=6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92000" y="324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016000" y="53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68360" y="14032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19280" y="1763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800360" y="2771640"/>
            <a:ext cx="95220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3280" y="3924360"/>
            <a:ext cx="504720" cy="647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08000" y="4572000"/>
            <a:ext cx="309564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03640" y="4572000"/>
            <a:ext cx="865080" cy="576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968720" y="4568400"/>
            <a:ext cx="792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8000" y="4572000"/>
            <a:ext cx="316872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856720" y="3992040"/>
            <a:ext cx="576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60360" y="4788000"/>
            <a:ext cx="949320" cy="1425600"/>
            <a:chOff x="360360" y="4788000"/>
            <a:chExt cx="949320" cy="142560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360360" y="4788000"/>
              <a:ext cx="949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60360" y="4788000"/>
              <a:ext cx="94932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1511280" y="565164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2592360" y="4716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3816360" y="579600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5111640" y="521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6335640" y="5724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7416720" y="471636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5904000" y="1332000"/>
            <a:ext cx="23050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92000" y="32400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016000" y="539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368360" y="14032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519280" y="1763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800360" y="2771640"/>
            <a:ext cx="952200" cy="142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3280" y="3924360"/>
            <a:ext cx="504720" cy="647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4572000"/>
            <a:ext cx="309564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03640" y="4572000"/>
            <a:ext cx="865080" cy="576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968720" y="4568400"/>
            <a:ext cx="792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88000" y="4572000"/>
            <a:ext cx="316872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856720" y="3992040"/>
            <a:ext cx="576360" cy="582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5688000" y="190800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7128000" y="1979640"/>
            <a:ext cx="95220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376360" y="5435640"/>
            <a:ext cx="51120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5 + 2 =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59:18Z</dcterms:created>
  <dc:creator/>
  <dc:description/>
  <dc:language>en-US</dc:language>
  <cp:lastModifiedBy>КарМаН</cp:lastModifiedBy>
  <dcterms:modified xsi:type="dcterms:W3CDTF">2011-04-22T10:36:03Z</dcterms:modified>
  <cp:revision>26</cp:revision>
  <dc:subject/>
  <dc:title>Слайд 1</dc:title>
</cp:coreProperties>
</file>