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DE60-CB74-4BC5-BDB5-5E5AE84AF8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78DFC-3695-402E-B5CE-8AE758A90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6E5BD-A679-40CE-AB0F-3B9AEA03F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F7EF0-FA2A-4744-9FDF-3AC9D41D8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DEE7-0ED2-444A-B57B-1FF5FBC7A7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C708-52C6-4BD1-9DC3-D07430737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0348-FF74-4E0C-BF80-DAF6484E4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C64-1859-44A5-9E35-C447714FB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9C62-3168-415A-A15D-EA6B66E27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34AC-B511-492D-A8D4-9FC0D79098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5A8F-37AB-454B-977A-1623CDA26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4577-6615-4B21-B477-275D56146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7B0E-1240-434F-90C0-5CF6ECC03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B52F-2616-4F17-ACFE-D657CFF1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39D8-A663-4D7B-AF8B-DE89C28CA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1CB9-9017-47FE-96E1-97B323DAB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2240-CEE5-4B5E-9EA5-EEF302FF0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BE6B4-DB7E-4E54-9AD5-D9D15B10071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&#1089;&#1083;2.wa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&#1089;&#1083;2.wav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&#1089;&#1083;%209.wav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&#1089;&#1083;%209.wav" TargetMode="External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64000" y="4716360"/>
            <a:ext cx="5108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Урок математики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Учитель: Терехова Татьяна                               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ГБОУ СОШ № 28 В.О. СПб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1640" y="684360"/>
            <a:ext cx="9217080" cy="3308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хождение неизвестного 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агаемого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4427640"/>
            <a:ext cx="1943280" cy="17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0360" y="4788000"/>
            <a:ext cx="949320" cy="1425600"/>
            <a:chOff x="360360" y="4788000"/>
            <a:chExt cx="949320" cy="1425600"/>
          </a:xfrm>
        </p:grpSpPr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>
              <a:off x="360360" y="4788000"/>
              <a:ext cx="949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0360" y="4788000"/>
              <a:ext cx="9493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511280" y="565164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259236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816360" y="5796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5111640" y="521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6335640" y="5724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741672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5977080" y="1619280"/>
            <a:ext cx="20890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V="1" rot="10800000">
            <a:off x="1434960" y="1544040"/>
            <a:ext cx="59119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5 + 2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782880"/>
            <a:ext cx="7389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7 – 5 =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31640" y="219564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Если из суммы вычесть одно слагаемое, то получим другое слагаемо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56000" y="611280"/>
            <a:ext cx="2557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6360" y="82692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24360" y="0"/>
            <a:ext cx="1800" cy="7308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04000" y="277164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8720" y="277164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0" y="826920"/>
            <a:ext cx="108108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360" y="2771640"/>
            <a:ext cx="115236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5640" y="4643280"/>
            <a:ext cx="122580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16000" y="4643280"/>
            <a:ext cx="237672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5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640" y="4643280"/>
            <a:ext cx="115272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71640" y="2771640"/>
            <a:ext cx="2448000" cy="110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11640" y="2771640"/>
            <a:ext cx="12258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11640" y="4643280"/>
            <a:ext cx="1038240" cy="105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704000" y="464328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11640" y="900000"/>
            <a:ext cx="122400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8720" y="826920"/>
            <a:ext cx="115272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04000" y="75564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00360" y="826920"/>
            <a:ext cx="1079280" cy="109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11640" y="2771640"/>
            <a:ext cx="1150920" cy="113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3280" y="82692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4360" y="0"/>
            <a:ext cx="1800" cy="7308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32720" y="2771640"/>
            <a:ext cx="1224000" cy="113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8720" y="2771640"/>
            <a:ext cx="108108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68720" y="826920"/>
            <a:ext cx="1224000" cy="115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360" y="2771640"/>
            <a:ext cx="115236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64360" y="4932360"/>
            <a:ext cx="1225440" cy="115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6390000" y="3008880"/>
            <a:ext cx="11224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00360" y="2843280"/>
            <a:ext cx="2592360" cy="110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87640" y="4932360"/>
            <a:ext cx="237636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5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00360" y="826920"/>
            <a:ext cx="1079280" cy="109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3280" y="4932360"/>
            <a:ext cx="1152360" cy="115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11640" y="5003640"/>
            <a:ext cx="1038240" cy="105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61440" y="4932360"/>
            <a:ext cx="122364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 rot="5400000">
            <a:off x="6374160" y="5112360"/>
            <a:ext cx="10494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 rot="5400000">
            <a:off x="391680" y="2962080"/>
            <a:ext cx="104940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5400000">
            <a:off x="571320" y="1053720"/>
            <a:ext cx="1049400" cy="595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111640" y="900000"/>
            <a:ext cx="122400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704000" y="82692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8720" y="826920"/>
            <a:ext cx="115272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 rot="5400000">
            <a:off x="6401160" y="981720"/>
            <a:ext cx="104940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 rot="5400000">
            <a:off x="534600" y="5122800"/>
            <a:ext cx="104940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31640" y="219564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Если из суммы вычесть одно слагаемое, то получим другое слагаемо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0" y="611280"/>
            <a:ext cx="2557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68360" y="1835280"/>
            <a:ext cx="6551640" cy="39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295280" y="826920"/>
            <a:ext cx="144000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63920" y="390600"/>
            <a:ext cx="536580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На забор влетел петух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Повстречал ещё там дву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Сколько стало петухов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У кого ответ готов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84360" y="4356000"/>
            <a:ext cx="6189480" cy="2822760"/>
            <a:chOff x="1584360" y="4356000"/>
            <a:chExt cx="6189480" cy="282276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227560" y="4654440"/>
              <a:ext cx="254628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84360" y="4356000"/>
              <a:ext cx="2546280" cy="252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93840"/>
            <a:ext cx="3584520" cy="29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3040" y="685152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6"/>
          </p:cNvPr>
          <p:cNvSpPr/>
          <p:nvPr/>
        </p:nvSpPr>
        <p:spPr>
          <a:xfrm>
            <a:off x="198360" y="6727680"/>
            <a:ext cx="676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4560" y="4410000"/>
            <a:ext cx="6294240" cy="2822760"/>
            <a:chOff x="2284560" y="4410000"/>
            <a:chExt cx="6294240" cy="2822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989680" y="4708440"/>
              <a:ext cx="25891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284560" y="4410000"/>
              <a:ext cx="2589120" cy="252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93840"/>
            <a:ext cx="3584520" cy="2912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73040" y="685152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6"/>
          </p:cNvPr>
          <p:cNvSpPr/>
          <p:nvPr/>
        </p:nvSpPr>
        <p:spPr>
          <a:xfrm>
            <a:off x="198360" y="6727680"/>
            <a:ext cx="676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96000" y="1116000"/>
            <a:ext cx="3240000" cy="186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+2=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16240" y="755640"/>
            <a:ext cx="1036800" cy="1176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68360" y="587520"/>
            <a:ext cx="1035360" cy="117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58000" y="2016000"/>
            <a:ext cx="1108080" cy="12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92720" y="1847880"/>
            <a:ext cx="1117440" cy="127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rcRect l="15947" t="0" r="11592" b="8625"/>
          <a:stretch/>
        </p:blipFill>
        <p:spPr>
          <a:xfrm>
            <a:off x="0" y="3444840"/>
            <a:ext cx="42004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03520" y="-54000"/>
            <a:ext cx="8434080" cy="362592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08480" y="1722600"/>
            <a:ext cx="2772000" cy="32220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39720" y="503280"/>
            <a:ext cx="4061160" cy="43488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620000">
            <a:off x="6846840" y="213840"/>
            <a:ext cx="9507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3360000">
            <a:off x="1388880" y="-41040"/>
            <a:ext cx="952560" cy="8665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69200" y="1847880"/>
            <a:ext cx="9507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980000">
            <a:off x="5143320" y="1368000"/>
            <a:ext cx="447480" cy="61596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587520"/>
            <a:ext cx="9525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0840" y="3695760"/>
            <a:ext cx="43675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пелых груши      На веточке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качало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Дв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ши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сня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авлуша, А сколько груш осталос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0720" y="5219640"/>
            <a:ext cx="4535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4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900" spc="-1" strike="noStrike">
                <a:solidFill>
                  <a:srgbClr val="008000"/>
                </a:solidFill>
                <a:latin typeface="Arial"/>
              </a:rPr>
              <a:t>4 </a:t>
            </a:r>
            <a:r>
              <a:rPr b="1" lang="ru-RU" sz="79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7900" spc="-1" strike="noStrike">
                <a:solidFill>
                  <a:srgbClr val="008000"/>
                </a:solidFill>
                <a:latin typeface="Arial"/>
              </a:rPr>
              <a:t> 2 = </a:t>
            </a:r>
            <a:r>
              <a:rPr b="1" lang="ru-RU" sz="79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9618840" y="7097760"/>
            <a:ext cx="336240" cy="3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fill="hold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11111 -6 L 4.44444 -6 L 0.02361 0.38888 E">
                                      <p:cBhvr>
                                        <p:cTn id="1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2.22222 -6 L 0.01528 0.71111 E">
                                      <p:cBhvr>
                                        <p:cTn id="1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48400" y="4573440"/>
            <a:ext cx="3333960" cy="277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9760" y="279720"/>
            <a:ext cx="432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Три цыпленка стоят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На скорлупки глядя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Три  яичка в гнезде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У наседки лежат.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Сосчитай поверней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Отвечай поскорей: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Сколько будет цыплят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У наседки мое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65920" y="922320"/>
            <a:ext cx="2695680" cy="3597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9058" t="2816" r="10905" b="2872"/>
          <a:stretch/>
        </p:blipFill>
        <p:spPr>
          <a:xfrm>
            <a:off x="1338120" y="401652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98840" y="5670720"/>
            <a:ext cx="1827000" cy="141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rcRect l="9058" t="2816" r="10905" b="2872"/>
          <a:stretch/>
        </p:blipFill>
        <p:spPr>
          <a:xfrm>
            <a:off x="314280" y="559116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236520" y="7008840"/>
            <a:ext cx="335160" cy="3348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8"/>
          </p:cNvPr>
          <p:cNvSpPr/>
          <p:nvPr/>
        </p:nvSpPr>
        <p:spPr>
          <a:xfrm>
            <a:off x="198360" y="6945480"/>
            <a:ext cx="39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48400" y="4573440"/>
            <a:ext cx="3333960" cy="277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65920" y="922320"/>
            <a:ext cx="2695680" cy="3597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9058" t="2816" r="10905" b="2872"/>
          <a:stretch/>
        </p:blipFill>
        <p:spPr>
          <a:xfrm>
            <a:off x="1338120" y="401652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98840" y="5670720"/>
            <a:ext cx="1827000" cy="141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9058" t="2816" r="10905" b="2872"/>
          <a:stretch/>
        </p:blipFill>
        <p:spPr>
          <a:xfrm>
            <a:off x="314280" y="559116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36520" y="7008840"/>
            <a:ext cx="335160" cy="3348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8"/>
          </p:cNvPr>
          <p:cNvSpPr/>
          <p:nvPr/>
        </p:nvSpPr>
        <p:spPr>
          <a:xfrm>
            <a:off x="198360" y="6945480"/>
            <a:ext cx="39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0000" y="826920"/>
            <a:ext cx="3743280" cy="2352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3+3=6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76360" y="1187280"/>
            <a:ext cx="417672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+2=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6360" y="5219640"/>
            <a:ext cx="4321080" cy="4056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-2=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96000" y="2916360"/>
            <a:ext cx="4176720" cy="186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+3=6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60360" y="4788000"/>
            <a:ext cx="949320" cy="1425600"/>
            <a:chOff x="360360" y="4788000"/>
            <a:chExt cx="949320" cy="142560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360360" y="4788000"/>
              <a:ext cx="949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60360" y="4788000"/>
              <a:ext cx="9493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511280" y="565164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259236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816360" y="5796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5111640" y="521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6335640" y="5724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741672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5904000" y="1332000"/>
            <a:ext cx="2305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688000" y="1908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7128000" y="1979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76360" y="5435640"/>
            <a:ext cx="51120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5 + 2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59:18Z</dcterms:created>
  <dc:creator/>
  <dc:description/>
  <dc:language>en-US</dc:language>
  <cp:lastModifiedBy>КарМаН</cp:lastModifiedBy>
  <dcterms:modified xsi:type="dcterms:W3CDTF">2011-04-22T10:36:03Z</dcterms:modified>
  <cp:revision>26</cp:revision>
  <dc:subject/>
  <dc:title>Слайд 1</dc:title>
</cp:coreProperties>
</file>