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11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B038-13B9-4B1A-A8A9-9524D0087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2C99-CF79-4D7C-BB43-91EF30BB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B813-A985-4668-A872-CB04C45CA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036B-8122-43FC-9680-6BA336404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4056-84F5-4CFD-8490-7BBDE02F6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37BD-88ED-4BB2-A16A-2D8FF4E0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BE4D-347A-40BD-8B93-DD2659F2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5D7D-5139-47F3-BF83-D7475E16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F59DF-A916-4736-8002-7789F16B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3AD2-3900-4431-940C-E26CC937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0B91-C4C6-4B35-9898-4AC8CC99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0B69-1E9E-4688-9313-9806420F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C455-A473-489D-98A8-25599FF8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FEC9-B5AB-4CBC-AD2D-9CC40C7D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8900-05C9-4B50-8251-A77E719F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4938-5116-4C93-B978-72CAA5F35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7DA8-53B2-4FA8-849A-6F8AD8408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42B9B9-F184-4FB1-BB28-7BB5FF17F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D836D4-0BB5-437C-93F4-6E8814ED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FF6BA2-60B5-4320-A7E1-F6D2759E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79E779-B6A0-485D-AB10-8CAD6B16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2DEEFF-1383-4734-B294-E013A7A7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5B95-CE56-4A66-A93C-439B58D8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77779D-B6DB-4951-9F82-671D38C7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D7EE98-7783-4B1D-A59F-D8B33422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72FC34-5620-46A8-9DF2-2C1333AD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133FC8-5241-428A-BAFA-C4552D18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71CA35-CAE6-4161-AFAB-51B82232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48D480-338B-48AA-9BF8-8BF1B53B1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9C5838-F5A1-4992-9313-8B9269DC8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1075DF-409F-4014-B5D1-D30C9EAD1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85A198-300E-488C-8A1C-4676EC7C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265D88-A83A-4C96-9F94-7F705E43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B887-76D3-40EC-8BC6-9AB85AD6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68668A-A091-4294-AE72-FAE2C674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80AB47-4C43-45F3-AA6D-6F67DFA0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F02B17-6DC8-49F1-AF39-C31293E2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116A64-9E6A-4039-9B77-F69EC9F2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14CAF3-F2F3-4D52-B0C0-4C1B42E2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1625DA-990F-4F1B-8101-ED009A6A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999A38-6D25-4DD2-87A6-D5D8E8E6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F35401-D83C-4C07-9F8B-0223989CD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B7C782-8FB0-4E6C-917A-DEF42F95A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EA9C-C945-403E-B6B6-2D9C02B3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4880-04FC-40F0-9C73-422CB75D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0D70-9FF2-4711-A6A1-AAB90F70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B33C-251C-48A3-B939-555FD5A8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D577-2B25-444B-948D-2EF68C3C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19CA-9F05-45CE-87BC-349B3BF7710E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718B-409E-46B6-925B-18F6B26211DF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D95D-35B6-45CD-9652-9B7BF84DD3A0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0EEA-2F76-4D5D-A66B-429781C3944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Rectangle 4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96560" cy="1279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IMG_099691"/>
          <p:cNvPicPr/>
          <p:nvPr/>
        </p:nvPicPr>
        <p:blipFill>
          <a:blip r:embed="rId2"/>
          <a:stretch/>
        </p:blipFill>
        <p:spPr>
          <a:xfrm>
            <a:off x="541440" y="1600200"/>
            <a:ext cx="3870360" cy="453384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ейдер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ина Иосифовна – воспитател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МДОУ детский сад комбинированного вид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 №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11 «Семицветик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Сормовский райо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г. Нижнего Новгород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Rectangle 2" descr=""/>
          <p:cNvPicPr/>
          <p:nvPr/>
        </p:nvPicPr>
        <p:blipFill>
          <a:blip r:embed="rId1"/>
          <a:stretch/>
        </p:blipFill>
        <p:spPr>
          <a:xfrm>
            <a:off x="2041560" y="396720"/>
            <a:ext cx="4852800" cy="7923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тмечается небольшой словарный запас детей, недостаточность использования прилагательных, наречий, то есть признаков предме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блема сохранения своеобразия, самобытности русского языка имеет особую значимость в наше врем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собое значение,  стали приобретать вопросы развития и обогащения словаря дете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Rectangle 4" descr=""/>
          <p:cNvPicPr/>
          <p:nvPr/>
        </p:nvPicPr>
        <p:blipFill>
          <a:blip r:embed="rId1"/>
          <a:stretch/>
        </p:blipFill>
        <p:spPr>
          <a:xfrm>
            <a:off x="463680" y="255600"/>
            <a:ext cx="8242200" cy="8604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Актуальны на сегодняшний день взгляды педагогов и психолог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К. Д. Ушинский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отмечал  особенность сказки  в развитии образности и выразительности реч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Е.Н. Водовозова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подчеркивала, что сказки, несомненно развивают дар слова, находчивость, фантазию, воображение, знакомят с жизнью людей и животных в самых характерных их свойствах и положениях; помогают развитию гуманных чувств, любви к  правд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Л.С. Выготский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утверждает, что сказка , несомненно, развивает фантазию ребёнка, воображение, творчество дете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А.С.Пушкин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говорил: “Читайте простонародные сказки, чтоб видеть свойства русского языка.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Rectangle 2" descr=""/>
          <p:cNvPicPr/>
          <p:nvPr/>
        </p:nvPicPr>
        <p:blipFill>
          <a:blip r:embed="rId1"/>
          <a:stretch/>
        </p:blipFill>
        <p:spPr>
          <a:xfrm>
            <a:off x="1828800" y="268200"/>
            <a:ext cx="5486400" cy="9320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78544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Цель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: Способствовать обогащению и развитию речи детей через театрализацию русских народных сказо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Задачи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. Развивать устойчивый интерес к русской народной сказк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. Закреплять умения пересказывать сказ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. Развивать  умение выражать свои желания, чувства и эмоции,  заявлять о себе, высказывать своё мн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4. Воспитывать любовь к художественному слов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Rectangle 2" descr=""/>
          <p:cNvPicPr/>
          <p:nvPr/>
        </p:nvPicPr>
        <p:blipFill>
          <a:blip r:embed="rId1"/>
          <a:stretch/>
        </p:blipFill>
        <p:spPr>
          <a:xfrm>
            <a:off x="171360" y="152280"/>
            <a:ext cx="8728200" cy="1163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игры 009"/>
          <p:cNvPicPr/>
          <p:nvPr/>
        </p:nvPicPr>
        <p:blipFill>
          <a:blip r:embed="rId2"/>
          <a:stretch/>
        </p:blipFill>
        <p:spPr>
          <a:xfrm>
            <a:off x="4788000" y="1341360"/>
            <a:ext cx="3600360" cy="2592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игры 004"/>
          <p:cNvPicPr/>
          <p:nvPr/>
        </p:nvPicPr>
        <p:blipFill>
          <a:blip r:embed="rId3"/>
          <a:stretch/>
        </p:blipFill>
        <p:spPr>
          <a:xfrm>
            <a:off x="4788000" y="4149720"/>
            <a:ext cx="3570120" cy="2460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игры 026"/>
          <p:cNvPicPr/>
          <p:nvPr/>
        </p:nvPicPr>
        <p:blipFill>
          <a:blip r:embed="rId4"/>
          <a:stretch/>
        </p:blipFill>
        <p:spPr>
          <a:xfrm>
            <a:off x="755640" y="4149720"/>
            <a:ext cx="3600360" cy="2484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3" descr="сказки 034"/>
          <p:cNvPicPr/>
          <p:nvPr/>
        </p:nvPicPr>
        <p:blipFill>
          <a:blip r:embed="rId5"/>
          <a:stretch/>
        </p:blipFill>
        <p:spPr>
          <a:xfrm>
            <a:off x="755640" y="1341360"/>
            <a:ext cx="360036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Rectangle 4" descr=""/>
          <p:cNvPicPr/>
          <p:nvPr/>
        </p:nvPicPr>
        <p:blipFill>
          <a:blip r:embed="rId1"/>
          <a:stretch/>
        </p:blipFill>
        <p:spPr>
          <a:xfrm>
            <a:off x="1755720" y="291960"/>
            <a:ext cx="5572080" cy="682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46836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озданы необходимые условия для  обогащения и развития речи детей через театрализацию русских народных сказо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 большинства детей (92 %)  сформирован устойчивый интерес к русской народной сказке, отмечаются умения пересказывать сказ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ети способны  выражать свои желания, чувства и эмоции, заявлять о себе, высказать свое мн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ыявлены эффективные методы и приёмы  для развития речи детей в различных видах деятельнос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становлены доверительные отношения с родителями, что оказало положительное влияние на формирование самостоятельности  детей в театрализованной деятельност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Rectangle 2" descr=""/>
          <p:cNvPicPr/>
          <p:nvPr/>
        </p:nvPicPr>
        <p:blipFill>
          <a:blip r:embed="rId1"/>
          <a:stretch/>
        </p:blipFill>
        <p:spPr>
          <a:xfrm>
            <a:off x="1755720" y="262080"/>
            <a:ext cx="5413320" cy="6825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должать работу по ознакомлению  с русскими  народными сказкам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должать развивать выразительность и образность речи детей среднего дошкольного возрас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пособствовать развитию творческих способностей при составлении сказок собственного сочин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должать работу по взаимодействию с родителями по развитию речи дете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должать работу в рамках инновационной деятельности по  программе «Социально-нравственное воспитание детей старшего дошкольного возраста в специально-созданных коммуникативных ситуациях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9T22:27:32Z</dcterms:created>
  <dc:creator>Nina</dc:creator>
  <dc:description/>
  <dc:language>en-US</dc:language>
  <cp:lastModifiedBy>Nina</cp:lastModifiedBy>
  <dcterms:modified xsi:type="dcterms:W3CDTF">2015-01-29T22:30:13Z</dcterms:modified>
  <cp:revision>1</cp:revision>
  <dc:subject/>
  <dc:title>Опыт работы на тему:  «Развитие речи детей среднего дошкольного возраста средствами русской народной сказки»</dc:title>
</cp:coreProperties>
</file>