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1A46-7916-4020-A92D-9E339D94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B25E-1745-43BD-B403-BAFDB812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7FD9-2685-42E2-A910-41F27F20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70B-75F0-4DEF-9CF3-BB649FA0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0092-60F0-4368-839E-36865BE6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990E-C524-452F-857D-1B6AA646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C069-BEFA-4350-9495-7B464758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E92C-D095-4F9D-9A60-501657FA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A279-0F9B-46AF-82BF-B83D50F2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717F-BA75-4010-9E79-FBB7FD23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E042-56B8-4084-90A5-99A68198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0AA-E474-42EF-8E4F-190FC1AC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1E5E-9B4B-4C1F-B3ED-36AC146E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CD8A-6145-46C9-B98D-2B38E2EA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271E-69FF-40E5-9965-7E7743B0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F659-2EE4-4FD4-A674-09A28408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5B5B-8AA8-4A1E-AE5B-BB4DD17B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1C436B-C7C5-4332-9D63-32B5BBEA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0C293D-C288-46CE-8431-E2629944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92B588-F8C5-4D00-8010-DAAB1730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63D4BA-747E-401B-B179-68AEB40C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1ABDE7-EB38-4236-B126-3A3721AC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453-E83C-4896-B2D9-8928E852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43262E-594D-4261-82B3-48A19321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D36F7F-199D-4F72-9A43-8631589E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E3F72E-C2DE-44A8-93FD-2E528635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1F8FC5-9EAB-4452-987A-FE9BCE5C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359F86-0CCB-4E1A-85D6-AE44EBF2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91039A-8A7B-4F13-9880-6D10F6C8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68C9D2-6CC8-4DA6-8D88-119E0265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4730AC-5AE9-4F9B-B4BF-F15D95EC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6808C5-E9DB-4E97-92E7-8F5762E3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A977EC-044E-4254-B9A7-D7E56CD0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4A9-D29A-47AA-BFF6-DD2336D1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099142-B6D8-4845-812F-7FBFE9F5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48CBA3-1414-4F7A-81FF-A2BEBF61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1E70CA-FA9C-4345-9654-4F3A093B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49923E-D775-4E84-9FAC-AC882D5C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16BC95-69B8-4633-B44E-CA85C237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CC81CD-C37F-49B3-99DD-E06ED99C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14AF93-7E2F-4FF0-83C8-1FACD73B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318665-4981-44C1-B51F-7FEC020F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3088C2-269B-4D40-88FC-B8486AE1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3C4D-4E9C-471B-AF00-C9CCEE53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3040-1E8D-4B13-89EC-1252DD7B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83A1-F5EB-4BD4-883A-1673FF7F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6169-416D-4828-885B-26E401B2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1F5-D323-4F33-AAAA-2CFB8F7A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82A1-C876-4433-9F62-1EEEA789415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1EF2-6EFA-464A-8249-676C5718F88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72C1-CCC1-4D91-8B82-A5EE613FE97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8E90-0D10-4ECE-BE55-363B1BAF7D3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Rectangle 4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96560" cy="1279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IMG_099691"/>
          <p:cNvPicPr/>
          <p:nvPr/>
        </p:nvPicPr>
        <p:blipFill>
          <a:blip r:embed="rId2"/>
          <a:stretch/>
        </p:blipFill>
        <p:spPr>
          <a:xfrm>
            <a:off x="541440" y="1600200"/>
            <a:ext cx="3870360" cy="45338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ейдер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ина Иосифовна – воспитате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МДОУ детский сад комбинированного ви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№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11 «Семицветик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ормовский рай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. Нижнего Новгоро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Rectangle 2" descr=""/>
          <p:cNvPicPr/>
          <p:nvPr/>
        </p:nvPicPr>
        <p:blipFill>
          <a:blip r:embed="rId1"/>
          <a:stretch/>
        </p:blipFill>
        <p:spPr>
          <a:xfrm>
            <a:off x="2041560" y="396720"/>
            <a:ext cx="4852800" cy="792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тмечается небольшой словарный запас детей, недостаточность использования прилагательных, наречий, то есть признаков предме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блема сохранения своеобразия, самобытности русского языка имеет особую значимость в наше врем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собое значение,  стали приобретать вопросы развития и обогащения словаря дет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Rectangle 4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860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Актуальны на сегодняшний день взгляды педагогов и психолог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К. Д. Ушинск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отмечал  особенность сказки  в развитии образности и выразительности реч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Е.Н. Водовозова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подчеркивала, что сказки, несомненно развивают дар слова, находчивость, фантазию, воображение, знакомят с жизнью людей и животных в самых характерных их свойствах и положениях; помогают развитию гуманных чувств, любви к  правд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Л.С. Выготск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утверждает, что сказка , несомненно, развивает фантазию ребёнка, воображение, творчество дет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.С.Пушкин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говорил: “Читайте простонародные сказки, чтоб видеть свойства русского языка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1828800" y="268200"/>
            <a:ext cx="5486400" cy="932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л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 Способствовать обогащению и развитию речи детей через театрализацию русских народных сказ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Задач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Развивать устойчивый интерес к русской народной сказ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Закреплять умения пересказывать сказ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Развивать  умение выражать свои желания, чувства и эмоции,  заявлять о себе, высказывать своё мн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 Воспитывать любовь к художественному слов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171360" y="152280"/>
            <a:ext cx="8728200" cy="1163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игры 009"/>
          <p:cNvPicPr/>
          <p:nvPr/>
        </p:nvPicPr>
        <p:blipFill>
          <a:blip r:embed="rId2"/>
          <a:stretch/>
        </p:blipFill>
        <p:spPr>
          <a:xfrm>
            <a:off x="4788000" y="134136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игры 004"/>
          <p:cNvPicPr/>
          <p:nvPr/>
        </p:nvPicPr>
        <p:blipFill>
          <a:blip r:embed="rId3"/>
          <a:stretch/>
        </p:blipFill>
        <p:spPr>
          <a:xfrm>
            <a:off x="4788000" y="4149720"/>
            <a:ext cx="3570120" cy="2460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игры 026"/>
          <p:cNvPicPr/>
          <p:nvPr/>
        </p:nvPicPr>
        <p:blipFill>
          <a:blip r:embed="rId4"/>
          <a:stretch/>
        </p:blipFill>
        <p:spPr>
          <a:xfrm>
            <a:off x="755640" y="4149720"/>
            <a:ext cx="3600360" cy="2484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сказки 034"/>
          <p:cNvPicPr/>
          <p:nvPr/>
        </p:nvPicPr>
        <p:blipFill>
          <a:blip r:embed="rId5"/>
          <a:stretch/>
        </p:blipFill>
        <p:spPr>
          <a:xfrm>
            <a:off x="755640" y="1341360"/>
            <a:ext cx="36003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Rectangle 4" descr=""/>
          <p:cNvPicPr/>
          <p:nvPr/>
        </p:nvPicPr>
        <p:blipFill>
          <a:blip r:embed="rId1"/>
          <a:stretch/>
        </p:blipFill>
        <p:spPr>
          <a:xfrm>
            <a:off x="1755720" y="291960"/>
            <a:ext cx="5572080" cy="682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6836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зданы необходимые условия для  обогащения и развития речи детей через театрализацию русских народных сказ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 большинства детей (92 %)  сформирован устойчивый интерес к русской народной сказке, отмечаются умения пересказывать сказ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ти способны  выражать свои желания, чувства и эмоции, заявлять о себе, высказать свое м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ыявлены эффективные методы и приёмы  для развития речи детей в различных видах деятель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становлены доверительные отношения с родителями, что оказало положительное влияние на формирование самостоятельности  детей в театрализованной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ctangle 2" descr=""/>
          <p:cNvPicPr/>
          <p:nvPr/>
        </p:nvPicPr>
        <p:blipFill>
          <a:blip r:embed="rId1"/>
          <a:stretch/>
        </p:blipFill>
        <p:spPr>
          <a:xfrm>
            <a:off x="1755720" y="262080"/>
            <a:ext cx="5413320" cy="6825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должать работу по ознакомлению  с русскими  народными сказка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должать развивать выразительность и образность речи детей среднего дошкольного возрас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пособствовать развитию творческих способностей при составлении сказок собственного сочи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должать работу по взаимодействию с родителями по развитию речи дет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должать работу в рамках инновационной деятельности по  программе «Социально-нравственное воспитание детей старшего дошкольного возраста в специально-созданных коммуникативных ситуациях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9T22:27:32Z</dcterms:created>
  <dc:creator>Nina</dc:creator>
  <dc:description/>
  <dc:language>en-US</dc:language>
  <cp:lastModifiedBy>Nina</cp:lastModifiedBy>
  <dcterms:modified xsi:type="dcterms:W3CDTF">2015-01-29T22:30:13Z</dcterms:modified>
  <cp:revision>1</cp:revision>
  <dc:subject/>
  <dc:title>Опыт работы на тему:  «Развитие речи детей среднего дошкольного возраста средствами русской народной сказки»</dc:title>
</cp:coreProperties>
</file>