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00EF-420F-4279-8AA1-9CDF6AEA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D90-170E-4901-A9BD-2A89850D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49D9-F210-45F9-B64B-59AF8793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4E7A-E271-4935-A549-BE0798A8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9B0E-A650-4958-8898-1775AF2C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371B-B0A6-4AF8-AD24-AFFA9753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C6CE-B5F5-4FD8-A376-EA20C243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2F01-E8D6-4DAC-A82D-900A4924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9601-A83D-4EF5-B59A-EE4FA043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3DFA-9425-4F26-BBCF-1AC8F026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721F-FBC8-48B0-A0CE-DD29B506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67A-2898-4A65-8853-10FFC690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08FF-36AA-4F2B-AC2F-5E156211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221E-DEC7-4829-B92A-AD4B3E1E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B893-7E16-4C3A-95DB-D21D72EC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B63E-7824-4880-BEE7-B0E26773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5673-1D32-4DB4-A668-B279821E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3E348-5CD7-43FF-9E11-BEE23F32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4A980-B940-46FE-B14A-6BCB099C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CBCE3-5323-44DB-B914-48F06BC1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33E90-9607-4DE0-B204-03135EE1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58E13-963F-4C97-A88D-442B5123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81DB-001B-4776-A713-7BFEDCB6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2BAAF-D23C-4F7F-AE1F-1C2F2CA3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E805D-4EAD-478A-A3AB-1B8A0198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5E2F-F39A-4F25-9E82-31CD6628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13F22-39E8-4250-B34C-7636CF82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7525E-923B-4E6F-992E-47FA3113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2F9AD-9866-424B-BCCE-13BB3C78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968B7-80A0-4D72-8E46-964C9B44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ACBFE-1C93-41DE-A648-F2F10587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21AD3-0C8E-4E64-B414-3638A2CB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2EB9B-CA63-485B-85C3-B332143A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D046-B435-4946-A3F9-967C01C7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AB86F-02E0-4776-A4B1-FE1C4C89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4C71E-D985-4A6B-9604-19E00886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93B9A-3017-47C3-84D7-EDF905BA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56ACD-A086-4FC8-8B70-02EB7226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AF43E-CE79-4CC8-B197-5F287852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742B2-4187-422B-9DD9-96C28AF4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0B6A4-5E4F-4F36-824D-F5A29A30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D6FAB-2622-4013-906C-86805027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534F6-F90D-4953-A13A-C1402C63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BB0-1E17-4DF2-8B1C-C3A54CE7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B78-249C-4922-8ACE-DF75E05A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554-1BCC-414A-937F-A0D1105A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2D9-B46F-4B58-BB71-885DA6C9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598-5449-4617-A6C3-F451CDEA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7971-25DB-4875-A7B4-B528128E0BD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45F5-FF6B-4C54-AEB2-50B5A6FC959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EA13-4210-4154-A6E5-DF10C875E3E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194B-DC1B-4FE0-8C8F-416E4549B86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Памятка контроля по выполнению домашних заданий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.    Не сравнивайте его умения с умениями других дете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.    Не кричите, лучше определите причину отсутствия у ребенка умения выполнять заданное упражнени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.    Создайте условия для успешного выполнения ребенком домашнего зада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4.    Не пытайтесь выполнить за своего сына или дочь домашнее задание, это сослужит им плохую службу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5.    Поощряйте упорство и проявление характера в достижении цел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6.    Требуйте от своего ребенка внимательного прочтения инструкций по выполнению учебных заданий, формулировки вопрос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7.    Учите его детальному изучению содержания материалов учебника, справочных материалов, правил и инструкц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50920" y="40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8.    Развивайте его внимание и внимательность при выполнении домашнего зада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9.    Хвалите ребенка за своевременно и качественно выполненное домашнее задани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0. Демонстрируйте его достижения перед другими членами семьи, братьями и сестрам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1. Для того, чтобы облегчить своему ребенку выполнение домашнего задания, покупайте ему энциклопедии, словари и справочные пособия по различным предметам, справочники на информационных носителя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2. Формируйте привычку доводить начатое дело до конца, даже если придется чем-то жертвоват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3. Покупайте своему ребенку логические игры, способствующие формированию усидчивости, терпения и ответственност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4. Не отмахивайтесь от вопросов ребенка. Этим вы усугубляете проблемы, связанные с подготовкой домашних задан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96200" indent="-196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5:22:08Z</dcterms:created>
  <dc:creator>1234</dc:creator>
  <dc:description/>
  <dc:language>en-US</dc:language>
  <cp:lastModifiedBy>Admin</cp:lastModifiedBy>
  <dcterms:modified xsi:type="dcterms:W3CDTF">2013-06-08T21:12:02Z</dcterms:modified>
  <cp:revision>78</cp:revision>
  <dc:subject/>
  <dc:title>На 22 октября</dc:title>
</cp:coreProperties>
</file>