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2B16-2D9E-40B0-B91B-7E1490D52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AD73-80E6-46C7-AE57-E4154109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0DB8-EB94-4841-A1F9-077EA06C9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FDCE-5D1D-4682-BB44-E2EC2C4C5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6EFF-FE01-4550-9B50-28EB88C5E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0AC0-55B6-448D-AE9B-69867264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B6AB-2B80-4AEF-9872-8E53A654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F2A3-8D43-4CBF-B3BC-D7E50D3A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E4A4-2D54-48A8-8A0D-714034FD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99F4-4B49-4A20-8A2A-E3D99488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8D03-5CB9-47C7-97EF-5D2DA616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8B47-EB88-4F1F-84D2-11DFE037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F270-5D66-4064-AA80-500261A5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C123-4DDC-4A64-A6F4-53B90607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A9B2-913C-4D13-8286-6709F5BF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9439-29C1-4A61-804A-274EFCA32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D621-C116-4754-99DD-5AEE4526A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6A505-02EF-4388-AB49-D2B966A7F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5DA2A-E065-4054-A424-CAB71031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08947-E952-4F31-B66A-C2094811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4D57D-9D35-4A3E-A768-12A6BE36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740BE-7EE8-43E8-8043-3D1B4642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52C9-BCE7-4D41-AC14-ED0E3ED7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FEC9A-4F0D-4D55-A446-8596BA19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EB66E-BF9F-422E-B479-9713EA0A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15407-B68D-48DF-AF78-5F796AD9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1D009-5FE2-4D0A-A9E2-D9B2B386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5D882-377F-41F2-97E6-47E4125D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10ABC-4254-4CD8-9D1D-D5B34B66A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026E8-3F3A-42E7-90E5-F62334ABC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69529-9C5F-4044-A5F4-40D2743B9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2C570-9EB8-4042-9F8F-A4492492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F81F6-C4CE-4BDC-B221-1D5942CD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374C-9596-40F8-B855-15E4CE0F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92A0F-D511-4D1E-936B-DE90A0D2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1FFBD-E067-4852-928D-E78CBB49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31201-7AF8-4999-ADBC-A504834D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3ED89-1843-439A-A2F0-04C2BF9B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924B2-78CB-4685-A4FF-27B4CA8F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81884-0E13-4456-B25C-24D695A3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0E19A-C3AD-4855-9337-31E1DF57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90310-369D-4F5D-91D6-6B023F274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4EC1A-7A88-4595-AAD4-8A5806F60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53CA-6173-445F-8EB3-D5663B1E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13C8-B118-45CB-8827-BB15C9FA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12BD-A4C7-47EC-B40B-4B42FDF1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1CE5-E329-499E-9A07-538C4F04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ABCA-AEB2-448A-A7C2-50B48B31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F534-D89B-4D0E-AFF8-B90245AF390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BD36-7C66-4BBB-B544-4D1BC952D70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D7BA-D9DE-468D-BF13-238E59EB8A4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16F4-32B4-4E08-832E-0552BC46637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Памятка контроля по выполнению домашних заданий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.    Не сравнивайте его умения с умениями других детей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2.    Не кричите, лучше определите причину отсутствия у ребенка умения выполнять заданное упражнение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3.    Создайте условия для успешного выполнения ребенком домашнего задания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4.    Не пытайтесь выполнить за своего сына или дочь домашнее задание, это сослужит им плохую службу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5.    Поощряйте упорство и проявление характера в достижении цел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6.    Требуйте от своего ребенка внимательного прочтения инструкций по выполнению учебных заданий, формулировки вопросо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7.    Учите его детальному изучению содержания материалов учебника, справочных материалов, правил и инструкций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50920" y="40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196200" indent="-196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8.    Развивайте его внимание и внимательность при выполнении домашнего задания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9.    Хвалите ребенка за своевременно и качественно выполненное домашнее задание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0. Демонстрируйте его достижения перед другими членами семьи, братьями и сестрам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1. Для того, чтобы облегчить своему ребенку выполнение домашнего задания, покупайте ему энциклопедии, словари и справочные пособия по различным предметам, справочники на информационных носителях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2. Формируйте привычку доводить начатое дело до конца, даже если придется чем-то жертвовать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3. Покупайте своему ребенку логические игры, способствующие формированию усидчивости, терпения и ответственност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4. Не отмахивайтесь от вопросов ребенка. Этим вы усугубляете проблемы, связанные с подготовкой домашних заданий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05:22:08Z</dcterms:created>
  <dc:creator>1234</dc:creator>
  <dc:description/>
  <dc:language>en-US</dc:language>
  <cp:lastModifiedBy>Admin</cp:lastModifiedBy>
  <dcterms:modified xsi:type="dcterms:W3CDTF">2013-06-08T21:12:02Z</dcterms:modified>
  <cp:revision>78</cp:revision>
  <dc:subject/>
  <dc:title>На 22 октября</dc:title>
</cp:coreProperties>
</file>