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01B0-9005-415A-BD00-194A1DA49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4C36-C2FC-4070-8802-435CD05E9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700-FA8C-447A-9195-52D0E271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54A-A659-4894-8965-372279FA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B89-AAC7-4D39-8058-4D65D759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C4D-4CDE-4A13-9C0B-A5C15AD2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255-FB0E-4297-90E5-6B6CADB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183-7CAC-44E7-A9D9-8AD28B27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C72-3082-4DE7-B44C-F92972E8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71D-0108-4839-8E3C-E252F4F8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73E-9699-4BFD-8CFA-9BBB415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A91-1A8E-4C72-A2F5-EF77C141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465-E678-4FC1-899C-44AFE9C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83F-80DA-40CC-8C2E-8EB3C5AE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2ECD-1D54-4D2C-8FD9-AE84F0ACD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1.xml"/><Relationship Id="rId3" Type="http://schemas.openxmlformats.org/officeDocument/2006/relationships/slide" Target="slide23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2" descr="Рисунок1.jpg"/>
          <p:cNvPicPr/>
          <p:nvPr/>
        </p:nvPicPr>
        <p:blipFill>
          <a:blip r:embed="rId1"/>
          <a:stretch/>
        </p:blipFill>
        <p:spPr>
          <a:xfrm>
            <a:off x="0" y="-139680"/>
            <a:ext cx="9144000" cy="71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7864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«ПАСХАЛЬНОЕ УТРО»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Comic Sans MS"/>
              </a:rPr>
              <a:t>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071880" y="1000080"/>
            <a:ext cx="230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 flipH="1">
            <a:off x="5580000" y="112536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5" descr="bc33ffe28241.png"/>
          <p:cNvPicPr/>
          <p:nvPr/>
        </p:nvPicPr>
        <p:blipFill>
          <a:blip r:embed="rId2"/>
          <a:stretch/>
        </p:blipFill>
        <p:spPr>
          <a:xfrm>
            <a:off x="1357200" y="2214720"/>
            <a:ext cx="6591240" cy="36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5722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Как называют пасхальные яйца, крашеные в однородный цв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1332000" y="836640"/>
            <a:ext cx="74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785880" y="2428920"/>
            <a:ext cx="6018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Сюрпр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57160" y="3429000"/>
            <a:ext cx="5973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Краше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857160" y="5286240"/>
            <a:ext cx="6307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Матрё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2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Слово «благотворительность» означ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042920" y="54936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527120" y="281160"/>
            <a:ext cx="57816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928800" y="2286000"/>
            <a:ext cx="7172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омощь  нуждающимся, больным, бе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928800" y="3860640"/>
            <a:ext cx="60195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Праздничный конце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1000080" y="5014800"/>
            <a:ext cx="6164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Пода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5680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асхальная забава взрослых и дет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468360" y="1989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928800" y="2071800"/>
            <a:ext cx="734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Тан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928800" y="3213000"/>
            <a:ext cx="616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Леден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928800" y="4643280"/>
            <a:ext cx="702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Кач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Какой музыкальный коллектив сопровождает пасхальную церковную служб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1000080" y="2928960"/>
            <a:ext cx="609300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Х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1000080" y="3857760"/>
            <a:ext cx="616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Оркес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928800" y="4929120"/>
            <a:ext cx="6019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Ансамбль скрипа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2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2960" y="274680"/>
            <a:ext cx="804384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должите пословицу: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«После Пасхи  бабы в огород, а девки, парни в 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1332000" y="476280"/>
            <a:ext cx="71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1042920" y="2637000"/>
            <a:ext cx="6048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...хоро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116000" y="3935520"/>
            <a:ext cx="6048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...у  во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116000" y="4941720"/>
            <a:ext cx="640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...на за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>
            <a:hlinkClick r:id="rId2" action="ppaction://hlinksldjump"/>
          </p:cNvPr>
          <p:cNvSpPr/>
          <p:nvPr/>
        </p:nvSpPr>
        <p:spPr>
          <a:xfrm>
            <a:off x="6858000" y="5429160"/>
            <a:ext cx="1224000" cy="107964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87" h="21600">
                <a:moveTo>
                  <a:pt x="0" y="0"/>
                </a:moveTo>
                <a:lnTo>
                  <a:pt x="24487" y="0"/>
                </a:lnTo>
                <a:lnTo>
                  <a:pt x="24487" y="21600"/>
                </a:lnTo>
                <a:lnTo>
                  <a:pt x="0" y="21600"/>
                </a:lnTo>
                <a:close/>
              </a:path>
              <a:path fill="lightenLess" w="24487" h="21600">
                <a:moveTo>
                  <a:pt x="0" y="0"/>
                </a:moveTo>
                <a:lnTo>
                  <a:pt x="24487" y="0"/>
                </a:lnTo>
                <a:lnTo>
                  <a:pt x="23087" y="1400"/>
                </a:lnTo>
                <a:lnTo>
                  <a:pt x="1400" y="1400"/>
                </a:lnTo>
                <a:close/>
              </a:path>
              <a:path fill="darken" w="24487" h="21600">
                <a:moveTo>
                  <a:pt x="24487" y="0"/>
                </a:moveTo>
                <a:lnTo>
                  <a:pt x="24487" y="21600"/>
                </a:lnTo>
                <a:lnTo>
                  <a:pt x="23087" y="20200"/>
                </a:lnTo>
                <a:lnTo>
                  <a:pt x="23087" y="1400"/>
                </a:lnTo>
                <a:close/>
              </a:path>
              <a:path fill="darkenLess" w="24487" h="21600">
                <a:moveTo>
                  <a:pt x="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7" y="20200"/>
                </a:lnTo>
                <a:close/>
              </a:path>
              <a:path fill="lighten" w="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7" h="21600">
                <a:moveTo>
                  <a:pt x="5237" y="3794"/>
                </a:moveTo>
                <a:lnTo>
                  <a:pt x="19250" y="10800"/>
                </a:lnTo>
                <a:lnTo>
                  <a:pt x="5237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5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>
            <a:hlinkClick r:id="rId2" action="ppaction://hlinksldjump"/>
          </p:cNvPr>
          <p:cNvSpPr/>
          <p:nvPr/>
        </p:nvSpPr>
        <p:spPr>
          <a:xfrm>
            <a:off x="6948360" y="5589720"/>
            <a:ext cx="1295640" cy="1008000"/>
          </a:xfrm>
          <a:custGeom>
            <a:avLst/>
            <a:gdLst>
              <a:gd name="textAreaLeft" fmla="*/ 65160 w 1295640"/>
              <a:gd name="textAreaRight" fmla="*/ 1230480 w 1295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7762" h="21600">
                <a:moveTo>
                  <a:pt x="0" y="0"/>
                </a:moveTo>
                <a:lnTo>
                  <a:pt x="27762" y="0"/>
                </a:lnTo>
                <a:lnTo>
                  <a:pt x="27762" y="21600"/>
                </a:lnTo>
                <a:lnTo>
                  <a:pt x="0" y="21600"/>
                </a:lnTo>
                <a:close/>
              </a:path>
              <a:path fill="lightenLess" w="27762" h="21600">
                <a:moveTo>
                  <a:pt x="0" y="0"/>
                </a:moveTo>
                <a:lnTo>
                  <a:pt x="27762" y="0"/>
                </a:lnTo>
                <a:lnTo>
                  <a:pt x="26362" y="1400"/>
                </a:lnTo>
                <a:lnTo>
                  <a:pt x="1400" y="1400"/>
                </a:lnTo>
                <a:close/>
              </a:path>
              <a:path fill="darken" w="27762" h="21600">
                <a:moveTo>
                  <a:pt x="27762" y="0"/>
                </a:moveTo>
                <a:lnTo>
                  <a:pt x="27762" y="21600"/>
                </a:lnTo>
                <a:lnTo>
                  <a:pt x="26362" y="20200"/>
                </a:lnTo>
                <a:lnTo>
                  <a:pt x="26362" y="1400"/>
                </a:lnTo>
                <a:close/>
              </a:path>
              <a:path fill="darkenLess" w="27762" h="21600">
                <a:moveTo>
                  <a:pt x="27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2" y="20200"/>
                </a:lnTo>
                <a:close/>
              </a:path>
              <a:path fill="lighten" w="27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2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7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>
            <a:hlinkClick r:id="" action="ppaction://hlinkshowjump?jump=firstslide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9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2" descr="Рисунок1.jpg"/>
          <p:cNvPicPr/>
          <p:nvPr/>
        </p:nvPicPr>
        <p:blipFill>
          <a:blip r:embed="rId1"/>
          <a:stretch/>
        </p:blipFill>
        <p:spPr>
          <a:xfrm>
            <a:off x="0" y="-139680"/>
            <a:ext cx="9144000" cy="7137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1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ПРАВИЛА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Вашему вниманию предлагается  ряд  вопросов на тему православного праздника Пасхи, на каждый вопрос дано три варианта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Выбирайте любой вариант – и  надпись скажет вам, правы вы или нет, чтобы продолжить игру – нажмите на зн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987640" y="263700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 flipH="1">
            <a:off x="5580000" y="112536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>
            <a:hlinkClick r:id="rId2" action="ppaction://hlinksldjump"/>
          </p:cNvPr>
          <p:cNvSpPr/>
          <p:nvPr/>
        </p:nvSpPr>
        <p:spPr>
          <a:xfrm>
            <a:off x="1285920" y="3857760"/>
            <a:ext cx="1357200" cy="1214280"/>
          </a:xfrm>
          <a:custGeom>
            <a:avLst/>
            <a:gdLst>
              <a:gd name="textAreaLeft" fmla="*/ 78480 w 1357200"/>
              <a:gd name="textAreaRight" fmla="*/ 1278720 w 1357200"/>
              <a:gd name="textAreaTop" fmla="*/ 78480 h 1214280"/>
              <a:gd name="textAreaBottom" fmla="*/ 1135800 h 1214280"/>
            </a:gdLst>
            <a:ahLst/>
            <a:rect l="textAreaLeft" t="textAreaTop" r="textAreaRight" b="textAreaBottom"/>
            <a:pathLst>
              <a:path w="24142" h="21600">
                <a:moveTo>
                  <a:pt x="0" y="0"/>
                </a:moveTo>
                <a:lnTo>
                  <a:pt x="24142" y="0"/>
                </a:lnTo>
                <a:lnTo>
                  <a:pt x="24142" y="21600"/>
                </a:lnTo>
                <a:lnTo>
                  <a:pt x="0" y="21600"/>
                </a:lnTo>
                <a:close/>
              </a:path>
              <a:path fill="lightenLess" w="24142" h="21600">
                <a:moveTo>
                  <a:pt x="0" y="0"/>
                </a:moveTo>
                <a:lnTo>
                  <a:pt x="24142" y="0"/>
                </a:lnTo>
                <a:lnTo>
                  <a:pt x="22742" y="1400"/>
                </a:lnTo>
                <a:lnTo>
                  <a:pt x="1400" y="1400"/>
                </a:lnTo>
                <a:close/>
              </a:path>
              <a:path fill="darken" w="24142" h="21600">
                <a:moveTo>
                  <a:pt x="24142" y="0"/>
                </a:moveTo>
                <a:lnTo>
                  <a:pt x="24142" y="21600"/>
                </a:lnTo>
                <a:lnTo>
                  <a:pt x="22742" y="20200"/>
                </a:lnTo>
                <a:lnTo>
                  <a:pt x="22742" y="1400"/>
                </a:lnTo>
                <a:close/>
              </a:path>
              <a:path fill="darkenLess" w="24142" h="21600">
                <a:moveTo>
                  <a:pt x="24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2" y="20200"/>
                </a:lnTo>
                <a:close/>
              </a:path>
              <a:path fill="lighten" w="24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2" h="21600">
                <a:moveTo>
                  <a:pt x="5064" y="3794"/>
                </a:moveTo>
                <a:lnTo>
                  <a:pt x="19077" y="10800"/>
                </a:lnTo>
                <a:lnTo>
                  <a:pt x="5064" y="17806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000240" y="3714840"/>
            <a:ext cx="5400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Он вас и «отведёт» на следующий вопрос. А потом снова выбирайте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Желаем успех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11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2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51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65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7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19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247320" cy="7143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Что означает слово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«ПАСХ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714680" y="714240"/>
            <a:ext cx="78483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357200" y="2143080"/>
            <a:ext cx="66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857160" y="2000160"/>
            <a:ext cx="594684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озро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928800" y="3357720"/>
            <a:ext cx="4651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Слё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928800" y="4714920"/>
            <a:ext cx="443520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19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3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4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67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28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>
            <a:hlinkClick r:id="rId2" action="ppaction://hlinksldjump"/>
          </p:cNvPr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>
            <a:hlinkClick r:id="rId2" action="ppaction://hlinksldjump"/>
          </p:cNvPr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01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15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-360360"/>
            <a:ext cx="9247320" cy="7218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Символом православной Пасхи являет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1187280" y="404640"/>
            <a:ext cx="7242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000080" y="2060640"/>
            <a:ext cx="6811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раздничная  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1071720" y="3068640"/>
            <a:ext cx="6379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Крашеное яй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1071720" y="4143240"/>
            <a:ext cx="6021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Тюльп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3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55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6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83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397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7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23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247320" cy="7072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Как называется традиционное пасхальное блюд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403280" y="404640"/>
            <a:ext cx="6697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1000080" y="2286000"/>
            <a:ext cx="6451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ул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1071720" y="3429000"/>
            <a:ext cx="50846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Б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1143000" y="4786200"/>
            <a:ext cx="5830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Печ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2700360" y="1341360"/>
            <a:ext cx="3744720" cy="3600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2124000" y="198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omic Sans MS"/>
              </a:rPr>
              <a:t>Молодц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7093080" y="5445000"/>
            <a:ext cx="1224000" cy="1152720"/>
          </a:xfrm>
          <a:custGeom>
            <a:avLst/>
            <a:gdLst>
              <a:gd name="textAreaLeft" fmla="*/ 74520 w 1224000"/>
              <a:gd name="textAreaRight" fmla="*/ 1149480 w 12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8" y="3837"/>
                </a:moveTo>
                <a:lnTo>
                  <a:pt x="14044" y="6448"/>
                </a:ln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lnTo>
                  <a:pt x="18431" y="10800"/>
                </a:lnTo>
                <a:lnTo>
                  <a:pt x="16777" y="10800"/>
                </a:lnTo>
                <a:lnTo>
                  <a:pt x="16777" y="17989"/>
                </a:lnTo>
                <a:lnTo>
                  <a:pt x="6158" y="17989"/>
                </a:lnTo>
                <a:lnTo>
                  <a:pt x="6158" y="10800"/>
                </a:lnTo>
                <a:lnTo>
                  <a:pt x="4505" y="10800"/>
                </a:lnTo>
                <a:close/>
              </a:path>
              <a:path fill="darkenLess" w="22935" h="21600">
                <a:moveTo>
                  <a:pt x="14044" y="6448"/>
                </a:moveTo>
                <a:lnTo>
                  <a:pt x="14044" y="4707"/>
                </a:lnTo>
                <a:lnTo>
                  <a:pt x="15819" y="4707"/>
                </a:lnTo>
                <a:lnTo>
                  <a:pt x="15819" y="8224"/>
                </a:lnTo>
                <a:close/>
              </a:path>
              <a:path fill="darkenLess" w="22935" h="21600">
                <a:moveTo>
                  <a:pt x="10545" y="14299"/>
                </a:moveTo>
                <a:lnTo>
                  <a:pt x="12390" y="14299"/>
                </a:lnTo>
                <a:lnTo>
                  <a:pt x="12390" y="17989"/>
                </a:lnTo>
                <a:lnTo>
                  <a:pt x="16777" y="17989"/>
                </a:lnTo>
                <a:lnTo>
                  <a:pt x="16777" y="10800"/>
                </a:lnTo>
                <a:lnTo>
                  <a:pt x="6158" y="10800"/>
                </a:lnTo>
                <a:lnTo>
                  <a:pt x="6158" y="17989"/>
                </a:lnTo>
                <a:lnTo>
                  <a:pt x="10545" y="17989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5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179280" y="5084640"/>
            <a:ext cx="216072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2411280" y="2924280"/>
            <a:ext cx="5761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Увы, увы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вы не правы …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7020000" y="5373720"/>
            <a:ext cx="1152360" cy="981000"/>
          </a:xfrm>
          <a:custGeom>
            <a:avLst/>
            <a:gdLst>
              <a:gd name="textAreaLeft" fmla="*/ 63360 w 1152360"/>
              <a:gd name="textAreaRight" fmla="*/ 1089000 w 1152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5372" h="21600">
                <a:moveTo>
                  <a:pt x="0" y="0"/>
                </a:moveTo>
                <a:lnTo>
                  <a:pt x="25372" y="0"/>
                </a:lnTo>
                <a:lnTo>
                  <a:pt x="25372" y="21600"/>
                </a:lnTo>
                <a:lnTo>
                  <a:pt x="0" y="21600"/>
                </a:lnTo>
                <a:close/>
              </a:path>
              <a:path fill="lightenLess" w="25372" h="21600">
                <a:moveTo>
                  <a:pt x="0" y="0"/>
                </a:moveTo>
                <a:lnTo>
                  <a:pt x="25372" y="0"/>
                </a:lnTo>
                <a:lnTo>
                  <a:pt x="23972" y="1400"/>
                </a:lnTo>
                <a:lnTo>
                  <a:pt x="1400" y="1400"/>
                </a:lnTo>
                <a:close/>
              </a:path>
              <a:path fill="darken" w="25372" h="21600">
                <a:moveTo>
                  <a:pt x="25372" y="0"/>
                </a:moveTo>
                <a:lnTo>
                  <a:pt x="25372" y="21600"/>
                </a:lnTo>
                <a:lnTo>
                  <a:pt x="23972" y="20200"/>
                </a:lnTo>
                <a:lnTo>
                  <a:pt x="23972" y="1400"/>
                </a:lnTo>
                <a:close/>
              </a:path>
              <a:path fill="darkenLess" w="25372" h="21600">
                <a:moveTo>
                  <a:pt x="25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2" y="20200"/>
                </a:lnTo>
                <a:close/>
              </a:path>
              <a:path fill="lighten" w="25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2" h="21600">
                <a:moveTo>
                  <a:pt x="5679" y="3794"/>
                </a:moveTo>
                <a:lnTo>
                  <a:pt x="19692" y="10800"/>
                </a:lnTo>
                <a:lnTo>
                  <a:pt x="5679" y="17806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2497 C -0.04166 0.00578 -0.04843 -0.00508 -0.03628 -0.01618 C -0.03316 -0.01549 -0.02639 -0.01503 -0.02274 -0.01225 C -0.01319 -0.00555 -0.0243 -0.01179 -0.01527 -0.00763 C -0.00816 -0.00786 -0.00104 -0.0074 0.00573 -0.00924 C 0.01198 -0.01086 0.01841 -0.02266 0.02171 -0.02936 C 0.02309 -0.09641 0.01198 -0.0904 0.04896 -0.08716 C 0.0566 -0.08462 0.05261 -0.08693 0.06129 -0.07907 C 0.06337 -0.07722 0.06632 -0.07722 0.06858 -0.07537 C 0.06997 -0.07468 0.0724 -0.07445 0.0724 -0.07375 C 0.07691 -0.07468 0.0816 -0.07329 0.08594 -0.07537 C 0.08855 -0.07722 0.09011 -0.08161 0.09219 -0.08439 C 0.09671 -0.0904 0.10087 -0.09687 0.10434 -0.10427 C 0.10591 -0.11029 0.10799 -0.11422 0.10938 -0.12023 C 0.11025 -0.15537 0.10296 -0.1993 0.13646 -0.20138 C 0.15174 -0.20277 0.16684 -0.20277 0.18212 -0.20323 C 0.18681 -0.20693 0.19098 -0.20994 0.19566 -0.21318 C 0.19966 -0.21919 0.20174 -0.22381 0.20452 -0.23029 C 0.20521 -0.29364 0.18733 -0.32161 0.22032 -0.33456 C 0.22657 -0.33387 0.23282 -0.33387 0.23889 -0.33248 C 0.24393 -0.33156 0.24966 -0.32786 0.25486 -0.32578 C 0.25955 -0.32624 0.26407 -0.32578 0.26858 -0.32786 C 0.27136 -0.32855 0.27605 -0.33456 0.27605 -0.33433 C 0.27778 -0.33826 0.279 -0.34242 0.28073 -0.34635 C 0.2816 -0.34774 0.28247 -0.3482 0.28334 -0.34982 C 0.28438 -0.35144 0.2849 -0.35329 0.28577 -0.35468 C 0.29098 -0.37803 0.28386 -0.34497 0.2882 -0.41086 C 0.28837 -0.41364 0.29011 -0.41503 0.2908 -0.4178 C 0.29167 -0.4215 0.29098 -0.42612 0.29323 -0.42797 C 0.29983 -0.43468 0.30504 -0.43699 0.31285 -0.43977 C 0.32587 -0.45179 0.34445 -0.44624 0.35851 -0.44647 C 0.3632 -0.44924 0.36615 -0.45318 0.37101 -0.45526 C 0.37796 -0.4645 0.375 -0.46081 0.37969 -0.46728 C 0.37848 -0.50242 0.38282 -0.51306 0.36355 -0.52994 C 0.36181 -0.53803 0.35903 -0.53618 0.3573 -0.54404 C 0.35764 -0.54797 0.35782 -0.5637 0.36233 -0.5674 C 0.38403 -0.58589 0.4132 -0.57341 0.43889 -0.57433 C 0.43993 -0.57549 0.44115 -0.57711 0.44254 -0.57757 C 0.44445 -0.57849 0.44688 -0.57826 0.44879 -0.57942 C 0.45122 -0.5815 0.45486 -0.58797 0.45486 -0.58774 C 0.4599 -0.60161 0.45816 -0.6178 0.46476 -0.63052 C 0.46945 -0.65179 0.48316 -0.65202 0.49671 -0.65641 C 0.52761 -0.65271 0.54236 -0.65318 0.57952 -0.65433 C 0.58056 -0.65549 0.58177 -0.65734 0.58299 -0.65803 C 0.58473 -0.65849 0.58646 -0.65849 0.58802 -0.65965 C 0.58924 -0.66081 0.58941 -0.66335 0.59046 -0.66427 C 0.59636 -0.67167 0.60313 -0.67445 0.61025 -0.67815 C 0.62153 -0.683 0.63421 -0.67953 0.64601 -0.67977 C 0.65313 -0.68115 0.65799 -0.68346 0.66459 -0.6867 C 0.67379 -0.69641 0.68073 -0.71052 0.69046 -0.71907 C 0.69132 -0.72092 0.69306 -0.7237 0.69306 -0.7237 E">
                                      <p:cBhvr>
                                        <p:cTn id="47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7" descr="Рисунок1.jpg"/>
          <p:cNvPicPr/>
          <p:nvPr/>
        </p:nvPicPr>
        <p:blipFill>
          <a:blip r:embed="rId2"/>
          <a:stretch/>
        </p:blipFill>
        <p:spPr>
          <a:xfrm>
            <a:off x="-95400" y="-214200"/>
            <a:ext cx="9239400" cy="72118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571680"/>
            <a:ext cx="524340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Игра закончена !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ы справились со   всеми заданиями 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00040" y="5715000"/>
            <a:ext cx="82152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Comic Sans MS"/>
              </a:rPr>
              <a:t>в создании игры использован шаблон </a:t>
            </a:r>
            <a:r>
              <a:rPr b="1" lang="en-US" sz="1200" spc="-1" strike="noStrike">
                <a:solidFill>
                  <a:srgbClr val="7f7f7f"/>
                </a:solidFill>
                <a:latin typeface="Comic Sans MS"/>
              </a:rPr>
              <a:t> http://zavuch.inf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8" descr="a19d42db2074.png"/>
          <p:cNvPicPr/>
          <p:nvPr/>
        </p:nvPicPr>
        <p:blipFill>
          <a:blip r:embed="rId3"/>
          <a:stretch/>
        </p:blipFill>
        <p:spPr>
          <a:xfrm>
            <a:off x="4071960" y="1571760"/>
            <a:ext cx="4351320" cy="423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В праздник Пасхи это разрешается делать всем желающ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000080" y="2421000"/>
            <a:ext cx="5732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еть в хра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000080" y="3500280"/>
            <a:ext cx="5659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Звонить в коло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1000080" y="4643280"/>
            <a:ext cx="735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ромко разговаривать в общественных мес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642960"/>
            <a:ext cx="782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есёлое передвижение детворы от дома к дому с пением особых песен в первые дни Пасхи называе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611280" y="404640"/>
            <a:ext cx="7705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785880" y="2852640"/>
            <a:ext cx="7500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Волочебный об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857160" y="4365720"/>
            <a:ext cx="6883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ечё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857160" y="5214960"/>
            <a:ext cx="7099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Коля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7580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есни волочебников (участников волочебного обхода) в старину называ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187280" y="476280"/>
            <a:ext cx="59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1042920" y="549360"/>
            <a:ext cx="7489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928800" y="2643120"/>
            <a:ext cx="6235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"Протяжным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928800" y="3786120"/>
            <a:ext cx="6019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"Великоденским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928800" y="5072040"/>
            <a:ext cx="4579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"Плясовым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23" descr="Рисунок1.jpg"/>
          <p:cNvPicPr/>
          <p:nvPr/>
        </p:nvPicPr>
        <p:blipFill>
          <a:blip r:embed="rId1"/>
          <a:stretch/>
        </p:blipFill>
        <p:spPr>
          <a:xfrm>
            <a:off x="-117360" y="0"/>
            <a:ext cx="92613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Как называется пьеса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П.И.Чайковского, изображающая картину церковного праздника?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971640" y="476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332000" y="2205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476360" y="486900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785880" y="2637000"/>
            <a:ext cx="7242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"Мам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85880" y="3643200"/>
            <a:ext cx="6665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"В церкв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785880" y="4857840"/>
            <a:ext cx="6954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"Нянина сказ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50:47Z</dcterms:created>
  <dc:creator>User</dc:creator>
  <dc:description/>
  <dc:language>en-US</dc:language>
  <cp:lastModifiedBy>Рабочий</cp:lastModifiedBy>
  <dcterms:modified xsi:type="dcterms:W3CDTF">2009-06-21T06:37:26Z</dcterms:modified>
  <cp:revision>36</cp:revision>
  <dc:subject/>
  <dc:title>Слайд 1</dc:title>
</cp:coreProperties>
</file>