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4.xml.rels" ContentType="application/vnd.openxmlformats-package.relationships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D3DC-DC78-4B8A-892A-32B55EB1C8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594B-28FC-467D-BB2B-9F949B3EE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D5A-BD1D-4E52-A9B4-0C1743F7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6EB-BAEA-4230-9403-3526731B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797E-8A9A-4611-8AE7-5A915D58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8669-54C4-4FEA-ABBB-8BF1EE51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54B-A7F1-4FC2-A51A-4A91B455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BEF-D5CA-4EEA-8BCB-87B48280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BA5-DCF6-4290-AEF9-77E061D1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277-0357-4643-8C89-5E27A5C2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EF3-4EA0-4313-B862-22712DE2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A67-2142-4B22-9356-23A34FCA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8C5-F4F0-4226-8AAB-04F4BA93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F3D-FC63-42F4-93AB-BE5C47A1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87F3-1200-4849-9D49-1A92C787C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1.xml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1.xml"/><Relationship Id="rId3" Type="http://schemas.openxmlformats.org/officeDocument/2006/relationships/slide" Target="slide23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3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2" descr="Рисунок1.jpg"/>
          <p:cNvPicPr/>
          <p:nvPr/>
        </p:nvPicPr>
        <p:blipFill>
          <a:blip r:embed="rId1"/>
          <a:stretch/>
        </p:blipFill>
        <p:spPr>
          <a:xfrm>
            <a:off x="0" y="-139680"/>
            <a:ext cx="9144000" cy="713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778644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</a:rPr>
              <a:t>«ПАСХАЛЬНОЕ УТРО»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omic Sans MS"/>
              </a:rPr>
              <a:t>и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3071880" y="1000080"/>
            <a:ext cx="2305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 flipH="1">
            <a:off x="5580000" y="112536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5" descr="bc33ffe28241.png"/>
          <p:cNvPicPr/>
          <p:nvPr/>
        </p:nvPicPr>
        <p:blipFill>
          <a:blip r:embed="rId2"/>
          <a:stretch/>
        </p:blipFill>
        <p:spPr>
          <a:xfrm>
            <a:off x="1357200" y="2214720"/>
            <a:ext cx="6591240" cy="362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5722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Как называют пасхальные яйца, крашеные в однородный цв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1332000" y="836640"/>
            <a:ext cx="74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785880" y="2428920"/>
            <a:ext cx="6018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Сюрпр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857160" y="3429000"/>
            <a:ext cx="59738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Краше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857160" y="5286240"/>
            <a:ext cx="6307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Матрё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24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Слово «благотворительность» означа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1042920" y="54936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1527120" y="281160"/>
            <a:ext cx="578160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928800" y="2286000"/>
            <a:ext cx="71722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Помощь  нуждающимся, больным, бед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928800" y="3860640"/>
            <a:ext cx="60195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Праздничный конце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1000080" y="5014800"/>
            <a:ext cx="61642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Подар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56800" y="85716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асхальная забава взрослых и дет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468360" y="1989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928800" y="2071800"/>
            <a:ext cx="7340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Тан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928800" y="3213000"/>
            <a:ext cx="6164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Леден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928800" y="4643280"/>
            <a:ext cx="7027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Кач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Какой музыкальный коллектив сопровождает пасхальную церковную служб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1000080" y="2928960"/>
            <a:ext cx="609300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Х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1000080" y="3857760"/>
            <a:ext cx="6164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Оркес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928800" y="4929120"/>
            <a:ext cx="6019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Ансамбль скрипач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24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2960" y="274680"/>
            <a:ext cx="804384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родолжите пословицу: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«После Пасхи  бабы в огород, а девки, парни в 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1332000" y="476280"/>
            <a:ext cx="71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1042920" y="2637000"/>
            <a:ext cx="6048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...хоро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116000" y="3935520"/>
            <a:ext cx="6048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...у  вор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116000" y="4941720"/>
            <a:ext cx="640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...на за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4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>
            <a:hlinkClick r:id="rId2" action="ppaction://hlinksldjump"/>
          </p:cNvPr>
          <p:cNvSpPr/>
          <p:nvPr/>
        </p:nvSpPr>
        <p:spPr>
          <a:xfrm>
            <a:off x="6858000" y="5429160"/>
            <a:ext cx="1224000" cy="1079640"/>
          </a:xfrm>
          <a:custGeom>
            <a:avLst/>
            <a:gdLst>
              <a:gd name="textAreaLeft" fmla="*/ 69840 w 1224000"/>
              <a:gd name="textAreaRight" fmla="*/ 1154160 w 12240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87" h="21600">
                <a:moveTo>
                  <a:pt x="0" y="0"/>
                </a:moveTo>
                <a:lnTo>
                  <a:pt x="24487" y="0"/>
                </a:lnTo>
                <a:lnTo>
                  <a:pt x="24487" y="21600"/>
                </a:lnTo>
                <a:lnTo>
                  <a:pt x="0" y="21600"/>
                </a:lnTo>
                <a:close/>
              </a:path>
              <a:path fill="lightenLess" w="24487" h="21600">
                <a:moveTo>
                  <a:pt x="0" y="0"/>
                </a:moveTo>
                <a:lnTo>
                  <a:pt x="24487" y="0"/>
                </a:lnTo>
                <a:lnTo>
                  <a:pt x="23087" y="1400"/>
                </a:lnTo>
                <a:lnTo>
                  <a:pt x="1400" y="1400"/>
                </a:lnTo>
                <a:close/>
              </a:path>
              <a:path fill="darken" w="24487" h="21600">
                <a:moveTo>
                  <a:pt x="24487" y="0"/>
                </a:moveTo>
                <a:lnTo>
                  <a:pt x="24487" y="21600"/>
                </a:lnTo>
                <a:lnTo>
                  <a:pt x="23087" y="20200"/>
                </a:lnTo>
                <a:lnTo>
                  <a:pt x="23087" y="1400"/>
                </a:lnTo>
                <a:close/>
              </a:path>
              <a:path fill="darkenLess" w="24487" h="21600">
                <a:moveTo>
                  <a:pt x="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7" y="20200"/>
                </a:lnTo>
                <a:close/>
              </a:path>
              <a:path fill="lighten" w="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7" h="21600">
                <a:moveTo>
                  <a:pt x="5237" y="3794"/>
                </a:moveTo>
                <a:lnTo>
                  <a:pt x="19250" y="10800"/>
                </a:lnTo>
                <a:lnTo>
                  <a:pt x="5237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5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>
            <a:hlinkClick r:id="rId2" action="ppaction://hlinksldjump"/>
          </p:cNvPr>
          <p:cNvSpPr/>
          <p:nvPr/>
        </p:nvSpPr>
        <p:spPr>
          <a:xfrm>
            <a:off x="6948360" y="5589720"/>
            <a:ext cx="1295640" cy="1008000"/>
          </a:xfrm>
          <a:custGeom>
            <a:avLst/>
            <a:gdLst>
              <a:gd name="textAreaLeft" fmla="*/ 65160 w 1295640"/>
              <a:gd name="textAreaRight" fmla="*/ 1230480 w 1295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7762" h="21600">
                <a:moveTo>
                  <a:pt x="0" y="0"/>
                </a:moveTo>
                <a:lnTo>
                  <a:pt x="27762" y="0"/>
                </a:lnTo>
                <a:lnTo>
                  <a:pt x="27762" y="21600"/>
                </a:lnTo>
                <a:lnTo>
                  <a:pt x="0" y="21600"/>
                </a:lnTo>
                <a:close/>
              </a:path>
              <a:path fill="lightenLess" w="27762" h="21600">
                <a:moveTo>
                  <a:pt x="0" y="0"/>
                </a:moveTo>
                <a:lnTo>
                  <a:pt x="27762" y="0"/>
                </a:lnTo>
                <a:lnTo>
                  <a:pt x="26362" y="1400"/>
                </a:lnTo>
                <a:lnTo>
                  <a:pt x="1400" y="1400"/>
                </a:lnTo>
                <a:close/>
              </a:path>
              <a:path fill="darken" w="27762" h="21600">
                <a:moveTo>
                  <a:pt x="27762" y="0"/>
                </a:moveTo>
                <a:lnTo>
                  <a:pt x="27762" y="21600"/>
                </a:lnTo>
                <a:lnTo>
                  <a:pt x="26362" y="20200"/>
                </a:lnTo>
                <a:lnTo>
                  <a:pt x="26362" y="1400"/>
                </a:lnTo>
                <a:close/>
              </a:path>
              <a:path fill="darkenLess" w="27762" h="21600">
                <a:moveTo>
                  <a:pt x="27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2" y="20200"/>
                </a:lnTo>
                <a:close/>
              </a:path>
              <a:path fill="lighten" w="27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2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71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>
            <a:hlinkClick r:id="" action="ppaction://hlinkshowjump?jump=firstslide"/>
          </p:cNvPr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91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2" descr="Рисунок1.jpg"/>
          <p:cNvPicPr/>
          <p:nvPr/>
        </p:nvPicPr>
        <p:blipFill>
          <a:blip r:embed="rId1"/>
          <a:stretch/>
        </p:blipFill>
        <p:spPr>
          <a:xfrm>
            <a:off x="0" y="-139680"/>
            <a:ext cx="9144000" cy="7137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11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ПРАВИЛА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Вашему вниманию предлагается  ряд  вопросов на тему православного праздника Пасхи, на каждый вопрос дано три варианта от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Выбирайте любой вариант – и  надпись скажет вам, правы вы или нет, чтобы продолжить игру – нажмите на зн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987640" y="263700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 flipH="1">
            <a:off x="5580000" y="112536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>
            <a:hlinkClick r:id="rId2" action="ppaction://hlinksldjump"/>
          </p:cNvPr>
          <p:cNvSpPr/>
          <p:nvPr/>
        </p:nvSpPr>
        <p:spPr>
          <a:xfrm>
            <a:off x="1285920" y="3857760"/>
            <a:ext cx="1357200" cy="1214280"/>
          </a:xfrm>
          <a:custGeom>
            <a:avLst/>
            <a:gdLst>
              <a:gd name="textAreaLeft" fmla="*/ 78480 w 1357200"/>
              <a:gd name="textAreaRight" fmla="*/ 1278720 w 1357200"/>
              <a:gd name="textAreaTop" fmla="*/ 78480 h 1214280"/>
              <a:gd name="textAreaBottom" fmla="*/ 1135800 h 1214280"/>
            </a:gdLst>
            <a:ahLst/>
            <a:rect l="textAreaLeft" t="textAreaTop" r="textAreaRight" b="textAreaBottom"/>
            <a:pathLst>
              <a:path w="24142" h="21600">
                <a:moveTo>
                  <a:pt x="0" y="0"/>
                </a:moveTo>
                <a:lnTo>
                  <a:pt x="24142" y="0"/>
                </a:lnTo>
                <a:lnTo>
                  <a:pt x="24142" y="21600"/>
                </a:lnTo>
                <a:lnTo>
                  <a:pt x="0" y="21600"/>
                </a:lnTo>
                <a:close/>
              </a:path>
              <a:path fill="lightenLess" w="24142" h="21600">
                <a:moveTo>
                  <a:pt x="0" y="0"/>
                </a:moveTo>
                <a:lnTo>
                  <a:pt x="24142" y="0"/>
                </a:lnTo>
                <a:lnTo>
                  <a:pt x="22742" y="1400"/>
                </a:lnTo>
                <a:lnTo>
                  <a:pt x="1400" y="1400"/>
                </a:lnTo>
                <a:close/>
              </a:path>
              <a:path fill="darken" w="24142" h="21600">
                <a:moveTo>
                  <a:pt x="24142" y="0"/>
                </a:moveTo>
                <a:lnTo>
                  <a:pt x="24142" y="21600"/>
                </a:lnTo>
                <a:lnTo>
                  <a:pt x="22742" y="20200"/>
                </a:lnTo>
                <a:lnTo>
                  <a:pt x="22742" y="1400"/>
                </a:lnTo>
                <a:close/>
              </a:path>
              <a:path fill="darkenLess" w="24142" h="21600">
                <a:moveTo>
                  <a:pt x="241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2" y="20200"/>
                </a:lnTo>
                <a:close/>
              </a:path>
              <a:path fill="lighten" w="241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2" h="21600">
                <a:moveTo>
                  <a:pt x="5064" y="3794"/>
                </a:moveTo>
                <a:lnTo>
                  <a:pt x="19077" y="10800"/>
                </a:lnTo>
                <a:lnTo>
                  <a:pt x="5064" y="17806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000240" y="3714840"/>
            <a:ext cx="5400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Он вас и «отведёт» на следующий вопрос. А потом снова выбирайте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Желаем успех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>
            <a:hlinkClick r:id="rId2" action="ppaction://hlinksldjump"/>
          </p:cNvPr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111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12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>
            <a:hlinkClick r:id="rId2" action="ppaction://hlinksldjump"/>
          </p:cNvPr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>
            <a:hlinkClick r:id="rId2" action="ppaction://hlinksldjump"/>
          </p:cNvPr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151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165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179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>
            <a:hlinkClick r:id="rId2" action="ppaction://hlinksldjump"/>
          </p:cNvPr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199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247320" cy="7143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Что означает слово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«ПАСХ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1714680" y="714240"/>
            <a:ext cx="78483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1357200" y="2143080"/>
            <a:ext cx="66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857160" y="2000160"/>
            <a:ext cx="594684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Возро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928800" y="3357720"/>
            <a:ext cx="4651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Слё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928800" y="4714920"/>
            <a:ext cx="443520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>
            <a:hlinkClick r:id="rId2" action="ppaction://hlinksldjump"/>
          </p:cNvPr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219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233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247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">
            <a:hlinkClick r:id="rId2" action="ppaction://hlinksldjump"/>
          </p:cNvPr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267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281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">
            <a:hlinkClick r:id="rId2" action="ppaction://hlinksldjump"/>
          </p:cNvPr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301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315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0" y="-360360"/>
            <a:ext cx="9247320" cy="7218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Символом православной Пасхи являет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1187280" y="404640"/>
            <a:ext cx="7242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1000080" y="2060640"/>
            <a:ext cx="68119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Праздничная  оде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1071720" y="3068640"/>
            <a:ext cx="63799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Крашеное яйц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1071720" y="4143240"/>
            <a:ext cx="6021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Тюльп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9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335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9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355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369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383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397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7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423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247320" cy="7072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Как называется традиционное пасхальное блюд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1403280" y="404640"/>
            <a:ext cx="6697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1000080" y="2286000"/>
            <a:ext cx="64515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Кул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1071720" y="3429000"/>
            <a:ext cx="50846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Б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1143000" y="4786200"/>
            <a:ext cx="58309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Печ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437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2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457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471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7" descr="Рисунок1.jpg"/>
          <p:cNvPicPr/>
          <p:nvPr/>
        </p:nvPicPr>
        <p:blipFill>
          <a:blip r:embed="rId2"/>
          <a:stretch/>
        </p:blipFill>
        <p:spPr>
          <a:xfrm>
            <a:off x="-95400" y="-214200"/>
            <a:ext cx="9239400" cy="72118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571680"/>
            <a:ext cx="5243400" cy="37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Игра закончена !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Вы справились со   всеми заданиями 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00040" y="5715000"/>
            <a:ext cx="82152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7f7f"/>
                </a:solidFill>
                <a:latin typeface="Comic Sans MS"/>
              </a:rPr>
              <a:t>в создании игры использован шаблон </a:t>
            </a:r>
            <a:r>
              <a:rPr b="1" lang="en-US" sz="1200" spc="-1" strike="noStrike">
                <a:solidFill>
                  <a:srgbClr val="7f7f7f"/>
                </a:solidFill>
                <a:latin typeface="Comic Sans MS"/>
              </a:rPr>
              <a:t> http://zavuch.inf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8" descr="a19d42db2074.png"/>
          <p:cNvPicPr/>
          <p:nvPr/>
        </p:nvPicPr>
        <p:blipFill>
          <a:blip r:embed="rId3"/>
          <a:stretch/>
        </p:blipFill>
        <p:spPr>
          <a:xfrm>
            <a:off x="4071960" y="1571760"/>
            <a:ext cx="4351320" cy="4232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В праздник Пасхи это разрешается делать всем желающ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1000080" y="2421000"/>
            <a:ext cx="5732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Петь в хра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1000080" y="3500280"/>
            <a:ext cx="5659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Звонить в коло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1000080" y="4643280"/>
            <a:ext cx="7358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Громко разговаривать в общественных мест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6800" y="642960"/>
            <a:ext cx="782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Весёлое передвижение детворы от дома к дому с пением особых песен в первые дни Пасхи называет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611280" y="404640"/>
            <a:ext cx="7705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785880" y="2852640"/>
            <a:ext cx="75009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Волочебный об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857160" y="4365720"/>
            <a:ext cx="68835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Вечё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857160" y="5214960"/>
            <a:ext cx="70995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Коля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24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7580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есни волочебников (участников волочебного обхода) в старину называл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187280" y="476280"/>
            <a:ext cx="59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1042920" y="549360"/>
            <a:ext cx="7489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928800" y="2643120"/>
            <a:ext cx="6235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"Протяжными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928800" y="3786120"/>
            <a:ext cx="6019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"Великоденскими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928800" y="5072040"/>
            <a:ext cx="4579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"Плясовыми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-117360" y="0"/>
            <a:ext cx="92613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Как называется пьеса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П.И.Чайковского, изображающая картину церковного праздника?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785880" y="2637000"/>
            <a:ext cx="7242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"Мам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785880" y="3643200"/>
            <a:ext cx="6665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"В церкви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785880" y="4857840"/>
            <a:ext cx="6954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"Нянина сказ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6:50:47Z</dcterms:created>
  <dc:creator>User</dc:creator>
  <dc:description/>
  <dc:language>en-US</dc:language>
  <cp:lastModifiedBy>Рабочий</cp:lastModifiedBy>
  <dcterms:modified xsi:type="dcterms:W3CDTF">2009-06-21T06:37:26Z</dcterms:modified>
  <cp:revision>36</cp:revision>
  <dc:subject/>
  <dc:title>Слайд 1</dc:title>
</cp:coreProperties>
</file>