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D77C-945C-4A20-8D70-18F109238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CFF5-8A68-4415-97B8-F1C5CAE0E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B019-A8EF-46D7-9C0E-C083B2593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C59F-24AF-499D-AE62-95FDFA011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A62F8E-C5F3-4E44-B88F-23DE26B32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11431D-C7F7-4711-8ED7-83406A802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75694F-6FBD-4E36-B78E-690E85122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DA6F9C-6AC1-491E-96DD-EA3F3BEC5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41A82E-8146-4538-918F-2EA21CF62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B20A81-0205-45CA-A4A9-C8A96C17F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C19919-8D61-4FF1-B526-CD40321E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20F7-3CE4-4A76-9D1A-F7BAA0A57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909A93-BE67-4488-9368-AB7D17E17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CB69EB-54E9-4E1D-A64B-9CDCB1A2D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2EC1C9-2271-4BA0-AA31-106D3E950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494D45-E9B0-42BD-B912-2774F8F67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50C152-8522-47EB-AEB3-C02CEB962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35DE-81C9-42E9-86A9-BA2CB66A1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EB29-F195-4B4F-9BA3-2CDA208AA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3F2B-5699-4AA6-A5FA-6D8EA66FD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5C28-DE42-4065-9FC1-FA6705724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D0B8-AE1E-4349-8CF9-45D50AEB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E04A-40C5-4818-98E5-7EA3CCE5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BD49-E5A0-4F01-BB1B-5A76A5B7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5788A-FCD6-4AC9-B853-FBAF1CB0B2A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9D500-5DE6-4287-84BE-4ECD13A77CC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Планирование деятельности педагога как условие повышения качества образования дошкольнико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4859280" y="4149720"/>
            <a:ext cx="428472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4292640"/>
            <a:ext cx="42498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втор: Юдникова Нина Никола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униципальное дошкольное образовательное учреждение общеразвивающего вида № 1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тарший воспитате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1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99640" y="2636640"/>
            <a:ext cx="727236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Благодарю за внимание!!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Качество дошкольного образования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как результат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характеризующий итоги социального развития ребенка в условиях ДО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как процесс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отражающий организацию и осуществление целенаправленного процесса воспитания и обучения в интересах личности на этапе дошкольного детст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ак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воспитательно-образовательную систему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которая функционирует как подсистема в системе непрерывного образования, как первоначальная ступень духовно-личностного становления и развития дошкольник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92360" y="333000"/>
            <a:ext cx="83008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Цель 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281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38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38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382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вышение качества воспитания, обучения и развития детей дошкольного возраста, полноценная подготовка их к обучению в школ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700"/>
                            </p:stCondLst>
                            <p:childTnLst>
                              <p:par>
                                <p:cTn id="2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Задачи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36280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азвитие познавательной активности, коммуникативных  и творческих способностей дошкольников, формирование основ базовой культуры личности на основе разнообразных видов детской деятельн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вышение эффективности образовательного процесса за счет внедрения новых технологий  проектирования воспитательной деятельн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азвитие способности осмысленного и творческого отношения педагогов  в процессу планирования и прогнозирования работы с деть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98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98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98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ринципы планирования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учет возрастных возможностей дошкольников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заимосвязь основных направлений развития ребенка (физического, познавательно-речевого, социально-личностного, художественно-эстетического) и видов детской деятель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следовательность и системность в развитии познания и овладения детьми способов познавательной деятель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еемственность запланированных де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азнообразие содержания и форм работы педагог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хема планирова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57200" y="981000"/>
          <a:ext cx="8229600" cy="519588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6314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иды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етской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еятельнос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сновные линии развития детей дошкольного возрас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изическое развит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знавательно-речевое развит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оциально-личностное развит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Художественно-эстетическое развит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7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гровая деятель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гры: подвижные ,спортивны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 элементами психогимнасти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идактические развивающие конструкти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ые игр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гры сюжетно-ролевые, строительны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узыкально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идактическ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еатрализ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анные игр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бразователь ная деятельность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тение мировой художественной литературы, произведения классиков, фолькло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9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еседы о ЗОЖ,ОБЖ, рассматривание иллюстра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блюдения в уголке природы, беседы рассматривание предметов 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итуации общения, рассматривание картин 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ассматривание, беседы  о предметах искусст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хема планирова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68360" y="907920"/>
          <a:ext cx="8229600" cy="591336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337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ультурно-досуговая деятель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аздни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изкультурный досу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нкурсы, викторины, КВН, тематические вечер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осуги на нравственную тематик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нцерты, муз.гостиные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еатрализованны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пытно-экспер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нтальная деятель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пыты, способствущие формированию ЗОЖ, ОБЖ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Эксперименты с живой и неживой природо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гры-эксперименты с окружающими предметам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пытническая деятельность с красками, музыко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рудовая деятель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абота по воспитанию культурно-гигиенических навык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руд в уголке природы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знакомление с трудом взрослы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амообслуживание. Дежурство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Хозяйственно-бытовой тру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учной труд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жидаемые результат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4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жидаемые  результа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формированность знаний, умений и навыков учебной деятельност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оявление любознательности в совместной деятельности со взрослыми, интереса к самостоятельному получению знан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пособность использовать имеющиеся знания в игровой, трудовой, экспериментальной деятель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оявление фантазии, творчества в самостоятельной деятель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спользование в речи активного словаря по тем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91600"/>
            <a:ext cx="821844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еимущества тематического планировани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96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беспечивается выполнение задач по основным направлениям развития детей, предусмотренные в Типовом положении о дошкольном образовательном учрежден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меющиеся системные знания используются дошкольниками в самостоятельной игровой, трудовой, экспериментальной и продуктивных видах деятельно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вышается  уровень  профессиональной компетентности педагогов в овладении современными подходами к процессу управления образовательным  процессо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1T11:27:33Z</dcterms:created>
  <dc:creator>USER</dc:creator>
  <dc:description/>
  <dc:language>en-US</dc:language>
  <cp:lastModifiedBy>home</cp:lastModifiedBy>
  <dcterms:modified xsi:type="dcterms:W3CDTF">2009-11-26T19:55:12Z</dcterms:modified>
  <cp:revision>38</cp:revision>
  <dc:subject/>
  <dc:title>Комплексная оценка экологического состояния территории пос. Юбилейный Оричевского района Кировской области</dc:title>
</cp:coreProperties>
</file>