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8394-A250-441B-8811-EB44D128C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4777-CFF8-4A0B-9C99-64E9828EC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586E-0687-48D4-B914-391D80563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E5E2-9E04-44F3-A0AA-9D4CD4A2C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8D2498-EFE3-4454-9AE0-711F4875A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FA0BDC-5C5D-4815-A11A-2AD8AB106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B59A68-5C1D-4D80-BE4C-BB7B51F35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F9E2B1-D85B-4690-AE8A-C966CA34D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F90E4B-498A-4A02-8340-BC970CC83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4771CF-D1C1-499D-9AD5-7C0D658A8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575F1E-3CA9-43BB-AA0A-037A6D1D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B5FB-A8C7-4DE9-A45B-DF3F580CE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E8DE57-E2A1-40EB-B7BB-27A6B9A7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B1CC41-2132-4CD8-8CD9-80C54DD1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1C1CD8-3EAC-4618-A7C9-0C63D3F42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8C3F4C-4904-4648-BF01-AC7A3920B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097E43-7301-42BA-8CA8-91542BBC2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C4BF-607E-4087-B667-339561C11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5461-4B67-4596-A6C3-BD6785AFD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7C47-5D37-4F2D-BF3F-C5364D3FC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65A7-70F4-49A3-AB51-FB4F9EFF1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C631-745B-4B42-8332-B79C4C0E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E795-D056-4D34-B799-C0FEE7A6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AF7A-477B-4E96-B4DA-37EF46EC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CD6A4-6C12-4FD2-9496-1231ABA3F87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CA18B-C87E-4331-99A9-8AD827F8DBC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Планирование деятельности педагога как условие повышения качества образования дошкольнико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4859280" y="4149720"/>
            <a:ext cx="428472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4292640"/>
            <a:ext cx="42498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втор: Юдникова Нина Никола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униципальное дошкольное образовательное учреждение общеразвивающего вида № 1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тарший воспитат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1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99640" y="2636640"/>
            <a:ext cx="727236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Благодарю за внимание!!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Качество дошкольного образования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как результат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характеризующий итоги социального развития ребенка в условиях ДО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как процесс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отражающий организацию и осуществление целенаправленного процесса воспитания и обучения в интересах личности на этапе дошкольного детст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ак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воспитательно-образовательную систему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которая функционирует как подсистема в системе непрерывного образования, как первоначальная ступень духовно-личностного становления и развития дошкольник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92360" y="333000"/>
            <a:ext cx="83008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Цель 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281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8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38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382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вышение качества воспитания, обучения и развития детей дошкольного возраста, полноценная подготовка их к обучению в школ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700"/>
                            </p:stCondLst>
                            <p:childTnLst>
                              <p:par>
                                <p:cTn id="2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Задачи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36280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азвитие познавательной активности, коммуникативных  и творческих способностей дошкольников, формирование основ базовой культуры личности на основе разнообразных видов детской деятель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вышение эффективности образовательного процесса за счет внедрения новых технологий  проектирования воспитательной деятель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азвитие способности осмысленного и творческого отношения педагогов  в процессу планирования и прогнозирования работы с деть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98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98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98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ринципы планирования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чет возрастных возможностей дошкольнико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заимосвязь основных направлений развития ребенка (физического, познавательно-речевого, социально-личностного, художественно-эстетического) и видов детской деятель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следовательность и системность в развитии познания и овладения детьми способов познавательной деятель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еемственность запланированных де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азнообразие содержания и форм работы педагог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хема планирова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57200" y="981000"/>
          <a:ext cx="8229600" cy="519588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6314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иды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етской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еятельно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сновные линии развития детей дошкольного возрас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изическое развит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знавательно-речевое развит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циально-личностное развит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удожественно-эстетическое развит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7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гровая деятель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гры: подвижные ,спортивны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 элементами психогимнасти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идактические развивающие конструкти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ые игр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гры сюжетно-ролевые, строительны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узыкально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идактическ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еатрализ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анные игр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бразователь ная деятельность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тение мировой художественной литературы, произведения классиков, фолькло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9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еседы о ЗОЖ,ОБЖ, рассматривание иллюстр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блюдения в уголке природы, беседы рассматривание предметов 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итуации общения, рассматривание картин 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ассматривание, беседы  о предметах искусст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хема планирова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68360" y="907920"/>
          <a:ext cx="8229600" cy="591336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33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ультурно-досуговая деятель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аздни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изкультурный досу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нкурсы, викторины, КВН, тематические вечер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осуги на нравственную тематик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нцерты, муз.гостиные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еатрализованны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пытно-экспер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нтальная деятель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пыты, способствущие формированию ЗОЖ, ОБЖ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Эксперименты с живой и неживой природо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гры-эксперименты с окружающими предметам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пытническая деятельность с красками, музыко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рудовая деятель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абота по воспитанию культурно-гигиенических навык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руд в уголке природы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знакомление с трудом взрослы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амообслуживание. Дежурство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озяйственно-бытовой тру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учной труд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жидаемые результат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4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жидаемые  результа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формированность знаний, умений и навыков учебной деятельност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явление любознательности в совместной деятельности со взрослыми, интереса к самостоятельному получению зна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пособность использовать имеющиеся знания в игровой, трудовой, экспериментальной деятель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явление фантазии, творчества в самостоятельной деятель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спользование в речи активного словаря по тем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91600"/>
            <a:ext cx="821844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еимущества тематического планировани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беспечивается выполнение задач по основным направлениям развития детей, предусмотренные в Типовом положении о дошкольном образовательном учрежден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меющиеся системные знания используются дошкольниками в самостоятельной игровой, трудовой, экспериментальной и продуктивных видах деятель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вышается  уровень  профессиональной компетентности педагогов в овладении современными подходами к процессу управления образовательным  процесс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1T11:27:33Z</dcterms:created>
  <dc:creator>USER</dc:creator>
  <dc:description/>
  <dc:language>en-US</dc:language>
  <cp:lastModifiedBy>home</cp:lastModifiedBy>
  <dcterms:modified xsi:type="dcterms:W3CDTF">2009-11-26T19:55:12Z</dcterms:modified>
  <cp:revision>38</cp:revision>
  <dc:subject/>
  <dc:title>Комплексная оценка экологического состояния территории пос. Юбилейный Оричевского района Кировской области</dc:title>
</cp:coreProperties>
</file>