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93B-3442-4E64-89CA-E6890FC9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089-0024-4EFB-9A31-AC30DFA6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9AE-7DFF-4627-9BFE-DB57A900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B90-4FF2-41F5-91AB-E5D182D1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5204-CF3F-4A07-A46A-84E22AB1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5664-A638-4A3E-B6CB-06D3A08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B9DC-C884-46CF-845F-31A0CE10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2D46-7AF8-4B87-B291-84564F15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649B-813B-46C5-A7B1-AAB218F4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9E85-DE10-4902-AD54-36889358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C08D-A593-4759-9057-D677C3FD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8DF-6A7D-4DFE-A16A-DF6840D7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00FA-F881-4AD4-8BC9-86EB9F15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FBB9-07EA-4744-8ED7-6DDD4C0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D11C-E0D7-4EBD-8505-1B1F0DED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DDD2-12F9-4101-973F-2A4DCCEE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AD0B-21C2-4EA9-B465-CE06AA24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1CD-4AC3-4F56-8AA3-47A3E738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B65-10FA-4234-B6BC-EE9EAE2C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BC0-5E21-4967-BFF5-1243D2CA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B54-9B66-4D8D-B8BD-3A843D4D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EC4-97CB-4664-B184-6A3EFE60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27B-C818-4957-82AF-429DEA1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567-2AD9-49B0-B6CC-350CD5A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8293-E141-40AB-98A9-53044B93968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A40B-66DE-4584-B2DE-74396FF05EC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395280" y="184644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1042920" y="1844640"/>
            <a:ext cx="7489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Создание художественного образа народного героя-богатыря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617840" y="2960640"/>
            <a:ext cx="7380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Познакомить с былинным </a:t>
            </a:r>
            <a:r>
              <a:rPr b="0" lang="en-US" sz="2000" spc="-1" strike="noStrike">
                <a:solidFill>
                  <a:srgbClr val="2f5897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творчеством </a:t>
            </a:r>
            <a:r>
              <a:rPr b="0" lang="en-US" sz="2000" spc="-1" strike="noStrike">
                <a:solidFill>
                  <a:srgbClr val="2f5897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русского </a:t>
            </a:r>
            <a:r>
              <a:rPr b="0" lang="en-US" sz="2000" spc="-1" strike="noStrike">
                <a:solidFill>
                  <a:srgbClr val="2f5897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народ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Проверить знания на усвоение нового материала через викторину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Создание былинного образа красками на бумаг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4040" y="620640"/>
            <a:ext cx="626256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Занятие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 u="sng">
                <a:solidFill>
                  <a:srgbClr val="2f5897"/>
                </a:solidFill>
                <a:uFillTx/>
                <a:latin typeface="Palatino Linotype"/>
              </a:rPr>
              <a:t>«Никита Кожемяка»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324000" y="1773360"/>
            <a:ext cx="1008000" cy="504720"/>
          </a:xfrm>
          <a:prstGeom prst="cube">
            <a:avLst>
              <a:gd name="adj" fmla="val 1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Ц</a:t>
            </a:r>
            <a:r>
              <a:rPr b="0" lang="ru-RU" sz="3000" spc="-1" strike="noStrike">
                <a:solidFill>
                  <a:srgbClr val="c00000"/>
                </a:solidFill>
                <a:latin typeface="Garamond"/>
              </a:rPr>
              <a:t>ель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250920" y="2852640"/>
            <a:ext cx="1366920" cy="503280"/>
          </a:xfrm>
          <a:prstGeom prst="cube">
            <a:avLst>
              <a:gd name="adj" fmla="val 1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З</a:t>
            </a:r>
            <a:r>
              <a:rPr b="0" lang="ru-RU" sz="3000" spc="-1" strike="noStrike">
                <a:solidFill>
                  <a:srgbClr val="c00000"/>
                </a:solidFill>
                <a:latin typeface="Garamond"/>
              </a:rPr>
              <a:t>адачи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324000" y="4976640"/>
            <a:ext cx="1511280" cy="503280"/>
          </a:xfrm>
          <a:prstGeom prst="cube">
            <a:avLst>
              <a:gd name="adj" fmla="val 1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итатель</a:t>
            </a:r>
            <a:r>
              <a:rPr b="0" lang="ru-RU" sz="3000" spc="-1" strike="noStrike">
                <a:solidFill>
                  <a:srgbClr val="c00000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1706400" y="4976640"/>
            <a:ext cx="691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2f5897"/>
                </a:solidFill>
                <a:latin typeface="Garamond"/>
              </a:rPr>
              <a:t>Мудрицкая Н.Н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Построение фигуры человек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00000" y="1184400"/>
            <a:ext cx="3578400" cy="4836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932360" y="1179360"/>
            <a:ext cx="3565440" cy="484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Построение фигуры человек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39640" y="1282680"/>
            <a:ext cx="3944880" cy="4967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959360" y="1268280"/>
            <a:ext cx="3716280" cy="499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0074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азновидности палиц (булав)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9" name="Picture 5" descr="shop_items_catalog_image1209"/>
          <p:cNvPicPr/>
          <p:nvPr/>
        </p:nvPicPr>
        <p:blipFill>
          <a:blip r:embed="rId1"/>
          <a:stretch/>
        </p:blipFill>
        <p:spPr>
          <a:xfrm>
            <a:off x="755640" y="1557360"/>
            <a:ext cx="755028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70480" y="3860640"/>
            <a:ext cx="28735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Никита Кожемяка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5875200" cy="591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7640" y="1628280"/>
            <a:ext cx="2208240" cy="463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Долго ли, коротко ли бился с змеем Никита Кожемяка, только повалил змея...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5424480" cy="5730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Сделал Никита соху в триста пуд, запряг в нее змея, да и стал от Киева межу пропахивать…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2" name="Picture 28" descr="zmievi_val1"/>
          <p:cNvPicPr/>
          <p:nvPr/>
        </p:nvPicPr>
        <p:blipFill>
          <a:blip r:embed="rId1"/>
          <a:stretch/>
        </p:blipFill>
        <p:spPr>
          <a:xfrm>
            <a:off x="468360" y="258840"/>
            <a:ext cx="6904080" cy="550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1"/>
          <p:cNvSpPr/>
          <p:nvPr/>
        </p:nvSpPr>
        <p:spPr>
          <a:xfrm>
            <a:off x="5508720" y="2492280"/>
            <a:ext cx="3456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897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2f5897"/>
                </a:solidFill>
                <a:latin typeface="Garamond"/>
              </a:rPr>
              <a:t>Взъехал змей на середину моря, Никита Кожемяка убил и утопил его в мор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00" descr="Никита Кожемяка"/>
          <p:cNvPicPr/>
          <p:nvPr/>
        </p:nvPicPr>
        <p:blipFill>
          <a:blip r:embed="rId1"/>
          <a:srcRect l="1837" t="0" r="0" b="0"/>
          <a:stretch/>
        </p:blipFill>
        <p:spPr>
          <a:xfrm>
            <a:off x="826920" y="404640"/>
            <a:ext cx="406728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360" y="1440"/>
            <a:ext cx="7344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Palatino Linotype"/>
              </a:rPr>
              <a:t>Викторина </a:t>
            </a:r>
            <a:r>
              <a:rPr b="0" lang="ru-RU" sz="3600" spc="-1" strike="noStrike" u="sng">
                <a:solidFill>
                  <a:srgbClr val="3399ff"/>
                </a:solidFill>
                <a:uFillTx/>
                <a:latin typeface="Palatino Linotype"/>
              </a:rPr>
              <a:t>«Никита Кожемяка»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7200" y="907920"/>
            <a:ext cx="72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1. "Скоро сказка сказывается, да не скоро..." Что дальше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627280" y="5300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 Змеем Горыныче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611280" y="2781360"/>
            <a:ext cx="158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узнецо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784600" y="4070520"/>
            <a:ext cx="1860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сед Ерёма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5030640" y="1763640"/>
            <a:ext cx="22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ело делаетс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916360" y="169056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ука мелетс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28560" y="179244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аша варитс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498600" y="2050920"/>
            <a:ext cx="4865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16000" indent="-2160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2. Кем был по профессии Никита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057480" y="2852640"/>
            <a:ext cx="1298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Гончаро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081760" y="2781360"/>
            <a:ext cx="143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ожемяко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210280" y="4141800"/>
            <a:ext cx="86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рузья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623880" y="407664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Царь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395280" y="5300640"/>
            <a:ext cx="2089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 Бабой Яго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5219640" y="52959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 Кощеем Бессмертны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352440" y="4689360"/>
            <a:ext cx="5327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5897"/>
                </a:solidFill>
                <a:latin typeface="Garamond"/>
              </a:rPr>
              <a:t>   </a:t>
            </a: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4. Царь отправил Никиту воевать…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95280" y="3382920"/>
            <a:ext cx="5765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5897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3. Кто послал Никиту Кожемяку сражаться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Line 51"/>
          <p:cNvSpPr/>
          <p:nvPr/>
        </p:nvSpPr>
        <p:spPr>
          <a:xfrm>
            <a:off x="7956720" y="5877000"/>
            <a:ext cx="40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Line 53"/>
          <p:cNvSpPr/>
          <p:nvPr/>
        </p:nvSpPr>
        <p:spPr>
          <a:xfrm>
            <a:off x="7956720" y="6180120"/>
            <a:ext cx="40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Line 69"/>
          <p:cNvSpPr/>
          <p:nvPr/>
        </p:nvSpPr>
        <p:spPr>
          <a:xfrm>
            <a:off x="7956720" y="58770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Line 77"/>
          <p:cNvSpPr/>
          <p:nvPr/>
        </p:nvSpPr>
        <p:spPr>
          <a:xfrm flipH="1">
            <a:off x="8361000" y="5877000"/>
            <a:ext cx="2700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468360" y="958680"/>
            <a:ext cx="35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верх рубахи обвязался веревкам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260280"/>
            <a:ext cx="7448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</a:rPr>
              <a:t>5.  В какой одежде Никита Кожемяка отправился сражаться 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65280" y="3843360"/>
            <a:ext cx="35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евочку-сиротк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38200" y="3141720"/>
            <a:ext cx="40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</a:rPr>
              <a:t>7.  Кого спас Никита Кожемяка?</a:t>
            </a:r>
            <a:r>
              <a:rPr b="0" lang="ru-RU" sz="2000" spc="-1" strike="noStrike">
                <a:solidFill>
                  <a:srgbClr val="2f589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60520" y="4387680"/>
            <a:ext cx="43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marL="481320" indent="-4813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8.  Сколько лап у Змея Горыныча?</a:t>
            </a:r>
            <a:r>
              <a:rPr b="0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73280" y="49244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в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372360" y="95724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дел одну рубах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4332240" y="957240"/>
            <a:ext cx="1919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дел кольчуг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419640" y="389880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альчика малолетк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2484360" y="4932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Четыр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881600" y="48895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р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6372360" y="3827520"/>
            <a:ext cx="45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очь  царя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5120" y="1699920"/>
            <a:ext cx="80852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6.  Каким способом Никита Кожемяка отправился воевать?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8200" y="2349000"/>
            <a:ext cx="3024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хал на коне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Rectangle 58"/>
          <p:cNvSpPr/>
          <p:nvPr/>
        </p:nvSpPr>
        <p:spPr>
          <a:xfrm>
            <a:off x="2787480" y="2349360"/>
            <a:ext cx="3743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шел пешко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Rectangle 59"/>
          <p:cNvSpPr/>
          <p:nvPr/>
        </p:nvSpPr>
        <p:spPr>
          <a:xfrm>
            <a:off x="4859280" y="2349360"/>
            <a:ext cx="338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ехал на велосипед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60520" y="5335560"/>
            <a:ext cx="741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5897"/>
                </a:solidFill>
                <a:latin typeface="Garamond"/>
              </a:rPr>
              <a:t>9</a:t>
            </a:r>
            <a:r>
              <a:rPr b="1" lang="ru-RU" sz="2000" spc="-1" strike="noStrike">
                <a:solidFill>
                  <a:srgbClr val="2f5897"/>
                </a:solidFill>
                <a:latin typeface="Garamond"/>
              </a:rPr>
              <a:t>. "Я там был, мёд, пиво пил, по усам текло - ..." Что дальше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812880" y="595008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 в рот не попал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146400" y="5950080"/>
            <a:ext cx="30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афтан намочил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5800680" y="5950080"/>
            <a:ext cx="30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осыта напилс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Построение фигуры человек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Picture 3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909960" cy="489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6" descr=""/>
          <p:cNvPicPr/>
          <p:nvPr/>
        </p:nvPicPr>
        <p:blipFill>
          <a:blip r:embed="rId2"/>
          <a:stretch/>
        </p:blipFill>
        <p:spPr>
          <a:xfrm>
            <a:off x="4859280" y="1357200"/>
            <a:ext cx="386892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Построение фигуры человек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90600" y="1341360"/>
            <a:ext cx="3960720" cy="4641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859280" y="1398600"/>
            <a:ext cx="406872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3:55:13Z</dcterms:created>
  <dc:creator>Sergey</dc:creator>
  <dc:description/>
  <dc:language>en-US</dc:language>
  <cp:lastModifiedBy>XTreme.ws</cp:lastModifiedBy>
  <dcterms:modified xsi:type="dcterms:W3CDTF">2015-01-30T19:57:26Z</dcterms:modified>
  <cp:revision>103</cp:revision>
  <dc:subject/>
  <dc:title>Былинные врем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