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41D96-61E0-4754-B8C3-66F1FD2B3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7C182-D4EF-4853-A416-8176A51B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1297A-5B71-4F54-B196-34EA248308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83F3D-2A97-4C9B-AF55-3D01494183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80646-A2AF-4909-A3AF-4A2216DF31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B29E4-D784-4495-BAA8-75BECDA682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22F28D-ACB3-4F02-A262-D2D4466BE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0FD20-56AB-49BF-9A3C-AAA564DA0E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363B8-07FB-4569-9954-7745DFF1CD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564ECE-5855-4432-B788-B7BF43C8CC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ABDB8A-FFDC-425F-8FDF-2FC7D27F7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031A32-8F20-4EE5-9986-16429890EC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A63F7-7C59-4BAE-8BEC-07715C5E1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F30758-367E-4E6B-9482-9095C17D80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570A8F-649C-4810-8415-559D7B4BAD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74D0DC-5E03-41BF-96EE-AA2E2F874E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A75C00-D87A-446F-884B-3D10F27871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51A126-3A2A-4154-9AEF-FFDB329D04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6AF25D-D788-4658-802F-499C22782E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90342F-A8E5-49FA-A2CB-DD3B4880F6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3781C8-E94E-459F-B970-706113AD4C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88BA94-E79A-4714-AB23-31C9353C4B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E177D9-AD1A-4CC9-8CF8-68C742E590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16BE-C8AC-45C9-B06B-788023780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ACAD96-DA28-41AC-A331-137DB107C9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7FEEA5-1E1E-444F-BD46-032C8D61EB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76062C-FCBF-4ACF-9DD1-0E3A4F782D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3B8031-5A94-4478-BE17-2FC2C8B454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483DFF-EB4F-4B6A-AA49-54C63C86EE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8B3B06-BCB5-4CD2-87E6-8AEA0D3207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5D3003-C5A8-41DB-BECC-EC32A719F4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98D28-D552-4450-85CF-F9A03AA8A8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AB0A81-C091-4C17-9577-76CB85D537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81F571-F586-4300-B6AB-CEB9AFAEAA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9BC0D-E47D-488E-A57A-10850E81E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45B539-5E30-4D57-BB5E-E813D2ED54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A6C92D-8758-4769-990C-5114184C08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111D41-1659-42DE-BB0B-60B1868EEA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3EDFA9F-6C30-412C-9167-11DC9883AE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2D68AE-C18B-4925-BE71-69353843E4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A045B0-029A-4855-9F2F-0B3B1DC1D4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14520E-2482-41BE-A2DA-3347C97AE7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97A402-B8C5-4B25-A42B-339393FFFD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E000B3-431A-4AD2-AEA8-D33EDE7430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186255-3E1B-4D7F-A594-ABC0DE398F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F7825-2C97-4D4B-B3D9-9AE876FCD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B73E29-28DB-427D-8591-3271A72689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2D453F-AC1C-43C4-8AE1-3926E7E520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C506D9-99D5-412B-BEFE-06CC2BDD4C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68E09F-654C-4E24-A9CE-A8B6065592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8ED4F9-0A20-408F-B25E-6CCE1E37EC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E7E1F-16FB-4C7D-A05C-F848EB5C7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2F64C-B051-49AF-9B64-24E35398F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02CC-09B4-4D22-887E-223F87617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76F0E-2C17-40B0-82E3-AB418E48D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5DCF7-BCFD-450F-B7DA-24BC2070F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6642-1040-4FDD-A09D-EB2C9CA5D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38500-84DD-47B4-B03A-67869826B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A84FA-DE84-47DF-A2EB-571C9321C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15BE4-CD14-4977-8D83-62E8FB550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2FA23-9AF0-4067-A565-9FAF2EAD9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B7935-324E-42E5-9542-57FAAF4D9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2FED3A-842C-4258-9FD1-B22AAD03F3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C1999-A38B-42BF-8387-D17E71532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30A6F-66C9-4625-BB93-823E2C63C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5E4CC-53FB-4A50-A718-2C149F092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A1B3D-3A17-4EA7-888A-60CD84E46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2425B-CC0D-40FF-B7F6-337A50469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60D15-6F75-4743-87B6-D31326309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B6C32-C279-4BAC-A28B-CD4BDED19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D7ED8-E45E-4040-8F36-320A19BF0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5C4A3-C42E-4163-8424-51F381428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9907B-2F05-4B72-A8BA-C17C3102B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1DD151-AFEC-4500-A08E-FCA7C3D10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8409D-6AE8-4183-B5C4-37ADE5E59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DA322-8436-4229-A11B-2CEAB2546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40FE7-97B8-4083-85F8-0CB86C159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7331E-2A97-4DB4-AA4C-1724225A2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C40A7-D459-4971-B460-B1B17B55B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E1DB26-2AEC-4137-A956-A91C62264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0AF1C-129F-4DCA-B656-21357802D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F62EB4-B364-440B-B2E6-708D874CD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9DE08-DDBF-443B-9B24-62C1C2C60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40134-F2CB-4F50-B8AF-E08D4164A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CE037-FA44-4322-8636-6A263850A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889AD-A62A-44E1-BC55-DFD843B3E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7C933-9962-4891-9255-F39B97A5C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6CDE6-165E-4292-A26D-9B5A2688A1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E2F0C7-53FA-4424-BE2F-39FFE1D9F8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1854-C229-4BCD-871F-A964201A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36E17-53E0-40DD-9FB6-1EBFFEB90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1C3F8-2308-435B-916D-429A920CB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644FA-9311-4174-8949-F4DD86A08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239873-8AA0-4C27-8408-870C83E8E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A632A-EFBA-4244-8502-64EB2AD5E7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EAB4C-EDDF-4239-BC89-3B46D9FC3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464B1-A08D-46F3-A678-590C688C7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D8DF9-DD1F-4917-A9C2-73BB3F4E4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C780F-B3C8-433C-B757-18372EAB0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6FE28-2B34-4C6A-A717-9A4E11074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62210-C58E-48BE-AA60-66B28E70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41AAF0-0BD0-4F9B-9D08-A7AF2FBD90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336B46-CD0F-4472-9566-CC1F953EBC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B3D88-AC7A-42B5-87BA-781A4A2ED7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C6D56-0403-4977-B8B3-C2EEADFC6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56C5B-CEE0-4C72-8656-0E7EAF0FA0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615F66-1237-4F69-A721-C8A7D655D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1D262-E8C3-470F-B7C3-BA5B50988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ADF20-C36A-441F-BD11-6EE58DFC7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8815C-48DC-44CE-AA56-690C010BD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72F74-102B-46B0-B84B-5187D15C0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7FC4-45BF-4AB6-9CD1-FE5814AC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78271-8EEC-48B5-AD37-0C95D1FC56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5CE8C-651A-47F9-9DD4-513BCE2E7E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95516C-08F6-44D8-9DF5-CF79EA95AA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21B67F-F76D-428B-93D9-FDB2E98E18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D1D54-4AC1-434B-A0A7-F0AF11525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B8449-5DBD-41EC-8E91-CD0B69886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B93B9-9117-4982-BCC0-6402C207B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04D47-7DCA-4510-8CCA-9DD57595B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66B84-87FB-4973-898E-C8C926F4D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81674-45C9-49C1-9D96-F70EF5F5D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5025-E1C1-49A0-85DF-23F85EBE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7808D-6602-450D-A3B6-EBB194887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2D0AD-9141-41C5-BA01-D19F9E49A8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4100D-6745-4B3E-8F3B-B378A8D1C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9BF63A-2A13-433D-8EA9-FF91D345CB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8275E-C15F-4963-A988-3567C400E8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35E883-AD63-4DAF-9B6E-09F987E3A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3EEEF-BB4A-4085-9AD8-0A9732AC60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95690-3A4A-470F-870D-0A821829C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017C8-241C-4EEE-8415-6E6F6CAB1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B8F365-40D4-43AB-9F8E-C03A06013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7BE7-6275-4CAC-8D2B-6E10360E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E71D5B-E76D-46E1-8CE9-4E631016C5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2BD00-DCF7-4588-838F-D0D8C2FC4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3DBDE-6B1D-488F-A7B7-71E57E668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7353C-6442-464F-8325-F42FA745F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A880F-9668-4304-A83E-8129939C2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9F4771-5865-4661-BF61-CC9BDC604A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27E2EC-E72D-4370-925B-4B920FD0C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EB6B44-CA85-4C40-A2B6-7E4EBDF7A7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D63911-B994-49A1-A387-71EE94D65A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CB7FBA-0129-47C9-891A-792EFD5A64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90DD-763C-4358-9FFA-8B4D849FFB88}"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92AB-6B13-44C1-8CD2-2342DEED7CFC}"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B364-B7C4-4C60-A74E-E2A3E23A3687}"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DC27-B55C-48B2-ADFD-0C6A6D67329E}"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B80D-32B9-4FDD-B259-36ED5950CA4F}"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180F-7377-4035-BA33-D5ADAF4ABA4B}"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7BDA-764F-4E19-96EC-AD6D1E953D09}"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F690-6DDE-4605-9301-0BE37696B3E4}"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E878-BB2F-4ECD-8206-4C0017598DD2}"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AF88-25C9-44E8-B480-7C2BCC992E62}"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D10E-155F-4D10-9561-78FAE657332D}"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B827-70A8-4C79-945E-B3B9CD902074}" type="slidenum">
              <a:rPr b="0" lang="ru-RU"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5480" y="1643040"/>
            <a:ext cx="864396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ru-RU" sz="4000" spc="-1" strike="noStrike">
                <a:solidFill>
                  <a:srgbClr val="000000"/>
                </a:solidFill>
                <a:latin typeface="BatangChe"/>
                <a:ea typeface="BatangChe"/>
              </a:rPr>
              <a:t>ЖИВОТНЫЕ ЛЕСА </a:t>
            </a:r>
            <a:br>
              <a:rPr sz="4000"/>
            </a:br>
            <a:br>
              <a:rPr sz="4000"/>
            </a:br>
            <a:r>
              <a:rPr b="0" i="1" lang="ru-RU" sz="4000" spc="-1" strike="noStrike">
                <a:solidFill>
                  <a:srgbClr val="000000"/>
                </a:solidFill>
                <a:latin typeface="Trebuchet MS"/>
              </a:rPr>
              <a:t>                   </a:t>
            </a:r>
            <a:r>
              <a:rPr b="0" i="1" lang="ru-RU" sz="1800" spc="-1" strike="noStrike">
                <a:solidFill>
                  <a:srgbClr val="000000"/>
                </a:solidFill>
                <a:latin typeface="Trebuchet MS"/>
              </a:rPr>
              <a:t>выполнил:</a:t>
            </a:r>
            <a:r>
              <a:rPr b="0" i="1" lang="ru-RU" sz="4000" spc="-1" strike="noStrike">
                <a:solidFill>
                  <a:srgbClr val="000000"/>
                </a:solidFill>
                <a:latin typeface="Trebuchet MS"/>
              </a:rPr>
              <a:t> </a:t>
            </a:r>
            <a:r>
              <a:rPr b="0" i="1" lang="ru-RU" sz="1600" spc="-1" strike="noStrike">
                <a:solidFill>
                  <a:srgbClr val="000000"/>
                </a:solidFill>
                <a:latin typeface="Trebuchet MS"/>
              </a:rPr>
              <a:t>ученик 4-а класса школы №229</a:t>
            </a:r>
            <a:br>
              <a:rPr sz="1600"/>
            </a:br>
            <a:r>
              <a:rPr b="0" i="1" lang="ru-RU" sz="1600" spc="-1" strike="noStrike">
                <a:solidFill>
                  <a:srgbClr val="000000"/>
                </a:solidFill>
                <a:latin typeface="Trebuchet MS"/>
              </a:rPr>
              <a:t>                                                                                        ИНКИН НИКИТА</a:t>
            </a:r>
            <a:br>
              <a:rPr sz="4000"/>
            </a:br>
            <a:br>
              <a:rPr sz="4000"/>
            </a:br>
            <a:br>
              <a:rPr sz="4000"/>
            </a:br>
            <a:endParaRPr b="0" lang="en-US" sz="1600" spc="-1" strike="noStrike">
              <a:solidFill>
                <a:srgbClr val="000000"/>
              </a:solidFill>
              <a:latin typeface="Trebuchet MS"/>
            </a:endParaRPr>
          </a:p>
        </p:txBody>
      </p:sp>
      <p:sp>
        <p:nvSpPr>
          <p:cNvPr id="493" name="PlaceHolder 2"/>
          <p:cNvSpPr>
            <a:spLocks noGrp="1"/>
          </p:cNvSpPr>
          <p:nvPr>
            <p:ph type="subTitle"/>
          </p:nvPr>
        </p:nvSpPr>
        <p:spPr>
          <a:xfrm>
            <a:off x="214200" y="5000400"/>
            <a:ext cx="8715600" cy="121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BatangChe"/>
                <a:ea typeface="BatangChe"/>
              </a:rPr>
              <a:t>г. Санкт-Петербург</a:t>
            </a:r>
            <a:endParaRPr b="0" lang="en-US" sz="1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BatangChe"/>
                <a:ea typeface="BatangChe"/>
              </a:rPr>
              <a:t>2011 г.</a:t>
            </a:r>
            <a:endParaRPr b="0" lang="en-US" sz="1200" spc="-1" strike="noStrike">
              <a:solidFill>
                <a:srgbClr val="000000"/>
              </a:solidFill>
              <a:latin typeface="Trebuchet MS"/>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4" name="TextBox 3"/>
          <p:cNvSpPr/>
          <p:nvPr/>
        </p:nvSpPr>
        <p:spPr>
          <a:xfrm>
            <a:off x="1908000" y="404640"/>
            <a:ext cx="574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tangChe"/>
                <a:ea typeface="BatangChe"/>
              </a:rPr>
              <a:t>Средняя школа  №229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atangChe"/>
                <a:ea typeface="BatangChe"/>
              </a:rPr>
              <a:t>г. Санкт-Петербурга</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1000"/>
                                        <p:tgtEl>
                                          <p:spTgt spid="494"/>
                                        </p:tgtEl>
                                      </p:cBhvr>
                                    </p:animEffect>
                                    <p:anim calcmode="lin" valueType="num">
                                      <p:cBhvr additive="repl">
                                        <p:cTn id="8" dur="1000" fill="hold"/>
                                        <p:tgtEl>
                                          <p:spTgt spid="494"/>
                                        </p:tgtEl>
                                        <p:attrNameLst>
                                          <p:attrName>ppt_x</p:attrName>
                                        </p:attrNameLst>
                                      </p:cBhvr>
                                      <p:tavLst>
                                        <p:tav tm="0">
                                          <p:val>
                                            <p:strVal val="#ppt_x"/>
                                          </p:val>
                                        </p:tav>
                                        <p:tav tm="100000">
                                          <p:val>
                                            <p:strVal val="#ppt_x"/>
                                          </p:val>
                                        </p:tav>
                                      </p:tavLst>
                                    </p:anim>
                                    <p:anim calcmode="lin" valueType="num">
                                      <p:cBhvr additive="repl">
                                        <p:cTn id="9"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492"/>
                                        </p:tgtEl>
                                        <p:attrNameLst>
                                          <p:attrName>style.visibility</p:attrName>
                                        </p:attrNameLst>
                                      </p:cBhvr>
                                      <p:to>
                                        <p:strVal val="visible"/>
                                      </p:to>
                                    </p:set>
                                    <p:animEffect filter="barn(inVertical)" transition="in">
                                      <p:cBhvr additive="repl">
                                        <p:cTn id="1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544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92d050"/>
                </a:solidFill>
                <a:latin typeface="바탕"/>
                <a:ea typeface="바탕"/>
              </a:rPr>
              <a:t>ЛОСЬ</a:t>
            </a:r>
            <a:r>
              <a:rPr b="0" i="1" lang="ru-RU" sz="3600" spc="-1" strike="noStrike">
                <a:solidFill>
                  <a:srgbClr val="92d050"/>
                </a:solidFill>
                <a:latin typeface="바탕"/>
                <a:ea typeface="바탕"/>
              </a:rPr>
              <a:t> </a:t>
            </a:r>
            <a:endParaRPr b="0" lang="en-US" sz="3600" spc="-1" strike="noStrike">
              <a:solidFill>
                <a:srgbClr val="000000"/>
              </a:solidFill>
              <a:latin typeface="Trebuchet MS"/>
            </a:endParaRPr>
          </a:p>
        </p:txBody>
      </p:sp>
      <p:pic>
        <p:nvPicPr>
          <p:cNvPr id="508" name="Picture 4" descr="loss"/>
          <p:cNvPicPr/>
          <p:nvPr/>
        </p:nvPicPr>
        <p:blipFill>
          <a:blip r:embed="rId1"/>
          <a:stretch/>
        </p:blipFill>
        <p:spPr>
          <a:xfrm>
            <a:off x="2050920" y="404640"/>
            <a:ext cx="4826160" cy="468000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222120" y="476280"/>
            <a:ext cx="8893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ЛО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Самый большой обитатель русских лесов - лось. Важно, чтобы в лесу было много молодых осин и рябин, кора их- главный зимний корм лося. Поэтому они часто держатся по зарастающим вырубкам. Летом лоси едят листья и молодые побеги. Лосей часто донимают кусачие мухи, и поэтому они любят принимать ванны, лежа подолгу в небольших лесных водоёмах. Лось –сильный зверь, его оружие не рога, а острые копыта. Удар их очень опасен. При встрече с лосём следует держаться подальше. Копытами лось обороняется от волков и нередко выходит победителем.</a:t>
            </a:r>
            <a:endParaRPr b="0" lang="en-US" sz="24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544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72c62"/>
                </a:solidFill>
                <a:latin typeface="바탕"/>
                <a:ea typeface="바탕"/>
              </a:rPr>
              <a:t>КАБАН</a:t>
            </a:r>
            <a:r>
              <a:rPr b="0" i="1" lang="ru-RU" sz="3600" spc="-1" strike="noStrike">
                <a:solidFill>
                  <a:srgbClr val="072c62"/>
                </a:solidFill>
                <a:latin typeface="바탕"/>
                <a:ea typeface="바탕"/>
              </a:rPr>
              <a:t> </a:t>
            </a:r>
            <a:endParaRPr b="0" lang="en-US" sz="3600" spc="-1" strike="noStrike">
              <a:solidFill>
                <a:srgbClr val="000000"/>
              </a:solidFill>
              <a:latin typeface="Trebuchet MS"/>
            </a:endParaRPr>
          </a:p>
        </p:txBody>
      </p:sp>
      <p:pic>
        <p:nvPicPr>
          <p:cNvPr id="511" name="Picture 10" descr="1"/>
          <p:cNvPicPr/>
          <p:nvPr/>
        </p:nvPicPr>
        <p:blipFill>
          <a:blip r:embed="rId1"/>
          <a:stretch/>
        </p:blipFill>
        <p:spPr>
          <a:xfrm>
            <a:off x="1763640" y="1052640"/>
            <a:ext cx="5616720" cy="38592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250920" y="907920"/>
            <a:ext cx="8893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Каб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Кабан – близкий родич домашней свиньи, но похож на неё мало. Это настоящий зверь, мощный и быстрый, вооружённый длинными острыми клыками. Даже волки не рискуют нападать на взрослых кабанов . Перепахивая рылом землю, кабаны поедают корешки, червей, мышей и прочую подземную живность. Опасное время для кабанов – зима с глубоким снегом, когда до земли не докопаться. Много их гибнет зимой. Для ночёвки в лесу кабаны устраивают толстый плотный настил из еловых ветвей и спят на нём, сбившись в кучу.</a:t>
            </a:r>
            <a:endParaRPr b="0" lang="en-US" sz="24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ff00"/>
                </a:solidFill>
                <a:latin typeface="바탕"/>
                <a:ea typeface="바탕"/>
              </a:rPr>
              <a:t>БАРСУК</a:t>
            </a:r>
            <a:r>
              <a:rPr b="0" i="1" lang="ru-RU" sz="8000" spc="-1" strike="noStrike">
                <a:solidFill>
                  <a:srgbClr val="ffff00"/>
                </a:solidFill>
                <a:latin typeface="바탕"/>
                <a:ea typeface="바탕"/>
              </a:rPr>
              <a:t> </a:t>
            </a:r>
            <a:endParaRPr b="0" lang="en-US" sz="8000" spc="-1" strike="noStrike">
              <a:solidFill>
                <a:srgbClr val="000000"/>
              </a:solidFill>
              <a:latin typeface="Trebuchet MS"/>
            </a:endParaRPr>
          </a:p>
        </p:txBody>
      </p:sp>
      <p:pic>
        <p:nvPicPr>
          <p:cNvPr id="514" name="Picture 3" descr="badger"/>
          <p:cNvPicPr/>
          <p:nvPr/>
        </p:nvPicPr>
        <p:blipFill>
          <a:blip r:embed="rId1"/>
          <a:stretch/>
        </p:blipFill>
        <p:spPr>
          <a:xfrm>
            <a:off x="1547640" y="620640"/>
            <a:ext cx="6769440" cy="385776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24000" y="476280"/>
            <a:ext cx="8820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БАРСУ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Барсука в лесу встретить удаётся не часто. День он проводит в норе, а кормиться выходит только ночью, в темноте. Не спеша, вперевалку двигается барсук в поисках пищи – крупных жуков, лягушек, выпавших из гнезда птенцов, ягод. А к рассвету снова спешит он к норе. Нора у барсука – точно подземный город. Глубокая, со многими входами, с коридорами, переходами и закоулками, со спальней и уборной. Барсук в ней в полной безопасности. Одна беда – весной, когда сходит снег. Нору может затопить талыми водами. Поэтому барсук копает её всегда на холме . В этой норе проводит он всю зиму, впадая, как медведь , в долгую спячку. А весной сойдёт снег, зазеленеет трава – и снова барсук по ночам выходит на добычу.</a:t>
            </a:r>
            <a:endParaRPr b="0" lang="en-US" sz="24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00b050"/>
                </a:solidFill>
                <a:latin typeface="바탕"/>
                <a:ea typeface="바탕"/>
              </a:rPr>
              <a:t>КУНИЦА</a:t>
            </a:r>
            <a:endParaRPr b="0" lang="en-US" sz="8800" spc="-1" strike="noStrike">
              <a:solidFill>
                <a:srgbClr val="000000"/>
              </a:solidFill>
              <a:latin typeface="Trebuchet MS"/>
            </a:endParaRPr>
          </a:p>
        </p:txBody>
      </p:sp>
      <p:pic>
        <p:nvPicPr>
          <p:cNvPr id="517" name="Picture 8" descr="marten"/>
          <p:cNvPicPr/>
          <p:nvPr/>
        </p:nvPicPr>
        <p:blipFill>
          <a:blip r:embed="rId1"/>
          <a:stretch/>
        </p:blipFill>
        <p:spPr>
          <a:xfrm>
            <a:off x="1979640" y="260280"/>
            <a:ext cx="4930920" cy="518472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179280" y="231840"/>
            <a:ext cx="8964720" cy="686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КУНИЦ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Куница, красавцу соболю родня. Голова у неё небольшая, тельце стройное, короткие лапки и длинный хвост. Любая модница позавидует её пушистой коричневой шубке со светлым пятнышком на груди. Куница небольшой зверёк, но ловкий и хищный. Днём она спит , а ночью обследует свой большой охотничий участок. За ночь все свои угодья она не успевает обойти, и засыпает там, где застал её рассвет.  Ей годится для ночлега и непролазный бурелом, и старое дупло, и уютное белочкино гнездо. А хозяйку его она съест, если застанет дома. Мышь, заяц и глухарь тоже недаром боятся её когтей. Любит куница лакомиться лесными ягодами и мёдом диких пчёл, ест личинок жуков, пчёл и шмелей. Нечасто куница спускается на землю: ей больше нравится прыгать с дерева на дерев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0000"/>
                </a:solidFill>
                <a:latin typeface="바탕"/>
                <a:ea typeface="바탕"/>
              </a:rPr>
              <a:t>БЕЛКА</a:t>
            </a:r>
            <a:endParaRPr b="0" lang="en-US" sz="8800" spc="-1" strike="noStrike">
              <a:solidFill>
                <a:srgbClr val="000000"/>
              </a:solidFill>
              <a:latin typeface="Trebuchet MS"/>
            </a:endParaRPr>
          </a:p>
        </p:txBody>
      </p:sp>
      <p:pic>
        <p:nvPicPr>
          <p:cNvPr id="520" name="Picture 6" descr="fd"/>
          <p:cNvPicPr/>
          <p:nvPr/>
        </p:nvPicPr>
        <p:blipFill>
          <a:blip r:embed="rId1"/>
          <a:stretch/>
        </p:blipFill>
        <p:spPr>
          <a:xfrm>
            <a:off x="2252520" y="0"/>
            <a:ext cx="4481640" cy="5229360"/>
          </a:xfrm>
          <a:prstGeom prst="rect">
            <a:avLst/>
          </a:prstGeom>
          <a:ln w="0">
            <a:noFill/>
          </a:ln>
        </p:spPr>
      </p:pic>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108000" y="333360"/>
            <a:ext cx="88930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바탕"/>
                <a:ea typeface="바탕"/>
              </a:rPr>
              <a:t>                                       </a:t>
            </a:r>
            <a:r>
              <a:rPr b="1" i="1" lang="ru-RU" sz="2400" spc="-1" strike="noStrike">
                <a:solidFill>
                  <a:srgbClr val="000000"/>
                </a:solidFill>
                <a:latin typeface="바탕"/>
                <a:ea typeface="바탕"/>
              </a:rPr>
              <a:t>Белк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바탕"/>
                <a:ea typeface="바탕"/>
              </a:rPr>
              <a:t>Белка- самый симпатичный обитатель лесов. Большеглазая ушастенькая мордочка с пышными усами, задорный пушистый хвост, гибкое тельце – прелесть, а не зверёк! Белка чаще других зверей попадается на глаза. Она житель  старого елового леса, питается семенами ели, которые искусно достаёт из шишек. Очень любит лесные орехи и грибы. Которые сушит, наколов на сучок. Для ночёвки она строит гнездо с крышей. В этом же гнезде она летом бельчат выкармливает. Есть у белки и страшный враг- куница. Как ни ловка и быстра белка, куница её часто догоняет и ловит. А иногда может схватить и ночью, прямо в гнезде.</a:t>
            </a:r>
            <a:endParaRPr b="0" lang="en-US" sz="24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ffff00"/>
                </a:solidFill>
                <a:latin typeface="바탕"/>
                <a:ea typeface="바탕"/>
              </a:rPr>
              <a:t>МЕДВЕДЬ</a:t>
            </a:r>
            <a:endParaRPr b="0" lang="en-US" sz="7900" spc="-1" strike="noStrike">
              <a:solidFill>
                <a:srgbClr val="000000"/>
              </a:solidFill>
              <a:latin typeface="Trebuchet MS"/>
            </a:endParaRPr>
          </a:p>
        </p:txBody>
      </p:sp>
      <p:pic>
        <p:nvPicPr>
          <p:cNvPr id="496" name="Picture 7" descr="Bear"/>
          <p:cNvPicPr/>
          <p:nvPr/>
        </p:nvPicPr>
        <p:blipFill>
          <a:blip r:embed="rId1"/>
          <a:stretch/>
        </p:blipFill>
        <p:spPr>
          <a:xfrm>
            <a:off x="1619280" y="549360"/>
            <a:ext cx="6048360" cy="437508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5300280"/>
            <a:ext cx="820728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00b0f0"/>
                </a:solidFill>
                <a:latin typeface="바탕"/>
                <a:ea typeface="바탕"/>
              </a:rPr>
              <a:t>ЁЖ</a:t>
            </a:r>
            <a:r>
              <a:rPr b="0" lang="ru-RU" sz="8000" spc="-1" strike="noStrike">
                <a:solidFill>
                  <a:srgbClr val="006600"/>
                </a:solidFill>
                <a:latin typeface="Arial Black"/>
              </a:rPr>
              <a:t> </a:t>
            </a:r>
            <a:endParaRPr b="0" lang="en-US" sz="8000" spc="-1" strike="noStrike">
              <a:solidFill>
                <a:srgbClr val="000000"/>
              </a:solidFill>
              <a:latin typeface="Trebuchet MS"/>
            </a:endParaRPr>
          </a:p>
        </p:txBody>
      </p:sp>
      <p:pic>
        <p:nvPicPr>
          <p:cNvPr id="523" name="Picture 4" descr="Picture2"/>
          <p:cNvPicPr/>
          <p:nvPr/>
        </p:nvPicPr>
        <p:blipFill>
          <a:blip r:embed="rId1"/>
          <a:stretch/>
        </p:blipFill>
        <p:spPr>
          <a:xfrm rot="298800">
            <a:off x="1547280" y="620280"/>
            <a:ext cx="6537600" cy="4670640"/>
          </a:xfrm>
          <a:prstGeom prst="rect">
            <a:avLst/>
          </a:prstGeom>
          <a:ln w="0">
            <a:noFill/>
          </a:ln>
        </p:spPr>
      </p:pic>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179280" y="1301040"/>
            <a:ext cx="8496360" cy="283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Ё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	</a:t>
            </a:r>
            <a:r>
              <a:rPr b="0" i="1" lang="ru-RU" sz="2000" spc="-1" strike="noStrike">
                <a:solidFill>
                  <a:srgbClr val="002060"/>
                </a:solidFill>
                <a:latin typeface="바탕"/>
                <a:ea typeface="바탕"/>
              </a:rPr>
              <a:t>ТЕЛО ЕЖА , КРОМЕ ДЛИННОЙ ЛЮБОПЫТНОЙ МОРДОЧКИ, ПОКРЫТО ИГОЛКАМИ. ОНИ НАДЁЖНО ЗАЩИЩАЮТ ЕЁ  ОТ ВРАГОВ. ЧУТКИЙ НОС  ЕЖА  ДОКЛАДЫВАЕТ ОБО ВСЁМ, ЧТО ПРОИСХОДИТ ВОКРУГ. ЁЖ ЛЮБИТ  ЕСТЬ УЛИТОК, ЯЩЕРИЦ, ДОЖДЕВЫХ ЧЕРВЕЙ, МОЖЕТ СПРАВИТЬСЯ И СО ЗМЕЁЙ И НЕ ХУЖЕ КОШКИ ОХОТИТСЯ ЗА МЫШАМИ. ЗИМОЙ ЁЖ СПИТ В УЮТНОМ ГНЁЗДЫШКЕ.</a:t>
            </a:r>
            <a:endParaRPr b="0" lang="en-US" sz="2000" spc="-1" strike="noStrike">
              <a:solidFill>
                <a:srgbClr val="000000"/>
              </a:solidFill>
              <a:latin typeface="Arial"/>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09560" y="494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92d050"/>
                </a:solidFill>
                <a:latin typeface="바탕"/>
                <a:ea typeface="바탕"/>
              </a:rPr>
              <a:t>КУКУШКА</a:t>
            </a:r>
            <a:endParaRPr b="0" lang="en-US" sz="8800" spc="-1" strike="noStrike">
              <a:solidFill>
                <a:srgbClr val="000000"/>
              </a:solidFill>
              <a:latin typeface="Trebuchet MS"/>
            </a:endParaRPr>
          </a:p>
        </p:txBody>
      </p:sp>
      <p:pic>
        <p:nvPicPr>
          <p:cNvPr id="526" name="Picture 8" descr="2"/>
          <p:cNvPicPr/>
          <p:nvPr/>
        </p:nvPicPr>
        <p:blipFill>
          <a:blip r:embed="rId1"/>
          <a:stretch/>
        </p:blipFill>
        <p:spPr>
          <a:xfrm>
            <a:off x="1258920" y="1125360"/>
            <a:ext cx="7129440" cy="3326040"/>
          </a:xfrm>
          <a:prstGeom prst="rect">
            <a:avLst/>
          </a:prstGeom>
          <a:ln w="0">
            <a:noFill/>
          </a:ln>
        </p:spPr>
      </p:pic>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324000" y="405360"/>
            <a:ext cx="8424720" cy="600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КУКУШ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В апреле, когда солнышко припекает жарче, кукушка возвращается из Африки в наши леса. Это довольно крупная птица. Кукушку легко узнать по песенке, которую она выводит: ку-ку! ку-ку! Кукушка не вьёт своего гнезда и не  высиживает яйца, которые она снесла. А подкладывает их в гнёзда других птиц, как правило певчим. Чаще всего в гнездо зарянки . Иногда кукушка успевает разнести по чужим гнёздам до 20 своих яиц. Кукушонок, вылупившись из яйца, старается вытолкнуть из гнезда другие яйца и даже маленьких птенцов, чтобы ему досталось побольше еды. Вскоре маленький прожорливый кукушонок становится больше своих приёмных родителей. Которые, несмотря ни на что, выбиваются из сил, чтобы накормить подкидыша. Питается кукушка гусеницами, очищая лес от вреди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800" spc="-1" strike="noStrike">
                <a:solidFill>
                  <a:srgbClr val="ff0000"/>
                </a:solidFill>
                <a:latin typeface="바탕"/>
                <a:ea typeface="바탕"/>
              </a:rPr>
              <a:t>ТЕТЕРЕВ</a:t>
            </a:r>
            <a:endParaRPr b="0" lang="en-US" sz="8800" spc="-1" strike="noStrike">
              <a:solidFill>
                <a:srgbClr val="000000"/>
              </a:solidFill>
              <a:latin typeface="Trebuchet MS"/>
            </a:endParaRPr>
          </a:p>
        </p:txBody>
      </p:sp>
      <p:pic>
        <p:nvPicPr>
          <p:cNvPr id="529" name="Picture 8" descr="4"/>
          <p:cNvPicPr/>
          <p:nvPr/>
        </p:nvPicPr>
        <p:blipFill>
          <a:blip r:embed="rId1"/>
          <a:stretch/>
        </p:blipFill>
        <p:spPr>
          <a:xfrm>
            <a:off x="2124000" y="333360"/>
            <a:ext cx="4819680" cy="511164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179280" y="620640"/>
            <a:ext cx="896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i="1" lang="ru-RU" sz="2400" spc="-1" strike="noStrike">
                <a:solidFill>
                  <a:srgbClr val="002060"/>
                </a:solidFill>
                <a:latin typeface="바탕"/>
                <a:ea typeface="바탕"/>
              </a:rPr>
              <a:t>Тетере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Самец тетерева – красивейшая птица: весь чёрный с зеленоватым металлическим отливом, а брови ярко- красные.  Самочки рябенькие, скромные. Тетерева любят светлые места: перелески, зарастающие вырубки, где много ягод. Весной самцы собираются на полях и устраивают шумные игры: «поют», дерутся. Голос тетерева - гулкое бормотание, слышное за километры. Зимой тетерева держатся стаями, кормятся на берёзках, а ночуют в снегу. Ещё с вечера бросаются они с разлёта в снег и закапываются. Идёшь ясным утром на лыжах лесной опушкой, и вдруг из-под самых ног с шумом вырывается из снега сильная птица!</a:t>
            </a:r>
            <a:endParaRPr b="0" lang="en-US" sz="2400" spc="-1" strike="noStrike">
              <a:solidFill>
                <a:srgbClr val="000000"/>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225360" y="549360"/>
            <a:ext cx="8856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2400" spc="-1" strike="noStrike">
                <a:solidFill>
                  <a:srgbClr val="072c62"/>
                </a:solidFill>
                <a:latin typeface="Arial"/>
              </a:rPr>
              <a:t>МЕДВЕД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62626"/>
                </a:solidFill>
                <a:latin typeface="바탕"/>
                <a:ea typeface="바탕"/>
              </a:rPr>
              <a:t>Медведь! Кто же его не знает? Герой сказок и басен, цирковой артист, частый гость голубого экрана. Достаточно посмотреть на сильные когти медведя, чтобы понять- это хищник. Но особый хищник: всё лето медведь питается травой и насекомыми-муравьями, жуками, личинками разными. Любит ягоды и орехи. Поэтому и когти у него мощные: корни из земли выкапывать да в поисках муравьёв трухлявые пни рушить. А зимой, когда всё снегом покрыто, медведь ничего не ест: до самой весны спит себе в берлоге. Пробуждается только когда первые проталины покажутся.</a:t>
            </a:r>
            <a:endParaRPr b="0" lang="en-US" sz="24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02060"/>
                </a:solidFill>
                <a:latin typeface="바탕"/>
                <a:ea typeface="바탕"/>
              </a:rPr>
              <a:t>ЛИСА</a:t>
            </a:r>
            <a:r>
              <a:rPr b="0" lang="ru-RU" sz="7900" spc="-1" strike="noStrike">
                <a:solidFill>
                  <a:srgbClr val="000000"/>
                </a:solidFill>
                <a:latin typeface="Arial Black"/>
              </a:rPr>
              <a:t> </a:t>
            </a:r>
            <a:endParaRPr b="0" lang="en-US" sz="7900" spc="-1" strike="noStrike">
              <a:solidFill>
                <a:srgbClr val="000000"/>
              </a:solidFill>
              <a:latin typeface="Trebuchet MS"/>
            </a:endParaRPr>
          </a:p>
        </p:txBody>
      </p:sp>
      <p:pic>
        <p:nvPicPr>
          <p:cNvPr id="499" name="Picture 4" descr="lisa"/>
          <p:cNvPicPr/>
          <p:nvPr/>
        </p:nvPicPr>
        <p:blipFill>
          <a:blip r:embed="rId1"/>
          <a:stretch/>
        </p:blipFill>
        <p:spPr>
          <a:xfrm>
            <a:off x="1979640" y="692280"/>
            <a:ext cx="6146640" cy="380844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08000" y="115920"/>
            <a:ext cx="88930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i="1" lang="ru-RU" sz="3200" spc="-1" strike="noStrike">
                <a:solidFill>
                  <a:srgbClr val="000000"/>
                </a:solidFill>
                <a:latin typeface="바탕"/>
                <a:ea typeface="바탕"/>
              </a:rPr>
              <a:t>Лисиц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바탕"/>
                <a:ea typeface="바탕"/>
              </a:rPr>
              <a:t>Лисица-изящный и красивый хищник, причём особенно красивы лисицы в зимнее время. Главный корм лисицы не куры, как считает большинство горожан, а мелкие грызуны: полёвки и мыши. Конечно, она не упустит случая схватить зазевавшегося зайца или тетеревёнка, но если в округе нет мелких грызунов, лисица там будет редкостью. У лисицы великолепный слух: она слышит, как шуршит мышь в траве под толстым слоем снега. Наблюдать охоту лисицы зимой- редкостное удовольствие! Тихо, крадучись, идёт она по снежному полю, неожиданно замрёт в неподвижности, прислушается... И вдруг резким прыжком, оттолкнувшись всеми лапами , взлетает над снегом и ныряет в него, так что только пышный хвост снаружи. Мгновение- и она снова на виду, а в пасти мышь!</a:t>
            </a:r>
            <a:endParaRPr b="0" lang="en-US" sz="2400" spc="-1" strike="noStrike">
              <a:solidFill>
                <a:srgbClr val="000000"/>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006600"/>
                </a:solidFill>
                <a:latin typeface="바탕"/>
                <a:ea typeface="바탕"/>
              </a:rPr>
              <a:t>ВОЛК</a:t>
            </a:r>
            <a:endParaRPr b="0" lang="en-US" sz="7900" spc="-1" strike="noStrike">
              <a:solidFill>
                <a:srgbClr val="000000"/>
              </a:solidFill>
              <a:latin typeface="Trebuchet MS"/>
            </a:endParaRPr>
          </a:p>
        </p:txBody>
      </p:sp>
      <p:pic>
        <p:nvPicPr>
          <p:cNvPr id="502" name="Picture 3" descr="wolf"/>
          <p:cNvPicPr/>
          <p:nvPr/>
        </p:nvPicPr>
        <p:blipFill>
          <a:blip r:embed="rId1"/>
          <a:stretch/>
        </p:blipFill>
        <p:spPr>
          <a:xfrm>
            <a:off x="1979640" y="260280"/>
            <a:ext cx="5329080" cy="5256360"/>
          </a:xfrm>
          <a:prstGeom prst="rect">
            <a:avLst/>
          </a:prstGeom>
          <a:ln w="0">
            <a:noFill/>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250920" y="1052640"/>
            <a:ext cx="907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바탕"/>
                <a:ea typeface="바탕"/>
              </a:rPr>
              <a:t>                                       </a:t>
            </a:r>
            <a:r>
              <a:rPr b="1" i="1" lang="ru-RU" sz="2400" spc="-1" strike="noStrike">
                <a:solidFill>
                  <a:srgbClr val="002060"/>
                </a:solidFill>
                <a:latin typeface="바탕"/>
                <a:ea typeface="바탕"/>
              </a:rPr>
              <a:t>ВОЛ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바탕"/>
                <a:ea typeface="바탕"/>
              </a:rPr>
              <a:t>Волк – тоже хищник, но настоящий, траву есть не будет. Вся волчья жизнь- это выслеживание добычи и погоня за ней. А добыча- это всё живое, от лося и кабана до зайчишки и мыши. Нет добычи в лесу- волки выходят к деревням, нападают на коров и овец, собак дворовых прямо с крыльца уносят. Поэтому и воюют люди с волками не на жизнь, а на смерть . Но волк- сильный и умный хищник, зрение и слух у него замечательные ,и не поддаётся волк человеку.</a:t>
            </a:r>
            <a:endParaRPr b="0" lang="en-US" sz="2400" spc="-1" strike="noStrike">
              <a:solidFill>
                <a:srgbClr val="000000"/>
              </a:solidFill>
              <a:latin typeface="Arial"/>
            </a:endParaRPr>
          </a:p>
        </p:txBody>
      </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551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900" spc="-1" strike="noStrike">
                <a:solidFill>
                  <a:srgbClr val="ff0000"/>
                </a:solidFill>
                <a:latin typeface="바탕"/>
                <a:ea typeface="바탕"/>
              </a:rPr>
              <a:t>РЫСЬ</a:t>
            </a:r>
            <a:endParaRPr b="0" lang="en-US" sz="7900" spc="-1" strike="noStrike">
              <a:solidFill>
                <a:srgbClr val="000000"/>
              </a:solidFill>
              <a:latin typeface="Trebuchet MS"/>
            </a:endParaRPr>
          </a:p>
        </p:txBody>
      </p:sp>
      <p:pic>
        <p:nvPicPr>
          <p:cNvPr id="505" name="Picture 13" descr="пп"/>
          <p:cNvPicPr/>
          <p:nvPr/>
        </p:nvPicPr>
        <p:blipFill>
          <a:blip r:embed="rId1"/>
          <a:stretch/>
        </p:blipFill>
        <p:spPr>
          <a:xfrm>
            <a:off x="971640" y="692280"/>
            <a:ext cx="6335640" cy="3997080"/>
          </a:xfrm>
          <a:prstGeom prst="rect">
            <a:avLst/>
          </a:prstGeom>
          <a:ln w="0">
            <a:noFill/>
          </a:ln>
        </p:spPr>
      </p:pic>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395280" y="1401480"/>
            <a:ext cx="8569440" cy="4057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바탕"/>
                <a:ea typeface="바탕"/>
              </a:rPr>
              <a:t>                                                    </a:t>
            </a:r>
            <a:r>
              <a:rPr b="1" i="1" lang="ru-RU" sz="2000" spc="-1" strike="noStrike">
                <a:solidFill>
                  <a:srgbClr val="002060"/>
                </a:solidFill>
                <a:latin typeface="바탕"/>
                <a:ea typeface="바탕"/>
              </a:rPr>
              <a:t>РЫСЬ</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2060"/>
                </a:solidFill>
                <a:latin typeface="바탕"/>
                <a:ea typeface="바탕"/>
              </a:rPr>
              <a:t>РЫСЬ - БОЛЬШАЯ КОШКА С КОРОТКИМ ХВОСТОМ И КИСТОЧКАМИ НА УШАХ. НО ОНА СОВСЕМ НЕ ТАК БЕЗОБИДНА, КАК ИЗНЕЖЕННЫЕ ДОМАШНИЕ ЛЮБИМЦЫ! ПРИСЛУШАЙСЯ К ЕЁ  ИМЕНИ, В НЁМ И ГРОЗНОЕ РЫЧАНИЕ ГОЛОДНОГО ЗВЕРЯ, И ПРОВОРНОЕ «РЫСКАНЬЕ» ПО ЛЕСАМ В ПОИСКАХ ДОБЫЧИ. ВЕДЬ РЫСЬ ЖИВЁТ В ЛЕСУ И САМА ДОБЫВАЕТ СЕБЕ ЕДУ. РЫСЬ  СМЕЛА И ЛОВКА, БЫСТРО БЕГАЕТ, УМЕЕТ ПЛАВАТЬ, ХОРОШО ЛАЗАЕТ ПО ДЕРЕВЬЯМ. ЕЁ ЛЮБИМЫЙ ОХОТНИЧИЙ ПРИЁМ — НЕОЖИДАННЫЙ ПРЫЖОК ИЗ ЗАСАДЫ, И ЕСЛИ ПЕРВОЕ НАПАДЕНИЕ НЕ УДАЛОСЬ, ОНА УПОРНО ПРЕСЛЕДУЕТ СВОЮ ЖЕРТВУ. НИЧТО НЕ СКРОЕТСЯ ОТ ЕЁ ЗОРКИХ ГЛАЗ! ЗАЙЦЫ, ОЛЕНИ, ЛОСИ И МОЛОДЫЕ КАБАНЫ СТАНОВЯТСЯ ЕЁ ДОБЫЧЕЙ</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8:26:51Z</dcterms:created>
  <dc:creator/>
  <dc:description/>
  <dc:language>en-US</dc:language>
  <cp:lastModifiedBy/>
  <dcterms:modified xsi:type="dcterms:W3CDTF">2015-01-30T08:21:06Z</dcterms:modified>
  <cp:revision>1</cp:revision>
  <dc:subject/>
  <dc:title/>
</cp:coreProperties>
</file>