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319-9E61-4B7C-A62E-9FBAD61C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975-07D0-44F8-9A85-CE414A09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68A-717D-447F-98D7-97873FC7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F82-4422-488B-B2E4-05C83841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359B-4EF1-45B6-B908-5B04C7DC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E255-27A1-49CE-8BB2-6622C937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E5FB-E806-4EA3-9BB8-44593751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4A27-95FA-40E2-A8D7-D93C2FF1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D803-E02D-44D5-9123-567C4C06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8341-4AD7-4DB6-B653-9007AC70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5BBF-C4DD-49A3-9C27-4212956B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AD5-1C73-4F11-B42B-881870DC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5904-C872-4B2A-8FFD-1059CD61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5A90-C9AA-45DA-A7ED-64AAAEFB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2D59-7FFE-4155-BBF4-984ACF34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3998-F972-433D-9FBE-96890C3A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7ED6-6699-4818-9F15-9D39240E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BFF-EA5A-4376-A20F-53002AC8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5E2-95DF-491D-A50B-A0CB00CC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990-2E57-4FE4-A8F5-038FC45C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EAA1-43F7-4629-B8E8-C6A8E93D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BB1-DFFF-434A-A6C0-68C8B57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526-5BB1-48D7-A3A6-2B8B9180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051-6D79-409B-BDF1-A21E339B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E222-7A24-4942-8964-A282559B50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AE4A-798E-43E6-9665-92480C20E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7240" y="1900080"/>
            <a:ext cx="734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6160" y="43434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odoni MT Black"/>
              </a:rPr>
              <a:t>Презентация для уро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odoni MT Black"/>
              </a:rPr>
              <a:t>окружающего мира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odoni MT Black"/>
              </a:rPr>
              <a:t>во 2 класс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19320" y="2209680"/>
            <a:ext cx="678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ессии людей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счезли многие профессии, но появилось множество нов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4876560" cy="556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981080" y="1295280"/>
            <a:ext cx="4724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 наши дни главным помощником человека стал компьюте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Современные автоматические устройства облегчают труд человека, опасные работы выполняют механизмы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5079960" cy="528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981080" y="1600200"/>
            <a:ext cx="5410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В любое время очень ценятся мастера своего дела, прекрасные специалист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09680" y="1600200"/>
            <a:ext cx="4772160" cy="4800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743200" y="1676520"/>
            <a:ext cx="4724280" cy="4876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286000" y="1676520"/>
            <a:ext cx="4876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Проверь себя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133720" y="1981080"/>
            <a:ext cx="5029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оедини названия профессии человека и орудие его труд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13372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04812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3886200"/>
            <a:ext cx="2667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жарный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487692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строном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571500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яр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38680" y="205740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казк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15000" y="304812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скоп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715000" y="396252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ок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15000" y="4952880"/>
            <a:ext cx="25909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сть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867280" y="5638680"/>
            <a:ext cx="243864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ланг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 rot="2179800">
            <a:off x="2971440" y="3352320"/>
            <a:ext cx="3124080" cy="228600"/>
          </a:xfrm>
          <a:prstGeom prst="leftRightArrow">
            <a:avLst>
              <a:gd name="adj1" fmla="val 50000"/>
              <a:gd name="adj2" fmla="val 2720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9777200">
            <a:off x="3141720" y="2798280"/>
            <a:ext cx="2743200" cy="243000"/>
          </a:xfrm>
          <a:prstGeom prst="leftRightArrow">
            <a:avLst>
              <a:gd name="adj1" fmla="val 50000"/>
              <a:gd name="adj2" fmla="val 22473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724400">
            <a:off x="3200040" y="4952880"/>
            <a:ext cx="2971800" cy="263520"/>
          </a:xfrm>
          <a:prstGeom prst="leftRightArrow">
            <a:avLst>
              <a:gd name="adj1" fmla="val 50000"/>
              <a:gd name="adj2" fmla="val 22450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152600">
            <a:off x="2971800" y="4114440"/>
            <a:ext cx="3124080" cy="228600"/>
          </a:xfrm>
          <a:prstGeom prst="leftRightArrow">
            <a:avLst>
              <a:gd name="adj1" fmla="val 50000"/>
              <a:gd name="adj2" fmla="val 2720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193600">
            <a:off x="3200400" y="5334120"/>
            <a:ext cx="2666880" cy="230040"/>
          </a:xfrm>
          <a:prstGeom prst="leftRightArrow">
            <a:avLst>
              <a:gd name="adj1" fmla="val 50000"/>
              <a:gd name="adj2" fmla="val 23078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Назови профессию чело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143000"/>
            <a:ext cx="792468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н встает когда вы спит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Чтоб муку просеять в сит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Докрасна натопит печ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Чтобы хлеб к утру испеч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0" y="1066680"/>
            <a:ext cx="4267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Назови профессию чело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143000"/>
            <a:ext cx="8153280" cy="53341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Его работа в глубин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На самом дн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 акваланге, в маске, в ласт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Тот, кто плавает прекрасн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5562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Назови профессию чело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447920"/>
            <a:ext cx="7848360" cy="510516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От вирусов злобны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Компьютер наш чис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рограммы и файлы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Спас…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638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Назови профессию чело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295280"/>
            <a:ext cx="7696080" cy="5257800"/>
          </a:xfrm>
          <a:prstGeom prst="hexagon">
            <a:avLst>
              <a:gd name="adj" fmla="val 36594"/>
              <a:gd name="vf" fmla="val 11547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Победит огонь ковар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Тот, кого зовут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010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Профессия</a:t>
            </a: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(от латинского </a:t>
            </a: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professio) 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род трудовой деятельности,  занятий, требующий определенной подготовки и являющийся источником существо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 называется эта профессия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6197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к называется эта профессия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981080" y="1066680"/>
            <a:ext cx="5029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юди какой профессии используют этот предмет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14600" y="2666880"/>
            <a:ext cx="3962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9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Отгадай ребус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62120" y="2438280"/>
            <a:ext cx="198108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200400" y="2819520"/>
            <a:ext cx="1523880" cy="1447560"/>
            <a:chOff x="3200400" y="2819520"/>
            <a:chExt cx="1523880" cy="1447560"/>
          </a:xfrm>
        </p:grpSpPr>
        <p:sp>
          <p:nvSpPr>
            <p:cNvPr id="159" name=""/>
            <p:cNvSpPr/>
            <p:nvPr/>
          </p:nvSpPr>
          <p:spPr>
            <a:xfrm>
              <a:off x="3200400" y="2819520"/>
              <a:ext cx="1523880" cy="1447560"/>
            </a:xfrm>
            <a:prstGeom prst="smileyFace">
              <a:avLst>
                <a:gd name="adj" fmla="val 9282"/>
              </a:avLst>
            </a:prstGeom>
            <a:solidFill>
              <a:srgbClr val="ffcc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57600" y="327672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327672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0800000">
              <a:off x="3581280" y="3657240"/>
              <a:ext cx="838080" cy="304920"/>
            </a:xfrm>
            <a:prstGeom prst="blockArc">
              <a:avLst>
                <a:gd name="adj1" fmla="val 11439564"/>
                <a:gd name="adj2" fmla="val 20960436"/>
                <a:gd name="adj3" fmla="val 27449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 txBox="1"/>
          <p:nvPr/>
        </p:nvSpPr>
        <p:spPr>
          <a:xfrm>
            <a:off x="4952880" y="2514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495680" y="2514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4120" y="251460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943600" y="2514600"/>
            <a:ext cx="198108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Что тебе известно о профессии эколога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600200" y="2209680"/>
            <a:ext cx="58672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3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ди и прочитай</a:t>
            </a:r>
            <a:endParaRPr b="0" lang="en-US" sz="1800" spc="1" strike="noStrike">
              <a:ln w="19080">
                <a:solidFill>
                  <a:srgbClr val="33333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3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риал об экологах</a:t>
            </a:r>
            <a:endParaRPr b="0" lang="en-US" sz="1800" spc="1" strike="noStrike">
              <a:ln w="19080">
                <a:solidFill>
                  <a:srgbClr val="33333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3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учебнике</a:t>
            </a:r>
            <a:endParaRPr b="0" lang="en-US" sz="1800" spc="1" strike="noStrike">
              <a:ln w="19080">
                <a:solidFill>
                  <a:srgbClr val="33333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ем ты хочешь стать когда вырастешь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362320" y="1905120"/>
            <a:ext cx="4495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304920"/>
            <a:ext cx="70866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Многими профессиями овладел человек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2548080" cy="188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2438280" cy="2667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rot="20830800">
            <a:off x="304560" y="304920"/>
            <a:ext cx="2133360" cy="2004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 rot="808200">
            <a:off x="6705360" y="228600"/>
            <a:ext cx="2157120" cy="2157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 rot="265200">
            <a:off x="6830640" y="3200400"/>
            <a:ext cx="2038320" cy="3313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3581280" y="3962520"/>
            <a:ext cx="24116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Он научился строить до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Готовить пищ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67341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ahoma"/>
              </a:rPr>
              <a:t>Лечить людей и животны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4724280" cy="5181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523880" y="1219320"/>
            <a:ext cx="5334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Учить дет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Для облегчения жизни изобрел разные машин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724280" cy="4724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5867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боры для изучения приро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6019560" cy="5257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981080" y="1371600"/>
            <a:ext cx="5791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0-09-29T17:37:5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