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594-CA93-4AA8-AE6B-7DAB31BE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A60-A64D-4095-96ED-521F75B8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875-2B6F-4EA0-9226-8992F2C6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C32-C8DE-4CF8-99AA-C02FFB19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C4E6-7665-4221-A07F-F9B373D7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726A-150B-44E7-9CC8-8AE5707F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64C1-A9F0-4B09-9684-24D021E0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C8F4-0A51-47B4-AE6C-D3AE5303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F38D-4B64-48F5-8352-2F798BFE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721C-8985-4611-BDC1-C5ADE905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F352-9C74-4637-91B2-DDCD9676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E0B-06C6-4887-9032-8149C752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7BC4-C794-48FC-BE85-6AA17D19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DBD2-B752-43EE-84BD-00F46D32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44CE-5C62-4E7B-871D-08BEFC14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E7A1-7FD4-4E02-B041-9EDC2D9F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966B-33EA-491A-994C-C9D539E8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152-1879-4CBC-B470-B4D2DCEE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036-6E79-4EA8-A9A6-7CDAF2DB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2A5-7084-4DF0-80CB-8C364C80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5E8-2F23-4EB1-9CAF-80999CC0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E46-3341-48F0-A2CC-79B93B5C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67F-8290-4ACF-B864-D0202E74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CE2-ECE0-437D-A4FF-FBA0EF6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1986-EC1D-4A4A-AAA7-964BBB2BF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FB89-EA9B-4BFB-AF49-2F79B3F94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7240" y="1900080"/>
            <a:ext cx="734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160" y="43434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doni MT Black"/>
              </a:rPr>
              <a:t>Презентация для уро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doni MT Black"/>
              </a:rPr>
              <a:t>окружающего мира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doni MT Black"/>
              </a:rPr>
              <a:t>во 2 класс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19320" y="2209680"/>
            <a:ext cx="67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ессии людей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счезли многие профессии, но появилось множество нов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4876560" cy="556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981080" y="1295280"/>
            <a:ext cx="4724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 наши дни главным помощником человека стал компьюте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овременные автоматические устройства облегчают труд человека, опасные работы выполняют механизмы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5079960" cy="528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1600200"/>
            <a:ext cx="5410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В любое время очень ценятся мастера своего дела, прекрасные специалис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4772160" cy="480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743200" y="1676520"/>
            <a:ext cx="4724280" cy="4876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286000" y="1676520"/>
            <a:ext cx="48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роверь себя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5029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оедини названия профессии человека и орудие его труд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13372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04812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3886200"/>
            <a:ext cx="2667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жарный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487692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строном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571500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яр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38680" y="205740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казк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5000" y="304812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скоп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15000" y="396252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ок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5000" y="4952880"/>
            <a:ext cx="25909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ст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867280" y="5638680"/>
            <a:ext cx="243864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ланг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 rot="2179800">
            <a:off x="2971440" y="3352320"/>
            <a:ext cx="3124080" cy="228600"/>
          </a:xfrm>
          <a:prstGeom prst="leftRightArrow">
            <a:avLst>
              <a:gd name="adj1" fmla="val 50000"/>
              <a:gd name="adj2" fmla="val 2720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9777200">
            <a:off x="3141720" y="2798280"/>
            <a:ext cx="2743200" cy="243000"/>
          </a:xfrm>
          <a:prstGeom prst="leftRightArrow">
            <a:avLst>
              <a:gd name="adj1" fmla="val 50000"/>
              <a:gd name="adj2" fmla="val 22473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724400">
            <a:off x="3200040" y="4952880"/>
            <a:ext cx="2971800" cy="263520"/>
          </a:xfrm>
          <a:prstGeom prst="leftRightArrow">
            <a:avLst>
              <a:gd name="adj1" fmla="val 50000"/>
              <a:gd name="adj2" fmla="val 22450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52600">
            <a:off x="2971800" y="4114440"/>
            <a:ext cx="3124080" cy="228600"/>
          </a:xfrm>
          <a:prstGeom prst="leftRightArrow">
            <a:avLst>
              <a:gd name="adj1" fmla="val 50000"/>
              <a:gd name="adj2" fmla="val 2720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193600">
            <a:off x="3200400" y="5334120"/>
            <a:ext cx="2666880" cy="230040"/>
          </a:xfrm>
          <a:prstGeom prst="leftRightArrow">
            <a:avLst>
              <a:gd name="adj1" fmla="val 50000"/>
              <a:gd name="adj2" fmla="val 23078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Назови профессию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143000"/>
            <a:ext cx="79246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н встает когда вы спи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Чтоб муку просеять в си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Докрасна натопит печ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Чтобы хлеб к утру испеч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0" y="106668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Назови профессию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143000"/>
            <a:ext cx="8153280" cy="53341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Его работа в глубин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На самом дн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 акваланге, в маске, в ласт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от, кто плавает прекрасн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5562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Назови профессию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447920"/>
            <a:ext cx="7848360" cy="510516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От вирусов злобны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Компьютер наш чис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ограммы и файл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пас…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638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Назови профессию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295280"/>
            <a:ext cx="7696080" cy="5257800"/>
          </a:xfrm>
          <a:prstGeom prst="hexagon">
            <a:avLst>
              <a:gd name="adj" fmla="val 36594"/>
              <a:gd name="vf" fmla="val 11547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Победит огонь ковар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Тот, кого зову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010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Профессия</a:t>
            </a: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(от латинского </a:t>
            </a: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professio) 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род трудовой деятельности,  занятий, требующий определенной подготовки и являющийся источником существ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называется эта профессия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619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к называется эта профессия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81080" y="1066680"/>
            <a:ext cx="5029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юди какой профессии используют этот предмет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3962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Отгадай ребус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2120" y="2438280"/>
            <a:ext cx="198108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00400" y="2819520"/>
            <a:ext cx="1523880" cy="1447560"/>
            <a:chOff x="3200400" y="2819520"/>
            <a:chExt cx="1523880" cy="1447560"/>
          </a:xfrm>
        </p:grpSpPr>
        <p:sp>
          <p:nvSpPr>
            <p:cNvPr id="159" name=""/>
            <p:cNvSpPr/>
            <p:nvPr/>
          </p:nvSpPr>
          <p:spPr>
            <a:xfrm>
              <a:off x="3200400" y="2819520"/>
              <a:ext cx="1523880" cy="1447560"/>
            </a:xfrm>
            <a:prstGeom prst="smileyFace">
              <a:avLst>
                <a:gd name="adj" fmla="val 9282"/>
              </a:avLst>
            </a:prstGeom>
            <a:solidFill>
              <a:srgbClr val="ffcc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57600" y="327672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327672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800000">
              <a:off x="3581280" y="3657240"/>
              <a:ext cx="838080" cy="304920"/>
            </a:xfrm>
            <a:prstGeom prst="blockArc">
              <a:avLst>
                <a:gd name="adj1" fmla="val 11439564"/>
                <a:gd name="adj2" fmla="val 20960436"/>
                <a:gd name="adj3" fmla="val 27449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4952880" y="2514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495680" y="2514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4120" y="251460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943600" y="2514600"/>
            <a:ext cx="198108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Что тебе известно о профессии эколога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600200" y="2209680"/>
            <a:ext cx="58672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 и прочитай</a:t>
            </a:r>
            <a:endParaRPr b="0" lang="en-US" sz="1800" spc="1" strike="noStrike">
              <a:ln w="19080">
                <a:solidFill>
                  <a:srgbClr val="3333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риал об экологах</a:t>
            </a:r>
            <a:endParaRPr b="0" lang="en-US" sz="1800" spc="1" strike="noStrike">
              <a:ln w="19080">
                <a:solidFill>
                  <a:srgbClr val="3333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учебнике</a:t>
            </a:r>
            <a:endParaRPr b="0" lang="en-US" sz="1800" spc="1" strike="noStrike">
              <a:ln w="19080">
                <a:solidFill>
                  <a:srgbClr val="3333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ем ты хочешь стать когда вырастеш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362320" y="1905120"/>
            <a:ext cx="4495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304920"/>
            <a:ext cx="7086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Многими профессиями овладел человек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548080" cy="188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2438280" cy="266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rot="20830800">
            <a:off x="304560" y="304920"/>
            <a:ext cx="2133360" cy="2004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 rot="808200">
            <a:off x="6705360" y="228600"/>
            <a:ext cx="2157120" cy="2157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 rot="265200">
            <a:off x="6830640" y="3200400"/>
            <a:ext cx="2038320" cy="331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581280" y="3962520"/>
            <a:ext cx="24116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Он научился строить до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Готовить пищ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7341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ahoma"/>
              </a:rPr>
              <a:t>Лечить людей и животн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472428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23880" y="12193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Учить дет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ля облегчения жизни изобрел разные маши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724280" cy="4724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586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боры для изучения прир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6019560" cy="5257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981080" y="1371600"/>
            <a:ext cx="5791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0-09-29T17:37:5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