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56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230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82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56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230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0720" y="-360"/>
            <a:ext cx="899640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56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230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82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56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230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0720" y="-360"/>
            <a:ext cx="899640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1000000">
            <a:off x="9329400" y="712260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fld id="{92397348-96BE-450A-94B0-5401BD04F625}" type="slidenum"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9440" y="900000"/>
            <a:ext cx="564984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кола № 51, г. Ки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фессии. Инженер - строитель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еницы 2 “Г”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упаевой Анаста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5 го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4500720"/>
            <a:ext cx="3419640" cy="287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д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60360" y="1440000"/>
            <a:ext cx="755964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История професс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ловек стал заниматься строительством сразу, как толь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 у н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 появилась необходимость в ночлеге или укрытии от погодных невз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ервые жилища изготавливались из того, что существовало в природе: сухая трава, ветви деревьев, древесина, глина, камни, шерсть животных. Впоследствии люди стали обрабатывать полезные ископаемые, изобретать наиболее долговечные строительные материалы, изготавливать блоки, кирпич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е когда-то воздвигнутые нашими предками масштабные, грандиозные конструкции становятся настоящими памятниками архитектуры. В их строительстве принимало участие множество людей, среди них были представители профессии, которую мы сейчас называем “Инженер-строитель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84240" y="5580000"/>
            <a:ext cx="99853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ервым известным нам инженером-строителем считается египтянин Имхотеп, живший около 2700 года до нашей эры. Он построил пирамиду по собственному проекту, впервые решившись использовать более прочный известняк вместо сырцового кирпи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485928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360" y="984240"/>
            <a:ext cx="10069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Причины выбора профессии моей сестр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оя сестра захотела получить образование по специальности Инженер-строитель, потому что строительство зданий, в которых люди могут жить, работать и развлекаться казалось ей важным и интересным занятием. Каждое здание имеет свое назначение и свои особенности, поэтому проектирование и строительство никогда не бывает однообразным и скучным занят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0" y="4140360"/>
            <a:ext cx="100710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Образование необходимое для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работы по профессии Инженера-строителя обязательно нужно иметь диплом о высшем профессиональном образовании по соответствующей специальности или по такой специальности, которая позволяет работать Инженером-строителем (смежная или похожая специальность). Среднего профессионального образования не достаточно для того, чтобы стать Инженером-строите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3960" y="1260360"/>
            <a:ext cx="8636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ня закончила Вятский государственный университет по специальности «Инженер-строитель» и получила диплом. В качестве дипломного проекта она участвовала в проектировании здания, расположенного по адресу: г. Киров, ул. Преображенская, 65. Это торговый центр «Театро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360" y="3600360"/>
            <a:ext cx="99885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 Что надо уметь, чтобы работать инженером-строите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работы инженером-строителем человеку необходимо иметь аналитический склад ума, хорошо разбираться в ведении расчётов, составлении чертежей, выборе материалов, а значит, ему нужна ещё и хорошая память. Для участия в переговорах инженеру-строителю потребуется коммуникабе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а годы учебы Аня научилась: исследовать земельные участки для строительства, проводить расчеты, проектировать конструкции зданий, разбираться в строительных материалах и технике, изучила последовательность производства работ на строительн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79640" y="1079640"/>
            <a:ext cx="80992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. Обязанности инженера-строи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оители-управленцы руководят инженерным проектом, определяют необходимое количество материалов и денежных средств, подбирают рабочий состав. При осуществлении профессиональных задач каждый специалист должен соблюдать определённую последовательность и техн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йчас сестра работает в городе Санкт-Петербург в строительной организации в должности Инженера Производственно-технического отдел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19640" y="3251160"/>
            <a:ext cx="3419280" cy="2689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0" y="2095560"/>
            <a:ext cx="662472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. Самое интересное в работ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можность увидеть строительство зданий с этапа разрытия котлована и до ввода здания в эксплуата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можность участвовать в выборе строительных и отделочных материалов, влиять на конечный облик з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6:06:47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dcterms:modified xsi:type="dcterms:W3CDTF">2015-01-10T06:52:48Z</dcterms:modified>
  <cp:revision>6</cp:revision>
  <dc:subject/>
  <dc:title>Предложение стратегии</dc:title>
</cp:coreProperties>
</file>