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20720" y="-360"/>
            <a:ext cx="89964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68200" y="1079640"/>
            <a:ext cx="9545760" cy="3012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68200" y="4379040"/>
            <a:ext cx="9545760" cy="3012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20720" y="-360"/>
            <a:ext cx="89964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68200" y="1079640"/>
            <a:ext cx="4658040" cy="3012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9520" y="1079640"/>
            <a:ext cx="4658040" cy="3012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68200" y="4379040"/>
            <a:ext cx="4658040" cy="3012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159520" y="4379040"/>
            <a:ext cx="4658040" cy="3012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20720" y="-360"/>
            <a:ext cx="89964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68200" y="1079640"/>
            <a:ext cx="3073320" cy="3012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495600" y="1079640"/>
            <a:ext cx="3073320" cy="3012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723000" y="1079640"/>
            <a:ext cx="3073320" cy="3012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268200" y="4379040"/>
            <a:ext cx="3073320" cy="3012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495600" y="4379040"/>
            <a:ext cx="3073320" cy="3012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723000" y="4379040"/>
            <a:ext cx="3073320" cy="3012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20720" y="-360"/>
            <a:ext cx="89964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268200" y="1079640"/>
            <a:ext cx="9545760" cy="631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20720" y="-360"/>
            <a:ext cx="89964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68200" y="1079640"/>
            <a:ext cx="9545760" cy="63165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20720" y="-360"/>
            <a:ext cx="89964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68200" y="1079640"/>
            <a:ext cx="4658040" cy="63165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159520" y="1079640"/>
            <a:ext cx="4658040" cy="63165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20720" y="-360"/>
            <a:ext cx="89964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720720" y="-360"/>
            <a:ext cx="8996400" cy="332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20720" y="-360"/>
            <a:ext cx="89964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68200" y="1079640"/>
            <a:ext cx="4658040" cy="3012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159520" y="1079640"/>
            <a:ext cx="4658040" cy="63165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68200" y="4379040"/>
            <a:ext cx="4658040" cy="3012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720720" y="-360"/>
            <a:ext cx="89964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268200" y="1079640"/>
            <a:ext cx="9545760" cy="631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20720" y="-360"/>
            <a:ext cx="89964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68200" y="1079640"/>
            <a:ext cx="4658040" cy="63165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59520" y="1079640"/>
            <a:ext cx="4658040" cy="3012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159520" y="4379040"/>
            <a:ext cx="4658040" cy="3012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20720" y="-360"/>
            <a:ext cx="89964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8200" y="1079640"/>
            <a:ext cx="4658040" cy="3012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59520" y="1079640"/>
            <a:ext cx="4658040" cy="3012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68200" y="4379040"/>
            <a:ext cx="9545760" cy="3012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20720" y="-360"/>
            <a:ext cx="89964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68200" y="1079640"/>
            <a:ext cx="9545760" cy="3012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68200" y="4379040"/>
            <a:ext cx="9545760" cy="3012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20720" y="-360"/>
            <a:ext cx="89964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079640"/>
            <a:ext cx="4658040" cy="3012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59520" y="1079640"/>
            <a:ext cx="4658040" cy="3012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68200" y="4379040"/>
            <a:ext cx="4658040" cy="3012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159520" y="4379040"/>
            <a:ext cx="4658040" cy="3012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20720" y="-360"/>
            <a:ext cx="89964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68200" y="1079640"/>
            <a:ext cx="3073320" cy="3012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495600" y="1079640"/>
            <a:ext cx="3073320" cy="3012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723000" y="1079640"/>
            <a:ext cx="3073320" cy="3012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268200" y="4379040"/>
            <a:ext cx="3073320" cy="3012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495600" y="4379040"/>
            <a:ext cx="3073320" cy="3012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723000" y="4379040"/>
            <a:ext cx="3073320" cy="3012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20720" y="-360"/>
            <a:ext cx="89964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268200" y="1079640"/>
            <a:ext cx="9545760" cy="63165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20720" y="-360"/>
            <a:ext cx="89964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8200" y="1079640"/>
            <a:ext cx="4658040" cy="63165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159520" y="1079640"/>
            <a:ext cx="4658040" cy="63165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20720" y="-360"/>
            <a:ext cx="89964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720720" y="-360"/>
            <a:ext cx="8996400" cy="332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20720" y="-360"/>
            <a:ext cx="89964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68200" y="1079640"/>
            <a:ext cx="4658040" cy="3012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59520" y="1079640"/>
            <a:ext cx="4658040" cy="63165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268200" y="4379040"/>
            <a:ext cx="4658040" cy="3012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20720" y="-360"/>
            <a:ext cx="89964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68200" y="1079640"/>
            <a:ext cx="4658040" cy="63165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59520" y="1079640"/>
            <a:ext cx="4658040" cy="3012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59520" y="4379040"/>
            <a:ext cx="4658040" cy="3012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20720" y="-360"/>
            <a:ext cx="89964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68200" y="1079640"/>
            <a:ext cx="4658040" cy="3012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59520" y="1079640"/>
            <a:ext cx="4658040" cy="3012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68200" y="4379040"/>
            <a:ext cx="9545760" cy="3012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0880" y="11700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4000" spc="-1" strike="noStrike">
                <a:solidFill>
                  <a:srgbClr val="e6e6e6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88640" y="2224080"/>
            <a:ext cx="847404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e6e6e6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e6e6e6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e6e6e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e6e6e6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e6e6e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6e6e6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e6e6e6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e6e6e6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e6e6e6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e6e6e6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e6e6e6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e6e6e6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e6e6e6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e6e6e6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937640" y="6251400"/>
            <a:ext cx="1968480" cy="1057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9180360" y="6659640"/>
            <a:ext cx="900360" cy="900000"/>
          </a:xfrm>
          <a:custGeom>
            <a:avLst/>
            <a:gdLst/>
            <a:ahLst/>
            <a:rect l="l" t="t" r="r" b="b"/>
            <a:pathLst>
              <a:path w="2501" h="2501">
                <a:moveTo>
                  <a:pt x="0" y="2499"/>
                </a:moveTo>
                <a:lnTo>
                  <a:pt x="2499" y="0"/>
                </a:lnTo>
                <a:lnTo>
                  <a:pt x="2500" y="2500"/>
                </a:lnTo>
                <a:lnTo>
                  <a:pt x="0" y="2499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>
            <a:off x="0" y="0"/>
            <a:ext cx="10078920" cy="711360"/>
          </a:xfrm>
          <a:prstGeom prst="roundRect">
            <a:avLst>
              <a:gd name="adj" fmla="val 222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20720" y="-360"/>
            <a:ext cx="89964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68200" y="1079640"/>
            <a:ext cx="9545760" cy="63165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9480600" y="6985080"/>
            <a:ext cx="480960" cy="4539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179280" y="101520"/>
            <a:ext cx="457200" cy="43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 rot="21000000">
            <a:off x="9329400" y="7122600"/>
            <a:ext cx="681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2240" bIns="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</a:tabLst>
            </a:pPr>
            <a:fld id="{81FA6CC6-4BE1-406E-9069-31A3361E8329}" type="slidenum">
              <a:rPr b="0" lang="en-US" sz="16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0" y="4432320"/>
            <a:ext cx="2906640" cy="3127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889440" y="900000"/>
            <a:ext cx="5649840" cy="512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7640" bIns="0" anchor="t">
            <a:noAutofit/>
          </a:bodyPr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Школа № 51, г. Киро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РОЕК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рофессии. Инженер - строитель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»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Ученицы 2 “Г” класс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Колупаевой Анастас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15 год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79280" y="4500720"/>
            <a:ext cx="3419640" cy="28796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18000"/>
              </a:lnSpc>
              <a:buNone/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Black"/>
              </a:rPr>
              <a:t>д</a:t>
            </a:r>
            <a:endParaRPr b="0" lang="en-US" sz="26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transition spd="med">
    <p:plus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260360" y="1440000"/>
            <a:ext cx="7559640" cy="54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7640" bIns="0" anchor="t">
            <a:noAutofit/>
          </a:bodyPr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История профессии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Человек стал заниматься строительством сразу, как тольк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о у не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го появилась необходимость в ночлеге или укрытии от погодных невзгод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Первые жилища изготавливались из того, что существовало в природе: сухая трава, ветви деревьев, древесина, глина, камни, шерсть животных. Впоследствии люди стали обрабатывать полезные ископаемые, изобретать наиболее долговечные строительные материалы, изготавливать блоки, кирпичи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Все когда-то воздвигнутые нашими предками масштабные, грандиозные конструкции становятся настоящими памятниками архитектуры. В их строительстве принимало участие множество людей, среди них были представители профессии, которую мы сейчас называем “Инженер-строитель”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»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lus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-84240" y="5580000"/>
            <a:ext cx="9985320" cy="15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7640" bIns="0" anchor="t">
            <a:noAutofit/>
          </a:bodyPr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Первым известным нам инженером-строителем считается египтянин Имхотеп, живший около 2700 года до нашей эры. Он построил пирамиду по собственному проекту, впервые решившись использовать более прочный известняк вместо сырцового кирпич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2700360" y="1079640"/>
            <a:ext cx="4859280" cy="3779640"/>
          </a:xfrm>
          <a:prstGeom prst="rect">
            <a:avLst/>
          </a:prstGeom>
          <a:ln w="0">
            <a:noFill/>
          </a:ln>
        </p:spPr>
      </p:pic>
    </p:spTree>
  </p:cSld>
  <p:transition spd="med">
    <p:plus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9360" y="984240"/>
            <a:ext cx="10069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7640" bIns="0" anchor="t">
            <a:noAutofit/>
          </a:bodyPr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2. Причины выбора профессии моей сестро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Моя сестра захотела получить образование по специальности Инженер-строитель, потому что строительство зданий, в которых люди могут жить, работать и развлекаться казалось ей важным и интересным занятием. Каждое здание имеет свое назначение и свои особенности, поэтому проектирование и строительство никогда не бывает однообразным и скучным занятие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920" y="4140360"/>
            <a:ext cx="10071000" cy="34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7640" bIns="0" anchor="t">
            <a:noAutofit/>
          </a:bodyPr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3. Образование необходимое для работ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Для работы по профессии Инженера-строителя обязательно нужно иметь диплом о высшем профессиональном образовании по соответствующей специальности или по такой специальности, которая позволяет работать Инженером-строителем (смежная или похожая специальность). Среднего профессионального образования не достаточно для того, чтобы стать Инженером-строителе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lus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723960" y="1260360"/>
            <a:ext cx="863604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7640" bIns="0" anchor="t">
            <a:noAutofit/>
          </a:bodyPr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Аня закончила Вятский государственный университет по специальности «Инженер-строитель» и получила диплом. В качестве дипломного проекта она участвовала в проектировании здания, расположенного по адресу: г. Киров, ул. Преображенская, 65. Это торговый центр «Театро»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90360" y="3600360"/>
            <a:ext cx="9988560" cy="40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7640" bIns="0" anchor="t">
            <a:noAutofit/>
          </a:bodyPr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4.  Что надо уметь, чтобы работать инженером-строителе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Для работы инженером-строителем человеку необходимо иметь аналитический склад ума, хорошо разбираться в ведении расчётов, составлении чертежей, выборе материалов, а значит, ему нужна ещё и хорошая память. Для участия в переговорах инженеру-строителю потребуется коммуникабельность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За годы учебы Аня научилась: исследовать земельные участки для строительства, проводить расчеты, проектировать конструкции зданий, разбираться в строительных материалах и технике, изучила последовательность производства работ на строительной площадк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lus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079640" y="1079640"/>
            <a:ext cx="8099280" cy="67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7640" bIns="0" anchor="t">
            <a:noAutofit/>
          </a:bodyPr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5. Обязанности инженера-строителя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Строители-управленцы руководят инженерным проектом, определяют необходимое количество материалов и денежных средств, подбирают рабочий состав. При осуществлении профессиональных задач каждый специалист должен соблюдать определённую последовательность и технологи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Сейчас сестра работает в городе Санкт-Петербург в строительной организации в должности Инженера Производственно-технического отдела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419640" y="3251160"/>
            <a:ext cx="3419280" cy="2689200"/>
          </a:xfrm>
          <a:prstGeom prst="rect">
            <a:avLst/>
          </a:prstGeom>
          <a:ln w="0">
            <a:noFill/>
          </a:ln>
        </p:spPr>
      </p:pic>
    </p:spTree>
  </p:cSld>
  <p:transition spd="med">
    <p:plus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2016000" y="2095560"/>
            <a:ext cx="6624720" cy="40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7640" bIns="0" anchor="t">
            <a:noAutofit/>
          </a:bodyPr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6. Самое интересное в работе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Возможность увидеть строительство зданий с этапа разрытия котлована и до ввода здания в эксплуатацию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Возможность участвовать в выборе строительных и отделочных материалов, влиять на конечный облик здан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lus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10T06:06:47Z</dcterms:created>
  <dc:creator/>
  <dc:description>Предложение пути развития и альтернатив, рекомендации по использованию той или другой стратегии</dc:description>
  <dc:language>en-US</dc:language>
  <cp:lastModifiedBy/>
  <dcterms:modified xsi:type="dcterms:W3CDTF">2015-01-10T06:52:48Z</dcterms:modified>
  <cp:revision>6</cp:revision>
  <dc:subject/>
  <dc:title>Предложение стратегии</dc:title>
</cp:coreProperties>
</file>