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49C-ACDB-49CA-B654-8EBCA5FC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707-04F1-4967-B519-8E154D7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58A-0D4D-4934-A148-3E139185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8D7-BD9F-4BA3-B120-A2AF0E81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0693-788F-419A-B4EE-73900DD4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67B2-813C-47A8-A227-3B708C4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6A1E-517B-4075-AA06-28446F0F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67A-9BF0-4F46-A6ED-E7795B9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7F6-6AA9-4408-973B-BE876B93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1E94-DC80-4BFD-9A57-274FC7C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62B-812D-40E8-94B5-2E03BF8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2B4-9D08-472D-8607-530EF746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6311-9A8A-4ADE-929B-4A1722B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BBC5-6DBA-498F-8ECF-F01B2A7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D2D-D466-415C-AAE7-31B93DB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CCC-8482-46A6-8556-7178FC10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BCB5-8E35-47E2-B3B4-5140028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BAE36-94F4-4428-BE89-3EB4626B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4E5F1-B9D5-4DEE-AC9A-BC4CF2B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E4B44-E19B-4652-8795-5F29260F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2A692-BD1D-41F0-B75D-39715DD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DDCBF-A900-4841-87A0-52F51DCB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66C-23B5-4D5D-A2B2-A4686AAD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B7A11-8F0A-4B76-9DA2-1CF4F41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926D8-6737-46A0-9698-F254D72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251AB-0B28-4AB9-98DE-C0E4592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8DD8D-D470-4967-9F8F-E313690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C7416-C467-4C7F-86D1-C4E30CD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CAEFD-D0F3-4E76-98C3-2974E2EA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653E2-67B2-45E4-88B4-CB24B3C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2D04-C711-4EB9-AEC3-EC8A85A1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E5D0-8195-40E0-88A5-0644E9B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CEEB-7EC5-412A-9BC8-87FEA26D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F11-1416-4C5A-AE1F-2700E1C1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2A93-9812-41C0-8ECA-EB9DDB68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6F9A-2B85-4FC3-9012-2FD11CE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0C5F-3CC4-4BD2-A051-9457EF7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ABFF-36BC-4634-911F-128BF6E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D015-A476-4279-8215-016855E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898E-339E-4C3F-B138-CE446AC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E511-6C5A-48A7-9F13-5A72ADD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58E7-D9EE-474A-A612-1BFD561E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A68C-D1E0-45D2-AB9D-89E61472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B8B-0971-498E-A83A-FBE9059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613-5FAC-4F07-AA3E-EC3C4F5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645-4823-478D-9650-F688629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4E6-40EF-403D-98A6-566C324F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819-BA44-4E33-915A-AFF0295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655D-3122-4AFA-9189-7A4C53602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3163-77C7-4F4E-A24E-E501B1538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06A-D516-4567-A212-EE3119D60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27AB-1A94-4599-AEC3-13D600467F6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289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утешествие за жемчуго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изическая деятельность с интеграцией позн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БДОУ № 15 «Берёзка» 08.11.2011 уч.г. Группа «Умк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я – «Жемчуг прошедших веков»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Содержимое 4" descr="SAM_0783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1" name="Содержимое 5" descr="SAM_0785.JPG"/>
          <p:cNvPicPr/>
          <p:nvPr/>
        </p:nvPicPr>
        <p:blipFill>
          <a:blip r:embed="rId2"/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Трудный спуск со скалы к морю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Содержимое 7" descr="SAM_0792.JPG"/>
          <p:cNvPicPr/>
          <p:nvPr/>
        </p:nvPicPr>
        <p:blipFill>
          <a:blip r:embed="rId1"/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4" name="Содержимое 6" descr="SAM_0786.JPG"/>
          <p:cNvPicPr/>
          <p:nvPr/>
        </p:nvPicPr>
        <p:blipFill>
          <a:blip r:embed="rId2"/>
          <a:stretch/>
        </p:blipFill>
        <p:spPr>
          <a:xfrm>
            <a:off x="428760" y="2214720"/>
            <a:ext cx="4038480" cy="3028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Подземный тоннель                        Мы ныряльщики за жемчуго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Содержимое 4" descr="SAM_0787.JPG"/>
          <p:cNvPicPr/>
          <p:nvPr/>
        </p:nvPicPr>
        <p:blipFill>
          <a:blip r:embed="rId1"/>
          <a:stretch/>
        </p:blipFill>
        <p:spPr>
          <a:xfrm>
            <a:off x="785880" y="221472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7" name="Содержимое 5" descr="SAM_0793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Ожерелье для ма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9" name="Содержимое 4" descr="SAM_0795.JPG"/>
          <p:cNvPicPr/>
          <p:nvPr/>
        </p:nvPicPr>
        <p:blipFill>
          <a:blip r:embed="rId1"/>
          <a:stretch/>
        </p:blipFill>
        <p:spPr>
          <a:xfrm>
            <a:off x="357120" y="235728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0" name="Содержимое 5" descr="SAM_0797.JPG"/>
          <p:cNvPicPr/>
          <p:nvPr/>
        </p:nvPicPr>
        <p:blipFill>
          <a:blip r:embed="rId2"/>
          <a:srcRect l="15920" t="-2351" r="0" b="0"/>
          <a:stretch/>
        </p:blipFill>
        <p:spPr>
          <a:xfrm>
            <a:off x="4929120" y="3013200"/>
            <a:ext cx="3538440" cy="32302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4" descr="SAM_08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3" name="Содержимое 5" descr="SAM_0804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4920" y="350028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Купец и его загадочный ларец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5" name="Содержимое 4" descr="SAM_081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6" name="Содержимое 9" descr="SAM_0814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Возвращение в детский са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Содержимое 4" descr="SAM_0817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9" name="Содержимое 5" descr="SAM_081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Бюро путешествий закрываетс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6" descr="SAM_082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4280" y="1143000"/>
            <a:ext cx="74296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урагентство путешествий во времени и пространстве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Содержимое 3" descr="SAM_0737.JPG"/>
          <p:cNvPicPr/>
          <p:nvPr/>
        </p:nvPicPr>
        <p:blipFill>
          <a:blip r:embed="rId1"/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онный тур «Всё о жемчуге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Содержимое 6" descr="SAM_0741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0" name="Содержимое 7" descr="SAM_0738.JPG"/>
          <p:cNvPicPr/>
          <p:nvPr/>
        </p:nvPicPr>
        <p:blipFill>
          <a:blip r:embed="rId2"/>
          <a:stretch/>
        </p:blipFill>
        <p:spPr>
          <a:xfrm>
            <a:off x="428760" y="2286000"/>
            <a:ext cx="4038480" cy="30258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Инструктаж работы с преобразователем времен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Содержимое 4" descr="SAM_0743.JPG"/>
          <p:cNvPicPr/>
          <p:nvPr/>
        </p:nvPicPr>
        <p:blipFill>
          <a:blip r:embed="rId1"/>
          <a:stretch/>
        </p:blipFill>
        <p:spPr>
          <a:xfrm>
            <a:off x="779400" y="224964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3" name="Содержимое 7" descr="SAM_0747.JPG"/>
          <p:cNvPicPr/>
          <p:nvPr/>
        </p:nvPicPr>
        <p:blipFill>
          <a:blip r:embed="rId2"/>
          <a:stretch/>
        </p:blipFill>
        <p:spPr>
          <a:xfrm>
            <a:off x="4970520" y="224964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Перемещение в пространств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4" descr="SAM_0751.JPG"/>
          <p:cNvPicPr/>
          <p:nvPr/>
        </p:nvPicPr>
        <p:blipFill>
          <a:blip r:embed="rId1"/>
          <a:stretch/>
        </p:blipFill>
        <p:spPr>
          <a:xfrm>
            <a:off x="457200" y="3000240"/>
            <a:ext cx="4038480" cy="30276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6" name="Содержимое 5" descr="SAM_0753.JPG"/>
          <p:cNvPicPr/>
          <p:nvPr/>
        </p:nvPicPr>
        <p:blipFill>
          <a:blip r:embed="rId2"/>
          <a:stretch/>
        </p:blipFill>
        <p:spPr>
          <a:xfrm>
            <a:off x="4643280" y="3000240"/>
            <a:ext cx="4038840" cy="3100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ам нужна энергия – «подЗарядка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4" descr="SAM_0756.JPG"/>
          <p:cNvPicPr/>
          <p:nvPr/>
        </p:nvPicPr>
        <p:blipFill>
          <a:blip r:embed="rId1"/>
          <a:stretch/>
        </p:blipFill>
        <p:spPr>
          <a:xfrm>
            <a:off x="779400" y="2428920"/>
            <a:ext cx="3394080" cy="43466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9" name="Содержимое 7" descr="SAM_0760.JPG"/>
          <p:cNvPicPr/>
          <p:nvPr/>
        </p:nvPicPr>
        <p:blipFill>
          <a:blip r:embed="rId2"/>
          <a:stretch/>
        </p:blipFill>
        <p:spPr>
          <a:xfrm>
            <a:off x="4643280" y="2357280"/>
            <a:ext cx="4038840" cy="33577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Мы стараемс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Содержимое 7" descr="SAM_0761.JPG"/>
          <p:cNvPicPr/>
          <p:nvPr/>
        </p:nvPicPr>
        <p:blipFill>
          <a:blip r:embed="rId1"/>
          <a:stretch/>
        </p:blipFill>
        <p:spPr>
          <a:xfrm>
            <a:off x="428760" y="2214720"/>
            <a:ext cx="4038480" cy="30970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2" name="Содержимое 8" descr="SAM_0766.JPG"/>
          <p:cNvPicPr/>
          <p:nvPr/>
        </p:nvPicPr>
        <p:blipFill>
          <a:blip r:embed="rId2"/>
          <a:stretch/>
        </p:blipFill>
        <p:spPr>
          <a:xfrm>
            <a:off x="4643280" y="342900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-2-3 –перемещение нач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4" descr="SAM_0768.JPG"/>
          <p:cNvPicPr/>
          <p:nvPr/>
        </p:nvPicPr>
        <p:blipFill>
          <a:blip r:embed="rId1"/>
          <a:stretch/>
        </p:blipFill>
        <p:spPr>
          <a:xfrm>
            <a:off x="357120" y="2214720"/>
            <a:ext cx="4038840" cy="3028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5" name="Содержимое 5" descr="SAM_0770.JPG"/>
          <p:cNvPicPr/>
          <p:nvPr/>
        </p:nvPicPr>
        <p:blipFill>
          <a:blip r:embed="rId2"/>
          <a:stretch/>
        </p:blipFill>
        <p:spPr>
          <a:xfrm>
            <a:off x="4714920" y="357192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я - Современные жемчужные верфи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4" descr="SAM_0773.JPG"/>
          <p:cNvPicPr/>
          <p:nvPr/>
        </p:nvPicPr>
        <p:blipFill>
          <a:blip r:embed="rId1"/>
          <a:stretch/>
        </p:blipFill>
        <p:spPr>
          <a:xfrm>
            <a:off x="428760" y="25002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8" name="Содержимое 5" descr="SAM_0774.JPG"/>
          <p:cNvPicPr/>
          <p:nvPr/>
        </p:nvPicPr>
        <p:blipFill>
          <a:blip r:embed="rId2"/>
          <a:stretch/>
        </p:blipFill>
        <p:spPr>
          <a:xfrm>
            <a:off x="4714920" y="34290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00:31Z</dcterms:created>
  <dc:creator>UseR</dc:creator>
  <dc:description/>
  <dc:language>en-US</dc:language>
  <cp:lastModifiedBy>ДОМ</cp:lastModifiedBy>
  <dcterms:modified xsi:type="dcterms:W3CDTF">2015-01-30T16:31:26Z</dcterms:modified>
  <cp:revision>15</cp:revision>
  <dc:subject/>
  <dc:title>Путешествие за жемчугом</dc:title>
</cp:coreProperties>
</file>