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7DA-B1CE-456A-B6B1-690D9857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7E5-468A-41E7-84B3-7909CB4D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6D2-C6F3-4806-81CE-D4176FE7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666-44A0-4209-B317-B187466A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CC54-52F6-4F27-9FD6-4DE65A76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91DA-3DFE-4F39-8339-BF7D777B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4EBD-4BD1-4FA0-9451-CD588D35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83D8-333E-4182-BA56-06BA8240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D0B9-6070-492A-B2C9-2CBFC65A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2CCD-8AE7-4E3E-9743-45821FF7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6786-B5D2-4C1D-A297-205CAA21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E08-F827-4716-AF42-912B4835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5709-A679-4CF1-80C2-E3F5D9BC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2319-E355-4DC4-83C0-DB8362C9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BA4C-A541-496D-B05A-31D351D5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B117-6722-4357-870E-307C0069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E5E5-45A7-482A-8F06-2F333385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85F6C-7B60-4C80-A809-41897A03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4B63B-96D7-46AF-B5A9-142ECC85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BB3B4-8CE3-4FB8-9998-3A2B3B1A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54E43-633C-4FC4-BAA9-EF9FC454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50D6F-8277-46FE-9214-653DD4FA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8EDC-78C5-490B-B186-6F50AC82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9B94F-0B80-4644-97D5-CE086164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2B775-3746-4CC9-B2E6-F61B8AF1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0CF76-9F09-442C-A6ED-3C8947BE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63EFC-CD90-49A1-B6BC-8200CF2B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46914-27C9-4D46-A627-13BBA511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C2550-4DCF-4014-BF26-D3B96DBF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3E6F2-2F61-4AD2-8079-ECE38C76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78154-BE20-4BCC-AC5E-EAB407C0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B022F-D260-47E4-873E-4B146B5E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AA77C-D889-43FE-B7D8-3CB876D1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713-F1DC-47CB-8652-C07983F9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EF5F1-CE2F-4342-A3B6-BD2C9FDD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DDA8E-A12D-4794-B1E9-C108FAC3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9393F-B583-437E-B131-D6D1A33A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D0930-6DC8-45BC-9895-F2E7979F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086DC-045F-4939-AD15-B0B17BA3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CE9D4-CF45-42D9-ACB3-A78C0B14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3CAD6-9FFE-4B7F-B877-7C8AD65B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69C5D-19F8-4D75-B5B5-EDF0FCEB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3E65B-138F-4678-B313-050D041F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B2E-14CF-45B4-9BC4-1937FF2E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975-C5D4-4BB2-B774-1D4DB4E3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FBA-8F43-4D82-AB04-CFA7C525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1F1-AB6A-4932-87EA-3118DFBC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D58-5D29-4246-B90B-6D2A47CF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BBF8-91DB-4754-B42D-8C0FD2D98E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EA2A-5981-4D0C-BB74-B4C15FC62C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1F07-A9E9-49DF-B969-B012329707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D879-3427-4895-8898-AB45CC2B0EF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28920"/>
            <a:ext cx="84582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утешествие за жемчугом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Физическая деятельность с интеграцией позн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МБДОУ № 15 «Берёзка» 08.11.2011 уч.г. Группа «Умка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Экскурсия – «Жемчуг прошедших веков»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0" name="Содержимое 4" descr="SAM_0783.JPG"/>
          <p:cNvPicPr/>
          <p:nvPr/>
        </p:nvPicPr>
        <p:blipFill>
          <a:blip r:embed="rId1"/>
          <a:stretch/>
        </p:blipFill>
        <p:spPr>
          <a:xfrm>
            <a:off x="457200" y="29988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41" name="Содержимое 5" descr="SAM_0785.JPG"/>
          <p:cNvPicPr/>
          <p:nvPr/>
        </p:nvPicPr>
        <p:blipFill>
          <a:blip r:embed="rId2"/>
          <a:stretch/>
        </p:blipFill>
        <p:spPr>
          <a:xfrm>
            <a:off x="4648320" y="29988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Трудный спуск со скалы к морю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3" name="Содержимое 7" descr="SAM_0792.JPG"/>
          <p:cNvPicPr/>
          <p:nvPr/>
        </p:nvPicPr>
        <p:blipFill>
          <a:blip r:embed="rId1"/>
          <a:stretch/>
        </p:blipFill>
        <p:spPr>
          <a:xfrm>
            <a:off x="4648320" y="29988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44" name="Содержимое 6" descr="SAM_0786.JPG"/>
          <p:cNvPicPr/>
          <p:nvPr/>
        </p:nvPicPr>
        <p:blipFill>
          <a:blip r:embed="rId2"/>
          <a:stretch/>
        </p:blipFill>
        <p:spPr>
          <a:xfrm>
            <a:off x="428760" y="2214720"/>
            <a:ext cx="4038480" cy="30286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Подземный тоннель                        Мы ныряльщики за жемчугом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6" name="Содержимое 4" descr="SAM_0787.JPG"/>
          <p:cNvPicPr/>
          <p:nvPr/>
        </p:nvPicPr>
        <p:blipFill>
          <a:blip r:embed="rId1"/>
          <a:stretch/>
        </p:blipFill>
        <p:spPr>
          <a:xfrm>
            <a:off x="785880" y="2214720"/>
            <a:ext cx="3394080" cy="45259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47" name="Содержимое 5" descr="SAM_0793.JPG"/>
          <p:cNvPicPr/>
          <p:nvPr/>
        </p:nvPicPr>
        <p:blipFill>
          <a:blip r:embed="rId2"/>
          <a:stretch/>
        </p:blipFill>
        <p:spPr>
          <a:xfrm>
            <a:off x="4857840" y="357192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Ожерелье для ма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9" name="Содержимое 4" descr="SAM_0795.JPG"/>
          <p:cNvPicPr/>
          <p:nvPr/>
        </p:nvPicPr>
        <p:blipFill>
          <a:blip r:embed="rId1"/>
          <a:stretch/>
        </p:blipFill>
        <p:spPr>
          <a:xfrm>
            <a:off x="357120" y="2357280"/>
            <a:ext cx="403884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50" name="Содержимое 5" descr="SAM_0797.JPG"/>
          <p:cNvPicPr/>
          <p:nvPr/>
        </p:nvPicPr>
        <p:blipFill>
          <a:blip r:embed="rId2"/>
          <a:srcRect l="15920" t="-2351" r="0" b="0"/>
          <a:stretch/>
        </p:blipFill>
        <p:spPr>
          <a:xfrm>
            <a:off x="4929120" y="3013200"/>
            <a:ext cx="3538440" cy="32302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2" name="Содержимое 4" descr="SAM_0803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57200" y="29988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53" name="Содержимое 5" descr="SAM_0804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714920" y="350028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Купец и его загадочный ларец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5" name="Содержимое 4" descr="SAM_0811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57200" y="29988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56" name="Содержимое 9" descr="SAM_0814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4648320" y="29988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Возвращение в детский сад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8" name="Содержимое 4" descr="SAM_0817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57200" y="29988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59" name="Содержимое 5" descr="SAM_0819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4648320" y="29988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Бюро путешествий закрываетс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1" name="Содержимое 6" descr="SAM_0823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689120" y="2249640"/>
            <a:ext cx="5765760" cy="43243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14280" y="1143000"/>
            <a:ext cx="742968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Спасибо за внимание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 spd="slow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Турагентство путешествий во времени и пространстве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7" name="Содержимое 3" descr="SAM_0737.JPG"/>
          <p:cNvPicPr/>
          <p:nvPr/>
        </p:nvPicPr>
        <p:blipFill>
          <a:blip r:embed="rId1"/>
          <a:stretch/>
        </p:blipFill>
        <p:spPr>
          <a:xfrm>
            <a:off x="1689120" y="2249640"/>
            <a:ext cx="5765760" cy="43243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Экскурсионный тур «Всё о жемчуге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Содержимое 6" descr="SAM_0741.JPG"/>
          <p:cNvPicPr/>
          <p:nvPr/>
        </p:nvPicPr>
        <p:blipFill>
          <a:blip r:embed="rId1"/>
          <a:stretch/>
        </p:blipFill>
        <p:spPr>
          <a:xfrm>
            <a:off x="4786200" y="3071880"/>
            <a:ext cx="403884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20" name="Содержимое 7" descr="SAM_0738.JPG"/>
          <p:cNvPicPr/>
          <p:nvPr/>
        </p:nvPicPr>
        <p:blipFill>
          <a:blip r:embed="rId2"/>
          <a:stretch/>
        </p:blipFill>
        <p:spPr>
          <a:xfrm>
            <a:off x="428760" y="2286000"/>
            <a:ext cx="4038480" cy="302580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Инструктаж работы с преобразователем времен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2" name="Содержимое 4" descr="SAM_0743.JPG"/>
          <p:cNvPicPr/>
          <p:nvPr/>
        </p:nvPicPr>
        <p:blipFill>
          <a:blip r:embed="rId1"/>
          <a:stretch/>
        </p:blipFill>
        <p:spPr>
          <a:xfrm>
            <a:off x="779400" y="2249640"/>
            <a:ext cx="3394080" cy="45259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23" name="Содержимое 7" descr="SAM_0747.JPG"/>
          <p:cNvPicPr/>
          <p:nvPr/>
        </p:nvPicPr>
        <p:blipFill>
          <a:blip r:embed="rId2"/>
          <a:stretch/>
        </p:blipFill>
        <p:spPr>
          <a:xfrm>
            <a:off x="4970520" y="2249640"/>
            <a:ext cx="3394080" cy="45259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Перемещение в пространств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5" name="Содержимое 4" descr="SAM_0751.JPG"/>
          <p:cNvPicPr/>
          <p:nvPr/>
        </p:nvPicPr>
        <p:blipFill>
          <a:blip r:embed="rId1"/>
          <a:stretch/>
        </p:blipFill>
        <p:spPr>
          <a:xfrm>
            <a:off x="457200" y="3000240"/>
            <a:ext cx="4038480" cy="302760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26" name="Содержимое 5" descr="SAM_0753.JPG"/>
          <p:cNvPicPr/>
          <p:nvPr/>
        </p:nvPicPr>
        <p:blipFill>
          <a:blip r:embed="rId2"/>
          <a:stretch/>
        </p:blipFill>
        <p:spPr>
          <a:xfrm>
            <a:off x="4643280" y="3000240"/>
            <a:ext cx="4038840" cy="31006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Нам нужна энергия – «подЗарядка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Содержимое 4" descr="SAM_0756.JPG"/>
          <p:cNvPicPr/>
          <p:nvPr/>
        </p:nvPicPr>
        <p:blipFill>
          <a:blip r:embed="rId1"/>
          <a:stretch/>
        </p:blipFill>
        <p:spPr>
          <a:xfrm>
            <a:off x="779400" y="2428920"/>
            <a:ext cx="3394080" cy="43466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29" name="Содержимое 7" descr="SAM_0760.JPG"/>
          <p:cNvPicPr/>
          <p:nvPr/>
        </p:nvPicPr>
        <p:blipFill>
          <a:blip r:embed="rId2"/>
          <a:stretch/>
        </p:blipFill>
        <p:spPr>
          <a:xfrm>
            <a:off x="4643280" y="2357280"/>
            <a:ext cx="4038840" cy="33577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Мы стараемс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Содержимое 7" descr="SAM_0761.JPG"/>
          <p:cNvPicPr/>
          <p:nvPr/>
        </p:nvPicPr>
        <p:blipFill>
          <a:blip r:embed="rId1"/>
          <a:stretch/>
        </p:blipFill>
        <p:spPr>
          <a:xfrm>
            <a:off x="428760" y="2214720"/>
            <a:ext cx="4038480" cy="30970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32" name="Содержимое 8" descr="SAM_0766.JPG"/>
          <p:cNvPicPr/>
          <p:nvPr/>
        </p:nvPicPr>
        <p:blipFill>
          <a:blip r:embed="rId2"/>
          <a:stretch/>
        </p:blipFill>
        <p:spPr>
          <a:xfrm>
            <a:off x="4643280" y="3429000"/>
            <a:ext cx="403884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-2-3 –перемещение начн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4" name="Содержимое 4" descr="SAM_0768.JPG"/>
          <p:cNvPicPr/>
          <p:nvPr/>
        </p:nvPicPr>
        <p:blipFill>
          <a:blip r:embed="rId1"/>
          <a:stretch/>
        </p:blipFill>
        <p:spPr>
          <a:xfrm>
            <a:off x="357120" y="2214720"/>
            <a:ext cx="4038840" cy="30286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35" name="Содержимое 5" descr="SAM_0770.JPG"/>
          <p:cNvPicPr/>
          <p:nvPr/>
        </p:nvPicPr>
        <p:blipFill>
          <a:blip r:embed="rId2"/>
          <a:stretch/>
        </p:blipFill>
        <p:spPr>
          <a:xfrm>
            <a:off x="4714920" y="357192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Экскурсия - Современные жемчужные верфи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Содержимое 4" descr="SAM_0773.JPG"/>
          <p:cNvPicPr/>
          <p:nvPr/>
        </p:nvPicPr>
        <p:blipFill>
          <a:blip r:embed="rId1"/>
          <a:stretch/>
        </p:blipFill>
        <p:spPr>
          <a:xfrm>
            <a:off x="428760" y="25002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238" name="Содержимое 5" descr="SAM_0774.JPG"/>
          <p:cNvPicPr/>
          <p:nvPr/>
        </p:nvPicPr>
        <p:blipFill>
          <a:blip r:embed="rId2"/>
          <a:stretch/>
        </p:blipFill>
        <p:spPr>
          <a:xfrm>
            <a:off x="4714920" y="3429000"/>
            <a:ext cx="4038480" cy="30290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 advTm="8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5:00:31Z</dcterms:created>
  <dc:creator>UseR</dc:creator>
  <dc:description/>
  <dc:language>en-US</dc:language>
  <cp:lastModifiedBy>ДОМ</cp:lastModifiedBy>
  <dcterms:modified xsi:type="dcterms:W3CDTF">2015-01-30T16:31:26Z</dcterms:modified>
  <cp:revision>15</cp:revision>
  <dc:subject/>
  <dc:title>Путешествие за жемчугом</dc:title>
</cp:coreProperties>
</file>