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86C-B04E-4C66-97F4-9128044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4DF-77D9-45DB-98A0-B4A7A0F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CAC-A20F-40AB-B781-501D1A2C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F7D-FC0C-49C2-8848-E86B75E4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6EA-F6DE-467A-BE2F-1F94FA76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DF8-85B8-4DD0-B636-380A5360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B8F5-BA60-489C-AD24-04A624BB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7CF-FB7D-4C22-A4FA-20EC779F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5C29-B12F-4FC3-8B32-C7D8A2C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02A-03AB-417E-9C8B-AD834B69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334-7F01-4C29-84DC-1E7B7D5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B38-52D5-467A-A70E-CAC88A18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FD63-5EB2-4FDB-980A-A042F22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442D-B2F8-4CC0-8879-F5B28D1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0603-FFF4-4E78-9240-F61D20A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17D-1DB4-4240-B236-66698910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0745-598C-484D-B9BC-B95477AF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379-8EBA-4048-AD32-242A0B06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205-74C3-4A55-8FF9-7C7D1F2D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9A6-F9D9-433F-BF85-64B6F11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3FE-AB28-4C02-8F08-A24B0D1E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CDF-799D-4ED2-B60B-F661443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B9C-8541-46BF-9B5C-477D0BD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5D8-1C83-41A3-993F-858E1E8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8B9-2DE9-4E51-B88F-F16101DD8EC3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EBF-D132-4FD9-A980-FA700DAA459B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3,8,&#1055;&#1086;&#1076;&#1073;&#1077;&#1088;&#1080;&#1090;&#1077; &#1089;&#1083;&#1086;&#1074;&#1072;-&#1087;&#1088;&#1080;&#1079;&#1085;&#1072;&#1082;&#1080; (&#1080;&#1084;&#1077;&#1085;&#1072; &#1087;&#1088;&#1080;&#1083;&#1072;&#1075;&#1072;&#1090;&#1077;&#1083;&#1100;&#1085;&#1099;&#1077;)." TargetMode="External"/><Relationship Id="rId2" Type="http://schemas.openxmlformats.org/officeDocument/2006/relationships/hyperlink" Target="-1,-1,NEXT" TargetMode="External"/><Relationship Id="rId3" Type="http://schemas.openxmlformats.org/officeDocument/2006/relationships/hyperlink" Target="262,7,&#1055;&#1086;&#1076;&#1073;&#1077;&#1088;&#1080;&#1090;&#1077; &#1089;&#1083;&#1086;&#1074;&#1072;-&#1076;&#1077;&#1081;&#1089;&#1090;&#1074;&#1080;&#1103; (&#1075;&#1083;&#1072;&#1075;&#1086;&#1083;&#1099;)." TargetMode="External"/><Relationship Id="rId4" Type="http://schemas.openxmlformats.org/officeDocument/2006/relationships/hyperlink" Target="264,9,&#1055;&#1086;&#1076;&#1073;&#1077;&#1088;&#1080;&#1090;&#1077; &#1088;&#1086;&#1076;&#1089;&#1090;&#1074;&#1077;&#1085;&#1085;&#1099;&#1077; &#1089;&#1083;&#1086;&#1074;&#1072;." TargetMode="External"/><Relationship Id="rId5" Type="http://schemas.openxmlformats.org/officeDocument/2006/relationships/hyperlink" Target="265,10,&#1055;&#1086;&#1076;&#1073;&#1077;&#1088;&#1080;&#1090;&#1077; &#1089;&#1080;&#1085;&#1086;&#1085;&#1080;&#1084;&#1099; &#1080; &#1072;&#1085;&#1090;&#1086;&#1085;&#1080;&#1084;&#1099;.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Русская народная сказка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”</a:t>
            </a:r>
            <a:r>
              <a:rPr b="1" lang="ru-RU" sz="4000" spc="-1" strike="noStrike">
                <a:solidFill>
                  <a:srgbClr val="000066"/>
                </a:solidFill>
                <a:latin typeface="Verdana"/>
              </a:rPr>
              <a:t>.</a:t>
            </a:r>
            <a:br>
              <a:rPr sz="4000"/>
            </a:b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(урок литературного чтения 2 класс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ябликова Н.А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учитель начальных классов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БОУ СОШ №85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инонимы и антонимы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Синонимы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Мороз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ужа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Холо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Антонимы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Жар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425760" cy="2087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42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Бубенчик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металлический шарик с кусочком внутри, позванивающий при встряхивании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807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Дровосек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человек, рубящий дро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7306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Купец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богатый человек, живущий в городе, владелец торговой лавк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3349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пределите значени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Крестьянин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– бедный человек, живущий в деревне, занимающийся обработкой земл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578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умайте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 какому литературному жанру относится это произведение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Докажите, что это сказк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акая это сказка: народная или авторская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 какому типу сказок она относится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Удалось ли героям людей заморозить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Сравнительная характеристика купца и крестьянина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07000" cy="4343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018040" y="1600200"/>
            <a:ext cx="32972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а чём еха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ани с колокольчикам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город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Розвальни с бубенчик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лес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514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Во что были одеты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уба медвежь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апоги волчь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апка лись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Полушубок старый да рваны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Шапка худа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Рукавицы дырявы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Как себя вели, когда замерзали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Лежит себе да кутаетс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егом за санями беж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опором маше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кинул тёплую одежду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Отгадайте загадку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Какой это мастер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На стёкла нанёс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листья, и травы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заросли роз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9608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Составьте из частей пословицы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Мороз не велик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Где тепло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Хочешь есть калачи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У работающего в руках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ереги нос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ак не сиди на печ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тут и добро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большой мороз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да стоять не вел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дело огнём гор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905120"/>
            <a:ext cx="762120" cy="228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362320"/>
            <a:ext cx="17524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90920" y="1904760"/>
            <a:ext cx="2209680" cy="1447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4343400"/>
            <a:ext cx="251460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24080" y="3352680"/>
            <a:ext cx="1676520" cy="152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Найдите в тексте пословицу, которая выражает главную мысль сказки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Топор лучше шубы гре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124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Домашнее задание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Составить рассказ о купце или крестьянине (по выбору)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Попробовать себя в роли художника-иллюстратора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Тема урок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русская народная сказка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56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Сформулируйте цель урок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Verdana"/>
              </a:rPr>
              <a:t>Познакомимся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 р.н.ск.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Два Мороза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Verdana"/>
              </a:rPr>
              <a:t>Будем учиться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равильно и выразительно читать, анализировать сказку, проводить сравнительную характеристику герое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7493"/>
                </a:moveTo>
                <a:lnTo>
                  <a:pt x="14497" y="7493"/>
                </a:lnTo>
                <a:lnTo>
                  <a:pt x="14497" y="12828"/>
                </a:lnTo>
                <a:cubicBezTo>
                  <a:pt x="14497" y="13751"/>
                  <a:pt x="15298" y="14482"/>
                  <a:pt x="16334" y="14482"/>
                </a:cubicBezTo>
                <a:lnTo>
                  <a:pt x="17996" y="14482"/>
                </a:lnTo>
                <a:cubicBezTo>
                  <a:pt x="19032" y="14482"/>
                  <a:pt x="19833" y="13751"/>
                  <a:pt x="19833" y="12828"/>
                </a:cubicBezTo>
                <a:lnTo>
                  <a:pt x="19833" y="7493"/>
                </a:lnTo>
                <a:lnTo>
                  <a:pt x="17996" y="7493"/>
                </a:lnTo>
                <a:lnTo>
                  <a:pt x="21504" y="3985"/>
                </a:lnTo>
                <a:lnTo>
                  <a:pt x="25177" y="7493"/>
                </a:lnTo>
                <a:lnTo>
                  <a:pt x="23340" y="7493"/>
                </a:lnTo>
                <a:lnTo>
                  <a:pt x="23340" y="12828"/>
                </a:lnTo>
                <a:cubicBezTo>
                  <a:pt x="23340" y="15596"/>
                  <a:pt x="20764" y="18155"/>
                  <a:pt x="17996" y="18155"/>
                </a:cubicBezTo>
                <a:lnTo>
                  <a:pt x="16334" y="18155"/>
                </a:lnTo>
                <a:cubicBezTo>
                  <a:pt x="13566" y="18155"/>
                  <a:pt x="10990" y="15596"/>
                  <a:pt x="1099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352680" y="2819520"/>
            <a:ext cx="2743200" cy="1218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66"/>
                </a:solidFill>
                <a:uFillTx/>
                <a:latin typeface="Verdana"/>
              </a:rPr>
              <a:t>мороз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066680"/>
            <a:ext cx="609840" cy="1752840"/>
          </a:xfrm>
          <a:prstGeom prst="upArrow">
            <a:avLst>
              <a:gd name="adj1" fmla="val 50000"/>
              <a:gd name="adj2" fmla="val 71857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1"/>
              </a:rPr>
              <a:t>Слова-признак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038480"/>
            <a:ext cx="609480" cy="1905120"/>
          </a:xfrm>
          <a:prstGeom prst="downArrow">
            <a:avLst>
              <a:gd name="adj1" fmla="val 50000"/>
              <a:gd name="adj2" fmla="val 78145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2"/>
              </a:rPr>
              <a:t>Лексическое значение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048120"/>
            <a:ext cx="2361960" cy="609480"/>
          </a:xfrm>
          <a:prstGeom prst="leftArrow">
            <a:avLst>
              <a:gd name="adj1" fmla="val 50000"/>
              <a:gd name="adj2" fmla="val 96884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3"/>
              </a:rPr>
              <a:t>Слова-действия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9158600">
            <a:off x="5105520" y="1676520"/>
            <a:ext cx="2590560" cy="741240"/>
          </a:xfrm>
          <a:prstGeom prst="leftRightArrow">
            <a:avLst>
              <a:gd name="adj1" fmla="val 50000"/>
              <a:gd name="adj2" fmla="val 69574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4"/>
              </a:rPr>
              <a:t>Родственные слов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390200">
            <a:off x="5811840" y="4204800"/>
            <a:ext cx="3279600" cy="487440"/>
          </a:xfrm>
          <a:prstGeom prst="rightArrow">
            <a:avLst>
              <a:gd name="adj1" fmla="val 50000"/>
              <a:gd name="adj2" fmla="val 168205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ff"/>
                </a:solidFill>
                <a:uFillTx/>
                <a:latin typeface="Verdana"/>
                <a:hlinkClick r:id="rId5"/>
              </a:rPr>
              <a:t>Синонимы и антонимы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Лексическое значение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Verdana"/>
              </a:rPr>
              <a:t>Мороз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– холод, понижение температуры воздуха ниже нуля градусов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2514600" cy="326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20120" y="601992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1" y="14482"/>
                </a:cubicBezTo>
                <a:lnTo>
                  <a:pt x="15594" y="14482"/>
                </a:lnTo>
                <a:cubicBezTo>
                  <a:pt x="16629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1" y="3985"/>
                </a:lnTo>
                <a:lnTo>
                  <a:pt x="22774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1" y="18155"/>
                  <a:pt x="15594" y="18155"/>
                </a:cubicBezTo>
                <a:lnTo>
                  <a:pt x="13931" y="18155"/>
                </a:lnTo>
                <a:cubicBezTo>
                  <a:pt x="11164" y="18155"/>
                  <a:pt x="8587" y="15596"/>
                  <a:pt x="8587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лова-действия (глаголы)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Удари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Крепчае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Пробирае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Холоди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Скова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Разукрасил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Обжигает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3349800" cy="2925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620120" y="59436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1" y="14482"/>
                </a:cubicBezTo>
                <a:lnTo>
                  <a:pt x="15594" y="14482"/>
                </a:lnTo>
                <a:cubicBezTo>
                  <a:pt x="16629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1" y="3985"/>
                </a:lnTo>
                <a:lnTo>
                  <a:pt x="22774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1" y="18155"/>
                  <a:pt x="15594" y="18155"/>
                </a:cubicBezTo>
                <a:lnTo>
                  <a:pt x="13931" y="18155"/>
                </a:lnTo>
                <a:cubicBezTo>
                  <a:pt x="11164" y="18155"/>
                  <a:pt x="8587" y="15596"/>
                  <a:pt x="8587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слова-признаки (имена прилагательные)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ильн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лаб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Трескуч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Лют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Жесток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Страшны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Зло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Колючий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Русский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505320" cy="373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493"/>
                </a:moveTo>
                <a:lnTo>
                  <a:pt x="15006" y="7493"/>
                </a:lnTo>
                <a:lnTo>
                  <a:pt x="15006" y="12828"/>
                </a:lnTo>
                <a:cubicBezTo>
                  <a:pt x="15006" y="13751"/>
                  <a:pt x="15807" y="14482"/>
                  <a:pt x="16843" y="14482"/>
                </a:cubicBezTo>
                <a:lnTo>
                  <a:pt x="18505" y="14482"/>
                </a:lnTo>
                <a:cubicBezTo>
                  <a:pt x="19541" y="14482"/>
                  <a:pt x="20341" y="13751"/>
                  <a:pt x="20341" y="12828"/>
                </a:cubicBezTo>
                <a:lnTo>
                  <a:pt x="20341" y="7493"/>
                </a:lnTo>
                <a:lnTo>
                  <a:pt x="18505" y="7493"/>
                </a:lnTo>
                <a:lnTo>
                  <a:pt x="22013" y="3985"/>
                </a:lnTo>
                <a:lnTo>
                  <a:pt x="25685" y="7493"/>
                </a:lnTo>
                <a:lnTo>
                  <a:pt x="23849" y="7493"/>
                </a:lnTo>
                <a:lnTo>
                  <a:pt x="23849" y="12828"/>
                </a:lnTo>
                <a:cubicBezTo>
                  <a:pt x="23849" y="15596"/>
                  <a:pt x="21273" y="18155"/>
                  <a:pt x="18505" y="18155"/>
                </a:cubicBezTo>
                <a:lnTo>
                  <a:pt x="16843" y="18155"/>
                </a:lnTo>
                <a:cubicBezTo>
                  <a:pt x="14075" y="18155"/>
                  <a:pt x="11498" y="15596"/>
                  <a:pt x="11498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Подберите родственные слова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ный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ит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ко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ильник,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розно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343400" cy="345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7493"/>
                </a:moveTo>
                <a:lnTo>
                  <a:pt x="12701" y="7493"/>
                </a:lnTo>
                <a:lnTo>
                  <a:pt x="12701" y="12828"/>
                </a:lnTo>
                <a:cubicBezTo>
                  <a:pt x="12701" y="13751"/>
                  <a:pt x="13502" y="14482"/>
                  <a:pt x="14538" y="14482"/>
                </a:cubicBezTo>
                <a:lnTo>
                  <a:pt x="16200" y="14482"/>
                </a:lnTo>
                <a:cubicBezTo>
                  <a:pt x="17236" y="14482"/>
                  <a:pt x="18036" y="13751"/>
                  <a:pt x="18036" y="12828"/>
                </a:cubicBezTo>
                <a:lnTo>
                  <a:pt x="18036" y="7493"/>
                </a:lnTo>
                <a:lnTo>
                  <a:pt x="16200" y="7493"/>
                </a:lnTo>
                <a:lnTo>
                  <a:pt x="19708" y="3985"/>
                </a:lnTo>
                <a:lnTo>
                  <a:pt x="23381" y="7493"/>
                </a:lnTo>
                <a:lnTo>
                  <a:pt x="21544" y="7493"/>
                </a:lnTo>
                <a:lnTo>
                  <a:pt x="21544" y="12828"/>
                </a:lnTo>
                <a:cubicBezTo>
                  <a:pt x="21544" y="15596"/>
                  <a:pt x="18968" y="18155"/>
                  <a:pt x="16200" y="18155"/>
                </a:cubicBezTo>
                <a:lnTo>
                  <a:pt x="14538" y="18155"/>
                </a:lnTo>
                <a:cubicBezTo>
                  <a:pt x="11770" y="18155"/>
                  <a:pt x="9194" y="15596"/>
                  <a:pt x="9194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1T16:10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