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7F8-FF74-43A6-8D36-CCC31ADD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A75-EA52-4991-A494-EBE90F3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FED-6304-4011-9C28-5C4FED9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643-29BE-4949-8A02-0FA262AD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DCD-948F-48F8-AE24-23AB327B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90E-EA53-441F-8EC6-70B5BC81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DB1D-AD89-4CD6-9AF2-E312A039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080-CCEB-4573-A3A7-3BE6264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880-57C4-435F-99EF-AB20ED6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2B9-3DC8-4873-B9F9-A69D8E7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C144-CB8D-49B6-A893-86DBB7D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F78-7A4B-45D9-A105-1BA458EE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D386-43D5-4964-ADF3-8F01D24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4AF-A0BA-4D9F-8D9B-8334387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EBCC-A6E0-4FBA-B9A2-4BA03BF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F67-6EFC-4356-9D71-9A807D9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732D-93A8-48D9-812F-3B66A379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D82-ADC7-4C8C-8D0D-71A6E1A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924-920E-4635-ACD2-4B44370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AEB-4291-4951-9010-8FDED19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171-4AE3-4E81-BE7B-6D99E7E0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B5D-8E73-4256-A62D-7475C8E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7A3-25FD-473E-8C6E-23D77FEE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BA1-22E0-4CC3-B81C-97F316A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50D-D293-4BE8-B07E-CDA70D873E32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CC2-0710-46F9-ADB5-0140AA4D3EC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3,8,&#1055;&#1086;&#1076;&#1073;&#1077;&#1088;&#1080;&#1090;&#1077; &#1089;&#1083;&#1086;&#1074;&#1072;-&#1087;&#1088;&#1080;&#1079;&#1085;&#1072;&#1082;&#1080; (&#1080;&#1084;&#1077;&#1085;&#1072; &#1087;&#1088;&#1080;&#1083;&#1072;&#1075;&#1072;&#1090;&#1077;&#1083;&#1100;&#1085;&#1099;&#1077;)." TargetMode="External"/><Relationship Id="rId2" Type="http://schemas.openxmlformats.org/officeDocument/2006/relationships/hyperlink" Target="-1,-1,NEXT" TargetMode="External"/><Relationship Id="rId3" Type="http://schemas.openxmlformats.org/officeDocument/2006/relationships/hyperlink" Target="262,7,&#1055;&#1086;&#1076;&#1073;&#1077;&#1088;&#1080;&#1090;&#1077; &#1089;&#1083;&#1086;&#1074;&#1072;-&#1076;&#1077;&#1081;&#1089;&#1090;&#1074;&#1080;&#1103; (&#1075;&#1083;&#1072;&#1075;&#1086;&#1083;&#1099;)." TargetMode="External"/><Relationship Id="rId4" Type="http://schemas.openxmlformats.org/officeDocument/2006/relationships/hyperlink" Target="264,9,&#1055;&#1086;&#1076;&#1073;&#1077;&#1088;&#1080;&#1090;&#1077; &#1088;&#1086;&#1076;&#1089;&#1090;&#1074;&#1077;&#1085;&#1085;&#1099;&#1077; &#1089;&#1083;&#1086;&#1074;&#1072;." TargetMode="External"/><Relationship Id="rId5" Type="http://schemas.openxmlformats.org/officeDocument/2006/relationships/hyperlink" Target="265,10,&#1055;&#1086;&#1076;&#1073;&#1077;&#1088;&#1080;&#1090;&#1077; &#1089;&#1080;&#1085;&#1086;&#1085;&#1080;&#1084;&#1099; &#1080; &#1072;&#1085;&#1090;&#1086;&#1085;&#1080;&#1084;&#1099;.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Русская народная сказка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”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.</a:t>
            </a:r>
            <a:br>
              <a:rPr sz="40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(урок литературного чтения 2 класс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ябликова Н.А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учитель начальных классов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БОУ СОШ №85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инонимы и антонимы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Синонимы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Мороз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ужа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Холо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Антонимы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Жар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425760" cy="2087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42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Бубенчик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металлический шарик с кусочком внутри, позванивающий при встряхивании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807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Дровосек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человек, рубящий дро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7306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Купец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богатый человек, живущий в городе, владелец торговой лавк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349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Крестьянин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бедный человек, живущий в деревне, занимающийся обработкой земл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578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умайте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 какому литературному жанру относится это произведение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Докажите, что это сказ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акая это сказка: народная или авторская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 какому типу сказок она относится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Удалось ли героям людей заморозить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Сравнительная характеристика купца и крестьянина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07000" cy="4343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018040" y="1600200"/>
            <a:ext cx="32972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а чём еха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ани с колокольчикам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горо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Розвальни с бубенчик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лес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514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Во что были одеты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уба медвежь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апоги волчь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апка лись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Полушубок старый да рваны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апка худа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Рукавицы дырявы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Как себя вели, когда замерза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Лежит себе да кутаетс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егом за санями беж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опором маше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кинул тёплую одежду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тгадайте загадку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Какой это масте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На стёкла нанёс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листья, и травы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заросли роз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9608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Составьте из частей пословицы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Мороз не велик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Где тепло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Хочешь есть калачи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У работающего в руках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ереги нос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ак не сиди на печ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ут и добро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большой мороз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да стоять не вел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дело огнём гор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905120"/>
            <a:ext cx="762120" cy="228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362320"/>
            <a:ext cx="17524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90920" y="1904760"/>
            <a:ext cx="2209680" cy="1447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4343400"/>
            <a:ext cx="251460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24080" y="3352680"/>
            <a:ext cx="1676520" cy="152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Найдите в тексте пословицу, которая выражает главную мысль сказк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Топор лучше шубы гре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Домашнее задание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Составить рассказ о купце или крестьянине (по выбору)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Попробовать себя в роли художника-иллюстратор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Тема урок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русская народная сказка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Сформулируйте цель урок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Verdana"/>
              </a:rPr>
              <a:t>Познакомимся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 р.н.ск.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Verdana"/>
              </a:rPr>
              <a:t>Будем учиться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равильно и выразительно читать, анализировать сказку, проводить сравнительную характеристику герое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7493"/>
                </a:moveTo>
                <a:lnTo>
                  <a:pt x="14497" y="7493"/>
                </a:lnTo>
                <a:lnTo>
                  <a:pt x="14497" y="12828"/>
                </a:lnTo>
                <a:cubicBezTo>
                  <a:pt x="14497" y="13751"/>
                  <a:pt x="15298" y="14482"/>
                  <a:pt x="16334" y="14482"/>
                </a:cubicBezTo>
                <a:lnTo>
                  <a:pt x="17996" y="14482"/>
                </a:lnTo>
                <a:cubicBezTo>
                  <a:pt x="19032" y="14482"/>
                  <a:pt x="19833" y="13751"/>
                  <a:pt x="19833" y="12828"/>
                </a:cubicBezTo>
                <a:lnTo>
                  <a:pt x="19833" y="7493"/>
                </a:lnTo>
                <a:lnTo>
                  <a:pt x="17996" y="7493"/>
                </a:lnTo>
                <a:lnTo>
                  <a:pt x="21504" y="3985"/>
                </a:lnTo>
                <a:lnTo>
                  <a:pt x="25177" y="7493"/>
                </a:lnTo>
                <a:lnTo>
                  <a:pt x="23340" y="7493"/>
                </a:lnTo>
                <a:lnTo>
                  <a:pt x="23340" y="12828"/>
                </a:lnTo>
                <a:cubicBezTo>
                  <a:pt x="23340" y="15596"/>
                  <a:pt x="20764" y="18155"/>
                  <a:pt x="17996" y="18155"/>
                </a:cubicBezTo>
                <a:lnTo>
                  <a:pt x="16334" y="18155"/>
                </a:lnTo>
                <a:cubicBezTo>
                  <a:pt x="13566" y="18155"/>
                  <a:pt x="10990" y="15596"/>
                  <a:pt x="1099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352680" y="2819520"/>
            <a:ext cx="2743200" cy="1218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66"/>
                </a:solidFill>
                <a:uFillTx/>
                <a:latin typeface="Verdana"/>
              </a:rPr>
              <a:t>мороз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066680"/>
            <a:ext cx="609840" cy="1752840"/>
          </a:xfrm>
          <a:prstGeom prst="upArrow">
            <a:avLst>
              <a:gd name="adj1" fmla="val 50000"/>
              <a:gd name="adj2" fmla="val 7185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1"/>
              </a:rPr>
              <a:t>Слова-признак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038480"/>
            <a:ext cx="609480" cy="1905120"/>
          </a:xfrm>
          <a:prstGeom prst="downArrow">
            <a:avLst>
              <a:gd name="adj1" fmla="val 50000"/>
              <a:gd name="adj2" fmla="val 78145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2"/>
              </a:rPr>
              <a:t>Лексическое значение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048120"/>
            <a:ext cx="2361960" cy="609480"/>
          </a:xfrm>
          <a:prstGeom prst="leftArrow">
            <a:avLst>
              <a:gd name="adj1" fmla="val 50000"/>
              <a:gd name="adj2" fmla="val 96884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Слова-действия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9158600">
            <a:off x="5105520" y="1676520"/>
            <a:ext cx="2590560" cy="741240"/>
          </a:xfrm>
          <a:prstGeom prst="leftRightArrow">
            <a:avLst>
              <a:gd name="adj1" fmla="val 50000"/>
              <a:gd name="adj2" fmla="val 69574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4"/>
              </a:rPr>
              <a:t>Родственные слов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390200">
            <a:off x="5811840" y="4204800"/>
            <a:ext cx="3279600" cy="487440"/>
          </a:xfrm>
          <a:prstGeom prst="rightArrow">
            <a:avLst>
              <a:gd name="adj1" fmla="val 50000"/>
              <a:gd name="adj2" fmla="val 168205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5"/>
              </a:rPr>
              <a:t>Синонимы и антонимы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Лексическое значение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Verdana"/>
              </a:rPr>
              <a:t>Мороз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– холод, понижение температуры воздуха ниже нуля градусо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2514600" cy="326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20120" y="601992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1" y="14482"/>
                </a:cubicBezTo>
                <a:lnTo>
                  <a:pt x="15594" y="14482"/>
                </a:lnTo>
                <a:cubicBezTo>
                  <a:pt x="16629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1" y="3985"/>
                </a:lnTo>
                <a:lnTo>
                  <a:pt x="22774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1" y="18155"/>
                  <a:pt x="15594" y="18155"/>
                </a:cubicBezTo>
                <a:lnTo>
                  <a:pt x="13931" y="18155"/>
                </a:lnTo>
                <a:cubicBezTo>
                  <a:pt x="11164" y="18155"/>
                  <a:pt x="8587" y="15596"/>
                  <a:pt x="8587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лова-действия (глаголы)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Удари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репчае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Пробирае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Холоди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Скова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Разукраси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Обжигает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349800" cy="2925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620120" y="59436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1" y="14482"/>
                </a:cubicBezTo>
                <a:lnTo>
                  <a:pt x="15594" y="14482"/>
                </a:lnTo>
                <a:cubicBezTo>
                  <a:pt x="16629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1" y="3985"/>
                </a:lnTo>
                <a:lnTo>
                  <a:pt x="22774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1" y="18155"/>
                  <a:pt x="15594" y="18155"/>
                </a:cubicBezTo>
                <a:lnTo>
                  <a:pt x="13931" y="18155"/>
                </a:lnTo>
                <a:cubicBezTo>
                  <a:pt x="11164" y="18155"/>
                  <a:pt x="8587" y="15596"/>
                  <a:pt x="8587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лова-признаки (имена прилагательные)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ильн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лаб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Трескуч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Лют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Жесток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трашн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Зло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Колюч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Русски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505320" cy="373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493"/>
                </a:moveTo>
                <a:lnTo>
                  <a:pt x="15006" y="7493"/>
                </a:lnTo>
                <a:lnTo>
                  <a:pt x="15006" y="12828"/>
                </a:lnTo>
                <a:cubicBezTo>
                  <a:pt x="15006" y="13751"/>
                  <a:pt x="15807" y="14482"/>
                  <a:pt x="16843" y="14482"/>
                </a:cubicBezTo>
                <a:lnTo>
                  <a:pt x="18505" y="14482"/>
                </a:lnTo>
                <a:cubicBezTo>
                  <a:pt x="19541" y="14482"/>
                  <a:pt x="20341" y="13751"/>
                  <a:pt x="20341" y="12828"/>
                </a:cubicBezTo>
                <a:lnTo>
                  <a:pt x="20341" y="7493"/>
                </a:lnTo>
                <a:lnTo>
                  <a:pt x="18505" y="7493"/>
                </a:lnTo>
                <a:lnTo>
                  <a:pt x="22013" y="3985"/>
                </a:lnTo>
                <a:lnTo>
                  <a:pt x="25685" y="7493"/>
                </a:lnTo>
                <a:lnTo>
                  <a:pt x="23849" y="7493"/>
                </a:lnTo>
                <a:lnTo>
                  <a:pt x="23849" y="12828"/>
                </a:lnTo>
                <a:cubicBezTo>
                  <a:pt x="23849" y="15596"/>
                  <a:pt x="21273" y="18155"/>
                  <a:pt x="18505" y="18155"/>
                </a:cubicBezTo>
                <a:lnTo>
                  <a:pt x="16843" y="18155"/>
                </a:lnTo>
                <a:cubicBezTo>
                  <a:pt x="14075" y="18155"/>
                  <a:pt x="11498" y="15596"/>
                  <a:pt x="11498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родственны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ный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и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ко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ильник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но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343400" cy="345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7493"/>
                </a:moveTo>
                <a:lnTo>
                  <a:pt x="12701" y="7493"/>
                </a:lnTo>
                <a:lnTo>
                  <a:pt x="12701" y="12828"/>
                </a:lnTo>
                <a:cubicBezTo>
                  <a:pt x="12701" y="13751"/>
                  <a:pt x="13502" y="14482"/>
                  <a:pt x="14538" y="14482"/>
                </a:cubicBezTo>
                <a:lnTo>
                  <a:pt x="16200" y="14482"/>
                </a:lnTo>
                <a:cubicBezTo>
                  <a:pt x="17236" y="14482"/>
                  <a:pt x="18036" y="13751"/>
                  <a:pt x="18036" y="12828"/>
                </a:cubicBezTo>
                <a:lnTo>
                  <a:pt x="18036" y="7493"/>
                </a:lnTo>
                <a:lnTo>
                  <a:pt x="16200" y="7493"/>
                </a:lnTo>
                <a:lnTo>
                  <a:pt x="19708" y="3985"/>
                </a:lnTo>
                <a:lnTo>
                  <a:pt x="23381" y="7493"/>
                </a:lnTo>
                <a:lnTo>
                  <a:pt x="21544" y="7493"/>
                </a:lnTo>
                <a:lnTo>
                  <a:pt x="21544" y="12828"/>
                </a:lnTo>
                <a:cubicBezTo>
                  <a:pt x="21544" y="15596"/>
                  <a:pt x="18968" y="18155"/>
                  <a:pt x="16200" y="18155"/>
                </a:cubicBezTo>
                <a:lnTo>
                  <a:pt x="14538" y="18155"/>
                </a:lnTo>
                <a:cubicBezTo>
                  <a:pt x="11770" y="18155"/>
                  <a:pt x="9194" y="15596"/>
                  <a:pt x="9194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1T16:10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