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A93-B390-42B4-A406-8056DCD2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BD4-0D07-41FA-BA54-CA65402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7E3-1ACE-47BB-B253-D7BB8990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745-C98E-4A25-9522-08736FDA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409-D450-48D2-8804-780A0CED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1F8-26A8-47BE-A7FC-6B657C3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45A-FA18-4AD1-AFF8-462C1E91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D4A8-FCCD-486E-B974-2CD6165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C0A-7887-4983-8B42-4280ADC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F7EB-7111-4CD6-A5CF-5748A07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709A-4D51-4E42-B787-30FF56F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B21-6CE3-41A8-97BD-C0523EA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730D-5BCD-4D93-B22D-A8A4553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9A8-E42D-4D80-8116-A71A2F0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B73-D22C-4157-B52C-9E42D97B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D445-0825-4612-B537-0ED0675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17D1-73AC-4784-A53D-237019DD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3476-C946-40F9-B815-5A6F190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C76C-3A32-4FD4-A547-B9DA4E5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CB44-C619-4E69-BE04-5F92538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63F4-23AF-4880-B362-609BC222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1F0B-E3CB-4E5B-952F-A10DA42B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7D3-46E6-4072-86A1-AFCF6F43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BA2F-4636-4CC8-97D6-A7579148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1E1C-6337-406B-8FBD-629DCDF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B279-1CA2-46DF-A638-C918BF5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5E54-BB42-495B-97C8-9844253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25FF-7A61-4B7B-A3FF-8DBE4E1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5710-B1DB-454B-AE41-A7C9BBF4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33DA-26DB-4C0E-8905-4A80BC21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2353-246D-428E-B3EA-39874F35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FF75-E49D-4D64-8CD8-185B5D9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B8A7-7EB1-4D37-9C78-5435B60E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8A2-0CC1-49DB-95A0-687D2677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4AE2-B95C-4E61-AAF0-4EB6647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7232-94EA-40D9-82B9-E5CE8C0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4ECE-F287-4930-A74E-98660D46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7DAB-6CEB-44F3-A6E6-EE0CE6A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5E12-878D-4195-820C-7F913EB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53CD-9037-41C5-8A82-80B3D47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0433-BE49-47B4-AF29-83EE744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F6BA-F0B5-4893-BD15-3D057045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C72E-80CC-4CF5-8329-CD6C1959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5167-1E32-484F-9143-72475B19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19F-E00B-435C-AF8B-0530113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1A93-EDE6-4F97-9672-E8CC82D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9AFE5-E8C1-43BE-B6F8-4E42A34D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394D-656D-4587-B079-61CD4D0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40EEB-68E8-4AD6-9198-42E7C95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7E2A-DC83-4327-BCEA-AB1647B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3A5A-2E86-4C58-9668-49D617E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C99F5-BD32-40F4-B198-51A59B5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4690-CDE4-4F06-A49D-0E59D9A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20D5-3934-484F-A725-685B26FC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8BF2-D3DB-4834-A461-A6C5AC8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472-D9BB-435A-B13B-8A99A6E8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C96B-3B93-49D7-93A8-7D527264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FBAAD-8752-4EE7-8913-23FBD960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9781-2A96-4EAB-AC20-3FE8D49E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B8A5-09EB-41DD-9E90-3C662E1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F936-2114-4713-B123-E6908C9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6E6F-6361-4779-8E94-C6FA8253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F661-A718-4F3D-AF9B-8CF614C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A948-50EF-444A-88C3-1B7338D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E700-2345-482D-B294-338A5C0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5231-6D91-4D78-A2B1-51A0C190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FC8-4CB6-483B-9142-4468C29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3AA0-BE6E-4574-AAD9-96FC2E7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734D8-F1F1-4DE3-A3C3-DD859D2D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8019-23E6-4434-9AE9-6713BAEC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BB188-99AC-4002-B176-1E462CC1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0278-CCE9-4134-8E8B-5B85D15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017D-DECD-4D10-A5AF-FD85507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ED40-5456-4FFE-BDF8-68A0066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E403-A5AE-42F8-B9D0-16E034B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F990-4D52-4F21-8D10-FA7FC6C7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C67E1-52FC-463C-91F9-77CAAA2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AA1-A325-4D72-A6C0-423F5436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51D3-F185-4F13-B209-58DEADED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A44F-1D3C-44B2-BA8B-5225B80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EF62-1AB5-420C-87B7-B4757CB0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178C8-EA73-48BC-9B94-E0C06907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67E0-727D-413F-8C59-CF593467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176-194D-41B2-9A9C-773CE22E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F11C-6D0E-4EB0-89D7-7B93D3182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Горизонтальный свиток 8"/>
          <p:cNvSpPr/>
          <p:nvPr/>
        </p:nvSpPr>
        <p:spPr>
          <a:xfrm>
            <a:off x="380880" y="685800"/>
            <a:ext cx="8382240" cy="14479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858080" y="150012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0" descr="logotip[1].png"/>
          <p:cNvPicPr/>
          <p:nvPr/>
        </p:nvPicPr>
        <p:blipFill>
          <a:blip r:embed="rId4"/>
          <a:stretch/>
        </p:blipFill>
        <p:spPr>
          <a:xfrm>
            <a:off x="7997760" y="1779480"/>
            <a:ext cx="768240" cy="58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Горизонтальный свиток 6"/>
          <p:cNvSpPr/>
          <p:nvPr/>
        </p:nvSpPr>
        <p:spPr>
          <a:xfrm>
            <a:off x="685800" y="19051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429680" y="111924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logotip[1].png"/>
          <p:cNvPicPr/>
          <p:nvPr/>
        </p:nvPicPr>
        <p:blipFill>
          <a:blip r:embed="rId4"/>
          <a:stretch/>
        </p:blipFill>
        <p:spPr>
          <a:xfrm>
            <a:off x="7424640" y="1279440"/>
            <a:ext cx="1311480" cy="120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C84-F15C-4957-ACBE-6B82B3B9F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Горизонтальный свиток 6"/>
          <p:cNvSpPr/>
          <p:nvPr/>
        </p:nvSpPr>
        <p:spPr>
          <a:xfrm>
            <a:off x="685800" y="39625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62880" y="4881600"/>
            <a:ext cx="1581120" cy="1405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logotip[1].png"/>
          <p:cNvPicPr/>
          <p:nvPr/>
        </p:nvPicPr>
        <p:blipFill>
          <a:blip r:embed="rId4"/>
          <a:stretch/>
        </p:blipFill>
        <p:spPr>
          <a:xfrm>
            <a:off x="7821720" y="5254560"/>
            <a:ext cx="944280" cy="71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4BBF-BDF4-46E1-AF67-3893A52F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00960" y="428760"/>
            <a:ext cx="15271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logotip[1].png"/>
          <p:cNvPicPr/>
          <p:nvPr/>
        </p:nvPicPr>
        <p:blipFill>
          <a:blip r:embed="rId4"/>
          <a:stretch/>
        </p:blipFill>
        <p:spPr>
          <a:xfrm>
            <a:off x="7736040" y="706320"/>
            <a:ext cx="914400" cy="695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8EE2-52DD-4540-8EB9-0EADDC6C0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Горизонтальный свиток 8"/>
          <p:cNvSpPr/>
          <p:nvPr/>
        </p:nvSpPr>
        <p:spPr>
          <a:xfrm>
            <a:off x="380880" y="685800"/>
            <a:ext cx="3124440" cy="838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3071880" y="114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0" descr="logotip[1].png"/>
          <p:cNvPicPr/>
          <p:nvPr/>
        </p:nvPicPr>
        <p:blipFill>
          <a:blip r:embed="rId4"/>
          <a:stretch/>
        </p:blipFill>
        <p:spPr>
          <a:xfrm>
            <a:off x="3139920" y="1279440"/>
            <a:ext cx="389160" cy="3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A523-9951-47A0-AC26-0E3158254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Горизонтальный свиток 7"/>
          <p:cNvSpPr/>
          <p:nvPr/>
        </p:nvSpPr>
        <p:spPr>
          <a:xfrm>
            <a:off x="1676520" y="4572000"/>
            <a:ext cx="5715000" cy="9907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8" descr="Безимени-1.gif"/>
          <p:cNvPicPr/>
          <p:nvPr/>
        </p:nvPicPr>
        <p:blipFill>
          <a:blip r:embed="rId3"/>
          <a:srcRect l="32187" t="45001" r="50940" b="35003"/>
          <a:stretch/>
        </p:blipFill>
        <p:spPr>
          <a:xfrm>
            <a:off x="500040" y="50720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logotip[1].png"/>
          <p:cNvPicPr/>
          <p:nvPr/>
        </p:nvPicPr>
        <p:blipFill>
          <a:blip r:embed="rId4"/>
          <a:stretch/>
        </p:blipFill>
        <p:spPr>
          <a:xfrm>
            <a:off x="920880" y="5353200"/>
            <a:ext cx="774720" cy="583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E9D-20D3-47DE-B79D-008B35427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Горизонтальный свиток 6"/>
          <p:cNvSpPr/>
          <p:nvPr/>
        </p:nvSpPr>
        <p:spPr>
          <a:xfrm rot="5400000">
            <a:off x="5028480" y="2285640"/>
            <a:ext cx="5334120" cy="24382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7" descr="Безимени-1.gif"/>
          <p:cNvPicPr/>
          <p:nvPr/>
        </p:nvPicPr>
        <p:blipFill>
          <a:blip r:embed="rId3"/>
          <a:srcRect l="35003" t="50940" r="45001" b="32187"/>
          <a:stretch/>
        </p:blipFill>
        <p:spPr>
          <a:xfrm>
            <a:off x="6072120" y="5143680"/>
            <a:ext cx="1397160" cy="15714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logotip[1].png"/>
          <p:cNvPicPr/>
          <p:nvPr/>
        </p:nvPicPr>
        <p:blipFill>
          <a:blip r:embed="rId4"/>
          <a:stretch/>
        </p:blipFill>
        <p:spPr>
          <a:xfrm>
            <a:off x="6297480" y="5462640"/>
            <a:ext cx="706680" cy="9381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A699-9B74-48C1-AC8F-8CE306773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sto-po-russki.ru/vyirazitelnost-rechi/:%20http:/www.ozon.ru/catalog/1141109/?sort=bests&amp;page=1&amp;partner=kubishta&amp;from=bar" TargetMode="External"/><Relationship Id="rId3" Type="http://schemas.openxmlformats.org/officeDocument/2006/relationships/hyperlink" Target="http://www.ozon.ru/?context=search&amp;text=%F1%EB%EE%E2%E0%F0%E8+%F0%F3%F1%F1%EA%EE%E3%EE+%FF%E7%FB%EA%E0&amp;page=1&amp;partner=kubishta&amp;from=bar" TargetMode="Externa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Авторы:Аксенова Надежда, Самсоненко Анастасия, ученики 3класса МОУ-сош с. Логиновка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Руководитель:Буслаева С.И.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2014 год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2406"/>
                </a:solidFill>
                <a:latin typeface="Amsterdam_vp"/>
              </a:rPr>
              <a:t>«Паразиты» в нашей речи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432e"/>
                </a:solidFill>
                <a:latin typeface="Amsterdam_vp"/>
              </a:rPr>
              <a:t>Кроме того:</a:t>
            </a: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704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.Читайте хорошую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merican Retro"/>
                <a:hlinkClick r:id="rId2"/>
              </a:rPr>
              <a:t> литературу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.  Желательно классическую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2.Пересказывайте прочитанный текс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3.Учите стих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4.Говорите медленно, думайте над словам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5.Составляйте речь из простых коротких предложений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6.Общайтесь с людьми, имеющими богатый словарный запас и правильную речь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7.Записывайте интересные фразы, вставляйте их в свою речь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8.Работайте с различным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merican Retro"/>
                <a:hlinkClick r:id="rId3"/>
              </a:rPr>
              <a:t>словарями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merican Retro"/>
              </a:rPr>
              <a:t>: толковым, орфоэпическим, фразеологическим, словарями ударений и синонимов и др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9.Тренируйтесь в проговаривании скороговорок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0. Используйте пословицы и поговорк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1.  Изучайте речевой этике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2. Контролируйте свою речь, подбирайте слова, точно передающие смысл высказывания</a:t>
            </a:r>
            <a:r>
              <a:rPr b="0" lang="en-US" sz="1600" spc="-1" strike="noStrike">
                <a:solidFill>
                  <a:srgbClr val="000000"/>
                </a:solidFill>
                <a:latin typeface="American Retr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31" name="Picture 4" descr="AG00315_[1]"/>
          <p:cNvPicPr/>
          <p:nvPr/>
        </p:nvPicPr>
        <p:blipFill>
          <a:blip r:embed="rId4"/>
          <a:stretch/>
        </p:blipFill>
        <p:spPr>
          <a:xfrm>
            <a:off x="324000" y="55166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Вопросы анкеты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1. Употребляете ли Вы слова-паразиты?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 2. Какие Вы знаете слова-паразиты? 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3. Какие из этих слов Вы чаще всего употребляете?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 4. Замечаете ли Вы в своей речи слова-паразиты? 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5. Какие способы борьбы Вы можете предложит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400040" y="7308000"/>
            <a:ext cx="634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539640" y="907920"/>
            <a:ext cx="806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2406"/>
                </a:solidFill>
                <a:latin typeface="Arial"/>
              </a:rPr>
              <a:t>Исследование употребления слов – паразитов в речи школьник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2406"/>
                </a:solidFill>
                <a:latin typeface="Amsterdam_vp"/>
              </a:rPr>
              <a:t>Исследование употребления слов – паразитов в речи школьников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merican Retro"/>
              </a:rPr>
              <a:t>Диаграмма 1 .Употребление слов-паразитов Таким образом, результаты исследования показали нам, что 95,7% учащихся употребляют в своей речи слова – паразиты; 4,3% учащихся не употребляют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37" name="Picture 6" descr="AG00317_[2]"/>
          <p:cNvPicPr/>
          <p:nvPr/>
        </p:nvPicPr>
        <p:blipFill>
          <a:blip r:embed="rId2"/>
          <a:stretch/>
        </p:blipFill>
        <p:spPr>
          <a:xfrm>
            <a:off x="7812000" y="3860640"/>
            <a:ext cx="1038240" cy="1656000"/>
          </a:xfrm>
          <a:prstGeom prst="rect">
            <a:avLst/>
          </a:prstGeom>
          <a:ln w="0">
            <a:noFill/>
          </a:ln>
        </p:spPr>
      </p:pic>
      <p:pic>
        <p:nvPicPr>
          <p:cNvPr id="338" name="Диаграмма 5" descr=""/>
          <p:cNvPicPr/>
          <p:nvPr/>
        </p:nvPicPr>
        <p:blipFill>
          <a:blip r:embed="rId3"/>
          <a:stretch/>
        </p:blipFill>
        <p:spPr>
          <a:xfrm>
            <a:off x="1496880" y="3809880"/>
            <a:ext cx="535788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msterdam_vp"/>
              </a:rPr>
              <a:t>Из диаграммы  2  мы видим, что большинство учащихся  (69%) замечают в своей  речи слова - паразиты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41" name="Содержимое 6" descr=""/>
          <p:cNvPicPr/>
          <p:nvPr/>
        </p:nvPicPr>
        <p:blipFill>
          <a:blip r:embed="rId2"/>
          <a:stretch/>
        </p:blipFill>
        <p:spPr>
          <a:xfrm>
            <a:off x="406440" y="2006640"/>
            <a:ext cx="83199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msterdam_vp"/>
              </a:rPr>
              <a:t>Частота употребления слов–паразитов                                                                                           Диаграмма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9540720" y="2276640"/>
            <a:ext cx="293760" cy="406872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4" descr=""/>
          <p:cNvPicPr/>
          <p:nvPr/>
        </p:nvPicPr>
        <p:blipFill>
          <a:blip r:embed="rId3"/>
          <a:stretch/>
        </p:blipFill>
        <p:spPr>
          <a:xfrm>
            <a:off x="406440" y="2006640"/>
            <a:ext cx="810432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6432e"/>
                </a:solidFill>
                <a:latin typeface="Amsterdam_vp"/>
              </a:rPr>
              <a:t>Способы борьбы со словами-паразитами.</a:t>
            </a:r>
            <a:br>
              <a:rPr sz="2400"/>
            </a:br>
            <a:r>
              <a:rPr b="0" lang="en-US" sz="2400" spc="-1" strike="noStrike">
                <a:solidFill>
                  <a:srgbClr val="86432e"/>
                </a:solidFill>
                <a:latin typeface="Amsterdam_vp"/>
              </a:rPr>
              <a:t>                                                             Диаграмма 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0117080" y="2057400"/>
            <a:ext cx="216000" cy="406872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5" descr=""/>
          <p:cNvPicPr/>
          <p:nvPr/>
        </p:nvPicPr>
        <p:blipFill>
          <a:blip r:embed="rId3"/>
          <a:stretch/>
        </p:blipFill>
        <p:spPr>
          <a:xfrm>
            <a:off x="406440" y="2006640"/>
            <a:ext cx="83199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msterdam_vp"/>
              </a:rPr>
              <a:t>Ч</a:t>
            </a:r>
            <a:r>
              <a:rPr b="1" i="1" lang="en-US" sz="4400" spc="-1" strike="noStrike">
                <a:solidFill>
                  <a:srgbClr val="993300"/>
                </a:solidFill>
                <a:latin typeface="Amsterdam_vp"/>
              </a:rPr>
              <a:t>емпион  по имени </a:t>
            </a:r>
            <a:r>
              <a:rPr b="1" lang="en-US" sz="4400" spc="-1" strike="noStrike">
                <a:solidFill>
                  <a:srgbClr val="993300"/>
                </a:solidFill>
                <a:latin typeface="Amsterdam_vp"/>
              </a:rPr>
              <a:t>как бы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2057400"/>
            <a:ext cx="8218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can Retro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merican Retro"/>
              </a:rPr>
              <a:t>    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 ходе исследования выявили  </a:t>
            </a:r>
            <a:r>
              <a:rPr b="1" i="1" lang="en-US" sz="1600" spc="-1" strike="noStrike">
                <a:solidFill>
                  <a:srgbClr val="333399"/>
                </a:solidFill>
                <a:latin typeface="American Retro"/>
              </a:rPr>
              <a:t> чемпиона  по имени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.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Говорящий сомневается, что подобрал нужные слова для выражения своей мысли.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ыручает распространённое ныне сочетание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1" lang="ru-RU" sz="1600" spc="-1" strike="noStrike">
                <a:solidFill>
                  <a:srgbClr val="333399"/>
                </a:solidFill>
                <a:latin typeface="American Retro"/>
              </a:rPr>
              <a:t>.  Я как бы работаю над темой… 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Я как бы уважаю ваше мнение… Я как бы помогаю… Я 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знаю ответ… Я как бы защищаю ваши интересы…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 «Как бы» означает «как будто», т.е. выражает неуверенность, некомпетентность, несерьёзность. То ли да, то ли нет, предположительно. Но не обязательно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 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о всём сквозит неуверенность, приблизительность: в речи, в человеке, в его поступках, взглядах, в пути, по которому он идёт. Или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идё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«Как бы» заполонило всё жизненное пространство. Всё везде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: нет ничего определённого, верного, точного.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 живём. Как бы говорим. Как бы любим. Как бы думаем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..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612000" y="2057400"/>
            <a:ext cx="1443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762120"/>
            <a:ext cx="80708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Retro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Как показало данное исследование, присутствие в нашей речи слов-паразитов нарушает правильное восприятие речи и является вредным и опасным лингвистическим явлением для языка, поэтому бороться с ним крайне необходимо.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Наша исследовательская работа может иметь несомненную практическую значимость, например, при организации школьного учебного курса по русскому языку о «Культуре речи», а также поможет обратить внимание школьников на бережное отношение к русскому языку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Наш проект смог собрать большинство известных слов-паразитов русского языка. Прошло совсем немного времени, а мы уже успели обратить внимание многих учащихся на проблему засорения речи словами-паразитами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635040" y="387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647640" y="1628640"/>
            <a:ext cx="788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 помощью нашего проекта мы хотим привлечь внимание широкого круга учащихся и учителей к проблемам сохранения чистоты русского языка, воспитывать активную позицию в решении языковых проблем, повышать популярность языковой культуры. Становится грустно от того, что «великий и могучий» русский язык, как утверждают классики, в нашей речи уже не кажется таким богатым и крас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лученные результаты в ходе работы над проектом подтверждают нашу гипотезу, что большинство учащихся школы бессознательно употребляют в своей речи слова-паразиты и подобные слова есть и в реч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ы считаем, что слова-паразиты, несомненно, заслуживают того, чтобы объявить им войну. Если кто-то ещё имеет такую привычку, советуем срочно провести генеральную чистку и дезинфекцию своей речи. В этом вам поможет наш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Слова-паразиты — как соль в речи!?"/>
          <p:cNvPicPr/>
          <p:nvPr/>
        </p:nvPicPr>
        <p:blipFill>
          <a:blip r:embed="rId2"/>
          <a:stretch/>
        </p:blipFill>
        <p:spPr>
          <a:xfrm>
            <a:off x="179280" y="3141720"/>
            <a:ext cx="2772000" cy="2879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916360" y="2060640"/>
            <a:ext cx="5759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щательно следите за своей речью, избегая повторения «излюбленных словечек»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няйте «паразитов» на нейтральные слова, например, вместо «ммм» или «эээ» попробуйте сказать вслух «я торможу»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просите кого-либо из членов семьи, чтобы он «штрафовал» вас за каждое слово-паразита: щипал, колол…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читайте, читайте и еще раз читайте! Ничто не развивает речь лучше, чем чтение кач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26820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Актуальност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7640" y="2060640"/>
            <a:ext cx="69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Какая привычка считается самой плохой?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Оказывается, наряду с курением, ленью и привычкой всегда опаздывать одним из самых частых был ответ о том, что плохой является привычка употреблять в речи слова-паразиты. 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Сегодня все чаще в речи учащихся стали «проскальзывать» лишние слова. Слова, которые изменили речь не в лучшую сторону. 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Использование слов-паразитов не ограничено определённой социальной или возрастной средой. Эти слова звучат в речи теле- и радиожурналистов, политиков, преподавателей учебных заведений разного уровня, оказывая негативное влияние на экологию русской речи. И дело даже не в обрастании языка новой лексикой – проблема в том, что наша «прекрасная, богатая, могучая» речь становится неяркой, малопонятной, невыразительной. Присутствие в нашей речи слов-паразитов нарушает четкое, ясное и правильное восприятие речи собеседником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1476360" y="2276640"/>
            <a:ext cx="709308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662406"/>
              </a:buClr>
              <a:buFont typeface="Monotype Corsiv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5220-original[1]"/>
          <p:cNvPicPr/>
          <p:nvPr/>
        </p:nvPicPr>
        <p:blipFill>
          <a:blip r:embed="rId2"/>
          <a:stretch/>
        </p:blipFill>
        <p:spPr>
          <a:xfrm>
            <a:off x="0" y="4386240"/>
            <a:ext cx="232560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4"/>
          <p:cNvSpPr txBox="1"/>
          <p:nvPr/>
        </p:nvSpPr>
        <p:spPr>
          <a:xfrm>
            <a:off x="826920" y="1341360"/>
            <a:ext cx="64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ook Antiqua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360" name="Picture 5" descr="______-__________206x196"/>
          <p:cNvPicPr/>
          <p:nvPr/>
        </p:nvPicPr>
        <p:blipFill>
          <a:blip r:embed="rId4"/>
          <a:stretch/>
        </p:blipFill>
        <p:spPr>
          <a:xfrm>
            <a:off x="2556000" y="2924280"/>
            <a:ext cx="3743280" cy="3311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AG00315_[1]"/>
          <p:cNvPicPr/>
          <p:nvPr/>
        </p:nvPicPr>
        <p:blipFill>
          <a:blip r:embed="rId5"/>
          <a:stretch/>
        </p:blipFill>
        <p:spPr>
          <a:xfrm>
            <a:off x="324000" y="537372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Актуальност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Ret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Retro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American Retro"/>
              </a:rPr>
              <a:t>Сегодня все чаще в речи учащихся стали «проскальзывать» лишние слова. Слова, которые изменили речь не в лучшую сторону. В современном обществе теряется чистота разговорной речи, все чаще недостаток лексического запаса компенсируют слова- паразиты, которые замещают пробелы между словами и чаще всего обозначают то, что человек мало читает или имеет скудный лексикон. Развитость речи – это показатель уровня культуры человека, его интеллекта, кругозора. Употребление слов – паразитов распространено в современном обществе, поэтому всестороннее рассмотрение данной проблемы и поиск путей ее решения делает эту проблему актуальной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Большинство учащихся школы бессознательно употребляют в своей речи слова-паразиты. Подобные слова есть и в речи взрослых (педагогов и родителей), хотя качественный состав этих элементов иной и зависит от общей культуры человека, речевой ситуации, психологических факторов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Retr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17" name="Рисунок 3" descr="http://im2-tub-ru.yandex.net/i?id=776596487-70-72&amp;n=21"/>
          <p:cNvPicPr/>
          <p:nvPr/>
        </p:nvPicPr>
        <p:blipFill>
          <a:blip r:embed="rId2"/>
          <a:stretch/>
        </p:blipFill>
        <p:spPr>
          <a:xfrm>
            <a:off x="6875640" y="5373720"/>
            <a:ext cx="179352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Изучение проблемы засорённости речи словами-паразитами в среде учащихся нашей школы, выявление действенных способов борьбы с данным вредным языковым явлением, привлечение внимания школьников к проблеме необходимости очищения речи от словесного мусора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merican Retr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255600" y="2036880"/>
            <a:ext cx="84376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32e"/>
                </a:solidFill>
                <a:latin typeface="Amsterdam_vp"/>
              </a:rPr>
              <a:t>Что такое «паразиты» в речи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«Слова-паразиты» — лингвистическое явление, выраженное в употреблении лишних и бессмысленных в данном контексте слов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Слова-паразиты – это слова, которые люди употребляют часто, но при этом не вкладывают в них никакого значения, а заполняют ими паузы. К словам паразитам относятся:  «</a:t>
            </a:r>
            <a:r>
              <a:rPr b="1" i="1" lang="en-US" sz="2000" spc="-1" strike="noStrike">
                <a:solidFill>
                  <a:srgbClr val="333399"/>
                </a:solidFill>
                <a:latin typeface="Arial Unicode MS"/>
              </a:rPr>
              <a:t>как бы», «просто», «типа», «короче», «на самом деле», «практически», «так сказать», «вообще-то», «кстати», «ну», «вот»,  «э-э-э»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и т.п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</a:rPr>
              <a:t>слова-паразиты -  это  пустые, сорные слова, которые сбивают ритм речи и  мешают ее пониманию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24" name="Picture 4" descr="http://rus.1september.ru/2004/15/1.gif"/>
          <p:cNvPicPr/>
          <p:nvPr/>
        </p:nvPicPr>
        <p:blipFill>
          <a:blip r:embed="rId2"/>
          <a:stretch/>
        </p:blipFill>
        <p:spPr>
          <a:xfrm>
            <a:off x="5580000" y="5661000"/>
            <a:ext cx="331308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35956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msterdam_vp"/>
              </a:rPr>
              <a:t>         </a:t>
            </a:r>
            <a:r>
              <a:rPr b="1" lang="ru-RU" sz="2800" spc="-1" strike="noStrike">
                <a:solidFill>
                  <a:srgbClr val="aa6d5a"/>
                </a:solidFill>
                <a:latin typeface="Amsterdam_vp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aa6d5a"/>
                </a:solidFill>
                <a:latin typeface="Amsterdam_vp"/>
              </a:rPr>
              <a:t>       </a:t>
            </a:r>
            <a:r>
              <a:rPr b="1" lang="ru-RU" sz="2800" spc="-1" strike="noStrike">
                <a:solidFill>
                  <a:srgbClr val="662406"/>
                </a:solidFill>
                <a:latin typeface="Amsterdam_vp"/>
              </a:rPr>
              <a:t>Когда и кто употребляет слова-паразиты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недостаточный  словарный запас (говорящему не всегда удаётся  быстро найти нужное слово);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намеренное заполнение паузы между словами или выражениями;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быстрая, неподготовленная, спонтанная речь;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мода на некоторые  слова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msterdam_vp"/>
              </a:rPr>
              <a:t>Пути избавления от слов-парази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Чтобы избавиться от слов-паразитов, следите за своей речью. Найдите в ней пустые, лишние слова, названные паразитами. Повторите свою речь уже без них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Теперь речь кажется тусклой и бесцветной? Вы просто не знаете великолепия интонации!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С её помощью о самых простых вещах можно говорить вдохновенно, таким образом, что эти вещи приобретают иной, не уловленный слушателями раньше смысл и привлекательность. Раскрасьте речь оттенками интонации или различной тональностью голоса: от тихого, почти шёпота, до резкого, с акцентом на главной мысли, выводе. Фразы произносите неторопливо, выделяйте ключевые слова, пользуйтесь паузами. Интригуйте собеседника. Творите волшебство! Технические возможности речи безграничны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5:06:13Z</dcterms:created>
  <dc:creator>ирина</dc:creator>
  <dc:description/>
  <dc:language>en-US</dc:language>
  <cp:lastModifiedBy>Ленгерт</cp:lastModifiedBy>
  <dcterms:modified xsi:type="dcterms:W3CDTF">2015-01-30T10:05:03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