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3.jpeg" ContentType="image/jpeg"/>
  <Override PartName="/ppt/media/image20.png" ContentType="image/png"/>
  <Override PartName="/ppt/media/image18.png" ContentType="image/png"/>
  <Override PartName="/ppt/media/image17.gif" ContentType="image/gi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4.jpeg" ContentType="image/jpe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2C3-C340-4EB9-9B53-6796558D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1DB-8D11-4C66-AE44-9B56E3BC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E9E-12FA-43F2-9E86-1BCE4E65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F08-2D8E-4C2F-AD16-18728ABC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BA12-5AB6-4713-BD22-171DEDEF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1510-E765-4731-913A-09B27DA9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F603-6881-4900-A91B-A1E67397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1276-DA87-417A-846B-C2C687DF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EF7C-1D21-41A8-94E1-76918998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96E6-F471-48FF-8EF1-BC0B3D94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0A3E-ECB6-491B-973F-09DF4076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410-9037-4028-AA28-1EF6E7A8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DE7C-CBB7-4DF0-943A-8E1C36D7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ECD3-A4B1-4279-8EE1-4E5E3DEF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FE40-9D78-4B92-B67F-879FE5F8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4892-EAD6-4F7E-B113-4E4C756A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61BF-04EA-4C2F-9930-3C22ADD5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2F1F9-27E5-4CCD-9780-D0ED1A66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A5998-445A-4E62-B1F4-2E2AA5DD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D57A3-9A33-458E-A456-CE833D82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12B7D-0A2B-4517-9B3C-465F8126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2DB90-0B3A-4159-A20B-D4EF7B5A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E8D-676E-4E1F-8C18-1B432BA0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75FC6-F100-4424-AA9E-9AE8438C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36B6B-4867-47D4-AFC8-BEA8BE88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943B6-71F6-45E3-9708-CC93E2FB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4655A-2828-4F4C-898D-C377907E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1FB5-B761-4262-B3B8-F2F770BD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08626-E050-4307-8F04-26A4477F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6A467-0A88-4CA5-9CA9-C78DB422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8DD5A-5685-4521-B845-B6144694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72E1D-C268-4759-A9FA-31E67BFE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02387-BC7F-47E5-B321-A6A57046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6C4-1658-4AE4-BF02-5A1663A4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FBC89-494D-467F-8AB6-C1A546BB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12A70-7D94-4AFE-B02E-646D3B74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D471B-3ED1-4818-ABBF-D8399CDF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C0617-9540-4A85-A0AF-9E219A29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C1715-59BD-45BE-B072-49B9195E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B8DEB-3D44-4FA3-A8CF-7B854F3A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F698E-D472-4995-BB4D-07E9229D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FC4FD-5319-4294-8A37-B63F43DC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1F3B6-90D0-4268-A223-EFA4EEF2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B5240-9626-466C-B480-2B59A50D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31D-C98D-45E8-B253-9D4B0D2F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A89CF-C727-4071-9E73-67C90971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B0E22-7DFA-4F59-9307-8C9059D5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A6965-CB83-46BD-A251-F96FA658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8BC40-398A-4AE4-9AC5-1141C48E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065BC-91A9-4FE3-9B6D-11E0A7CD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7BFF2-1D22-4C1C-982A-1921B292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11255-11FA-4BF8-9A04-640EABA1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9034A-4188-4AA9-9CA6-9B04B4A5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C5E57-CF11-425C-8A27-FF1A219B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45CAC-8576-443F-99B4-C934E6B9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139-80FB-4B06-9482-7F402127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3B713-68AA-4CB3-AE4E-65296FB8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432A8-CE57-462C-B126-6BA2FD8E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E09E9-F3AE-4437-AC81-0341395E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EEFEF-1755-4BA7-B40F-334CAED4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E8B16-3408-452E-82E7-F0840077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DCE0B-99AA-4AE8-87FE-A7529264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2F129-C50E-4423-A98C-12CB15D1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62783-469C-477F-B572-5A7E6C86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93E4E-EEBE-4A02-B93C-17FF98B2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26DDE-D0D3-4962-A8E9-A795EEE6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7C9-8F08-4BC2-A8CF-84227BFF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9D0B7-E818-4F77-9ED4-D5FBDEE3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ED8F3-832B-435F-B25B-65144CF5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DCA8E-A2EE-4483-AF25-66DA82FD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5776F-25A7-407D-A6FB-C09209C4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41E5E-1386-4C1F-818D-EBF9EF85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C4189-CCED-41A1-A469-32CBFC70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9F921-EB2F-4E19-BC63-D2FF41AA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3BCD9-1759-4B3F-8C49-29BD4459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519C9-2EAD-412E-9656-1850627E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5515D-788A-452A-A169-D2D31C78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D66-0B9C-42C7-BE16-7B128972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4EB04-EB28-410E-8235-4586FEF1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C3B50-D8D0-4192-BAE7-64A0E0F2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CCF9A-36DB-40D6-AAEC-B89E93C5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0A110-DF61-4954-9693-53A91DCE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69719-BC45-4423-9E7B-FBF6E7A2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83B-C89A-4CA0-A769-042259E4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0397-7DAA-41D8-913F-AC8206418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Горизонтальный свиток 8"/>
          <p:cNvSpPr/>
          <p:nvPr/>
        </p:nvSpPr>
        <p:spPr>
          <a:xfrm>
            <a:off x="380880" y="685800"/>
            <a:ext cx="8382240" cy="144792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9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7858080" y="150012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0" descr="logotip[1].png"/>
          <p:cNvPicPr/>
          <p:nvPr/>
        </p:nvPicPr>
        <p:blipFill>
          <a:blip r:embed="rId4"/>
          <a:stretch/>
        </p:blipFill>
        <p:spPr>
          <a:xfrm>
            <a:off x="7997760" y="1779480"/>
            <a:ext cx="768240" cy="5857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Горизонтальный свиток 6"/>
          <p:cNvSpPr/>
          <p:nvPr/>
        </p:nvSpPr>
        <p:spPr>
          <a:xfrm>
            <a:off x="685800" y="1905120"/>
            <a:ext cx="7924680" cy="198108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7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7429680" y="1119240"/>
            <a:ext cx="171432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logotip[1].png"/>
          <p:cNvPicPr/>
          <p:nvPr/>
        </p:nvPicPr>
        <p:blipFill>
          <a:blip r:embed="rId4"/>
          <a:stretch/>
        </p:blipFill>
        <p:spPr>
          <a:xfrm>
            <a:off x="7424640" y="1279440"/>
            <a:ext cx="1311480" cy="1201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40AC-CCEB-4A84-8464-F36155EF0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Горизонтальный свиток 6"/>
          <p:cNvSpPr/>
          <p:nvPr/>
        </p:nvSpPr>
        <p:spPr>
          <a:xfrm>
            <a:off x="685800" y="3962520"/>
            <a:ext cx="7924680" cy="198108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7562880" y="4881600"/>
            <a:ext cx="1581120" cy="14050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logotip[1].png"/>
          <p:cNvPicPr/>
          <p:nvPr/>
        </p:nvPicPr>
        <p:blipFill>
          <a:blip r:embed="rId4"/>
          <a:stretch/>
        </p:blipFill>
        <p:spPr>
          <a:xfrm>
            <a:off x="7821720" y="5254560"/>
            <a:ext cx="944280" cy="719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B307-B733-4DD4-BA98-EADC2DE0E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4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7500960" y="428760"/>
            <a:ext cx="1527120" cy="13572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logotip[1].png"/>
          <p:cNvPicPr/>
          <p:nvPr/>
        </p:nvPicPr>
        <p:blipFill>
          <a:blip r:embed="rId4"/>
          <a:stretch/>
        </p:blipFill>
        <p:spPr>
          <a:xfrm>
            <a:off x="7736040" y="706320"/>
            <a:ext cx="914400" cy="6955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4471-1568-44CF-B3F0-13E87598B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Горизонтальный свиток 8"/>
          <p:cNvSpPr/>
          <p:nvPr/>
        </p:nvSpPr>
        <p:spPr>
          <a:xfrm>
            <a:off x="380880" y="685800"/>
            <a:ext cx="3124440" cy="83808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9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3071880" y="114300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0" descr="logotip[1].png"/>
          <p:cNvPicPr/>
          <p:nvPr/>
        </p:nvPicPr>
        <p:blipFill>
          <a:blip r:embed="rId4"/>
          <a:stretch/>
        </p:blipFill>
        <p:spPr>
          <a:xfrm>
            <a:off x="3139920" y="1279440"/>
            <a:ext cx="389160" cy="300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44EC-96D8-42AF-A9CD-BC1B24C9F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Горизонтальный свиток 7"/>
          <p:cNvSpPr/>
          <p:nvPr/>
        </p:nvSpPr>
        <p:spPr>
          <a:xfrm>
            <a:off x="1676520" y="4572000"/>
            <a:ext cx="5715000" cy="99072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8" descr="Безимени-1.gif"/>
          <p:cNvPicPr/>
          <p:nvPr/>
        </p:nvPicPr>
        <p:blipFill>
          <a:blip r:embed="rId3"/>
          <a:srcRect l="32187" t="45001" r="50940" b="35003"/>
          <a:stretch/>
        </p:blipFill>
        <p:spPr>
          <a:xfrm>
            <a:off x="500040" y="507204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logotip[1].png"/>
          <p:cNvPicPr/>
          <p:nvPr/>
        </p:nvPicPr>
        <p:blipFill>
          <a:blip r:embed="rId4"/>
          <a:stretch/>
        </p:blipFill>
        <p:spPr>
          <a:xfrm>
            <a:off x="920880" y="5353200"/>
            <a:ext cx="774720" cy="5839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4898-BC18-476B-A0B4-485FCDC02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Горизонтальный свиток 6"/>
          <p:cNvSpPr/>
          <p:nvPr/>
        </p:nvSpPr>
        <p:spPr>
          <a:xfrm rot="5400000">
            <a:off x="5028480" y="2285640"/>
            <a:ext cx="5334120" cy="243828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7" descr="Безимени-1.gif"/>
          <p:cNvPicPr/>
          <p:nvPr/>
        </p:nvPicPr>
        <p:blipFill>
          <a:blip r:embed="rId3"/>
          <a:srcRect l="35003" t="50940" r="45001" b="32187"/>
          <a:stretch/>
        </p:blipFill>
        <p:spPr>
          <a:xfrm>
            <a:off x="6072120" y="5143680"/>
            <a:ext cx="1397160" cy="15714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logotip[1].png"/>
          <p:cNvPicPr/>
          <p:nvPr/>
        </p:nvPicPr>
        <p:blipFill>
          <a:blip r:embed="rId4"/>
          <a:stretch/>
        </p:blipFill>
        <p:spPr>
          <a:xfrm>
            <a:off x="6297480" y="5462640"/>
            <a:ext cx="706680" cy="9381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384D-C5E8-4600-BBC2-66645C58A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histo-po-russki.ru/vyirazitelnost-rechi/:%20http:/www.ozon.ru/catalog/1141109/?sort=bests&amp;page=1&amp;partner=kubishta&amp;from=bar" TargetMode="External"/><Relationship Id="rId3" Type="http://schemas.openxmlformats.org/officeDocument/2006/relationships/hyperlink" Target="http://www.ozon.ru/?context=search&amp;text=%F1%EB%EE%E2%E0%F0%E8+%F0%F3%F1%F1%EA%EE%E3%EE+%FF%E7%FB%EA%E0&amp;page=1&amp;partner=kubishta&amp;from=bar" TargetMode="External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Авторы:Аксенова Надежда, Самсоненко Анастасия, ученики 3класса МОУ-сош с. Логиновка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Руководитель:Буслаева С.И.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2014 год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2406"/>
                </a:solidFill>
                <a:latin typeface="Amsterdam_vp"/>
              </a:rPr>
              <a:t>«Паразиты» в нашей речи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432e"/>
                </a:solidFill>
                <a:latin typeface="Amsterdam_vp"/>
              </a:rPr>
              <a:t>Кроме того:</a:t>
            </a:r>
            <a:endParaRPr b="0" lang="en-US" sz="28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5640" y="2349360"/>
            <a:ext cx="7704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1.Читайте хорошую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merican Retro"/>
                <a:hlinkClick r:id="rId2"/>
              </a:rPr>
              <a:t> литературу</a:t>
            </a: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.  Желательно классическую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2.Пересказывайте прочитанный текст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3.Учите стихи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4.Говорите медленно, думайте над словами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5.Составляйте речь из простых коротких предложений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6.Общайтесь с людьми, имеющими богатый словарный запас и правильную речь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7.Записывайте интересные фразы, вставляйте их в свою речь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8.Работайте с различными 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merican Retro"/>
                <a:hlinkClick r:id="rId3"/>
              </a:rPr>
              <a:t>словарями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merican Retro"/>
              </a:rPr>
              <a:t>: толковым, орфоэпическим, фразеологическим, словарями ударений и синонимов и др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9.Тренируйтесь в проговаривании скороговорок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10. Используйте пословицы и поговорки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11.  Изучайте речевой этикет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12. Контролируйте свою речь, подбирайте слова, точно передающие смысл высказывания</a:t>
            </a:r>
            <a:r>
              <a:rPr b="0" lang="en-US" sz="1600" spc="-1" strike="noStrike">
                <a:solidFill>
                  <a:srgbClr val="000000"/>
                </a:solidFill>
                <a:latin typeface="American Retro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</p:txBody>
      </p:sp>
      <p:pic>
        <p:nvPicPr>
          <p:cNvPr id="331" name="Picture 4" descr="AG00315_[1]"/>
          <p:cNvPicPr/>
          <p:nvPr/>
        </p:nvPicPr>
        <p:blipFill>
          <a:blip r:embed="rId4"/>
          <a:stretch/>
        </p:blipFill>
        <p:spPr>
          <a:xfrm>
            <a:off x="324000" y="5516640"/>
            <a:ext cx="10382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msterdam_vp"/>
              </a:rPr>
              <a:t>Вопросы анкеты</a:t>
            </a:r>
            <a:br>
              <a:rPr sz="2800"/>
            </a:br>
            <a:r>
              <a:rPr b="0" i="1" lang="en-US" sz="2800" spc="-1" strike="noStrike">
                <a:solidFill>
                  <a:srgbClr val="333399"/>
                </a:solidFill>
                <a:latin typeface="Amsterdam_vp"/>
              </a:rPr>
              <a:t>1. Употребляете ли Вы слова-паразиты?</a:t>
            </a:r>
            <a:br>
              <a:rPr sz="2800"/>
            </a:br>
            <a:r>
              <a:rPr b="0" i="1" lang="en-US" sz="2800" spc="-1" strike="noStrike">
                <a:solidFill>
                  <a:srgbClr val="333399"/>
                </a:solidFill>
                <a:latin typeface="Amsterdam_vp"/>
              </a:rPr>
              <a:t> 2. Какие Вы знаете слова-паразиты? </a:t>
            </a:r>
            <a:br>
              <a:rPr sz="2800"/>
            </a:br>
            <a:r>
              <a:rPr b="0" i="1" lang="en-US" sz="2800" spc="-1" strike="noStrike">
                <a:solidFill>
                  <a:srgbClr val="333399"/>
                </a:solidFill>
                <a:latin typeface="Amsterdam_vp"/>
              </a:rPr>
              <a:t>3. Какие из этих слов Вы чаще всего употребляете?</a:t>
            </a:r>
            <a:br>
              <a:rPr sz="2800"/>
            </a:br>
            <a:r>
              <a:rPr b="0" i="1" lang="en-US" sz="2800" spc="-1" strike="noStrike">
                <a:solidFill>
                  <a:srgbClr val="333399"/>
                </a:solidFill>
                <a:latin typeface="Amsterdam_vp"/>
              </a:rPr>
              <a:t> 4. Замечаете ли Вы в своей речи слова-паразиты? </a:t>
            </a:r>
            <a:br>
              <a:rPr sz="2800"/>
            </a:br>
            <a:r>
              <a:rPr b="0" i="1" lang="en-US" sz="2800" spc="-1" strike="noStrike">
                <a:solidFill>
                  <a:srgbClr val="333399"/>
                </a:solidFill>
                <a:latin typeface="Amsterdam_vp"/>
              </a:rPr>
              <a:t>5. Какие способы борьбы Вы можете предложить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400040" y="7308000"/>
            <a:ext cx="634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34" name="Прямоугольник 3"/>
          <p:cNvSpPr/>
          <p:nvPr/>
        </p:nvSpPr>
        <p:spPr>
          <a:xfrm>
            <a:off x="539640" y="907920"/>
            <a:ext cx="806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2406"/>
                </a:solidFill>
                <a:latin typeface="Arial"/>
              </a:rPr>
              <a:t>Исследование употребления слов – паразитов в речи школьников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2406"/>
                </a:solidFill>
                <a:latin typeface="Amsterdam_vp"/>
              </a:rPr>
              <a:t>Исследование употребления слов – паразитов в речи школьников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merican Retro"/>
              </a:rPr>
              <a:t>Диаграмма 1 .Употребление слов-паразитов Таким образом, результаты исследования показали нам, что 95,7% учащихся употребляют в своей речи слова – паразиты; 4,3% учащихся не употребляют.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</p:txBody>
      </p:sp>
      <p:pic>
        <p:nvPicPr>
          <p:cNvPr id="337" name="Picture 6" descr="AG00317_[2]"/>
          <p:cNvPicPr/>
          <p:nvPr/>
        </p:nvPicPr>
        <p:blipFill>
          <a:blip r:embed="rId2"/>
          <a:stretch/>
        </p:blipFill>
        <p:spPr>
          <a:xfrm>
            <a:off x="7812000" y="3860640"/>
            <a:ext cx="1038240" cy="1656000"/>
          </a:xfrm>
          <a:prstGeom prst="rect">
            <a:avLst/>
          </a:prstGeom>
          <a:ln w="0">
            <a:noFill/>
          </a:ln>
        </p:spPr>
      </p:pic>
      <p:pic>
        <p:nvPicPr>
          <p:cNvPr id="338" name="Диаграмма 5" descr=""/>
          <p:cNvPicPr/>
          <p:nvPr/>
        </p:nvPicPr>
        <p:blipFill>
          <a:blip r:embed="rId3"/>
          <a:stretch/>
        </p:blipFill>
        <p:spPr>
          <a:xfrm>
            <a:off x="1496880" y="3809880"/>
            <a:ext cx="535788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msterdam_vp"/>
              </a:rPr>
              <a:t>Из диаграммы  2  мы видим, что большинство учащихся  (69%) замечают в своей  речи слова - паразиты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832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pic>
        <p:nvPicPr>
          <p:cNvPr id="341" name="Содержимое 6" descr=""/>
          <p:cNvPicPr/>
          <p:nvPr/>
        </p:nvPicPr>
        <p:blipFill>
          <a:blip r:embed="rId2"/>
          <a:stretch/>
        </p:blipFill>
        <p:spPr>
          <a:xfrm>
            <a:off x="406440" y="2006640"/>
            <a:ext cx="831996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msterdam_vp"/>
              </a:rPr>
              <a:t>Частота употребления слов–паразитов                                                                                           Диаграмма 3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msterdam_vp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9540720" y="2276640"/>
            <a:ext cx="293760" cy="4068720"/>
          </a:xfrm>
          <a:prstGeom prst="rect">
            <a:avLst/>
          </a:prstGeom>
          <a:ln w="0">
            <a:noFill/>
          </a:ln>
        </p:spPr>
      </p:pic>
      <p:pic>
        <p:nvPicPr>
          <p:cNvPr id="344" name="Содержимое 4" descr=""/>
          <p:cNvPicPr/>
          <p:nvPr/>
        </p:nvPicPr>
        <p:blipFill>
          <a:blip r:embed="rId3"/>
          <a:stretch/>
        </p:blipFill>
        <p:spPr>
          <a:xfrm>
            <a:off x="406440" y="2006640"/>
            <a:ext cx="8104320" cy="41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6432e"/>
                </a:solidFill>
                <a:latin typeface="Amsterdam_vp"/>
              </a:rPr>
              <a:t>Способы борьбы со словами-паразитами.</a:t>
            </a:r>
            <a:br>
              <a:rPr sz="2400"/>
            </a:br>
            <a:r>
              <a:rPr b="0" lang="en-US" sz="2400" spc="-1" strike="noStrike">
                <a:solidFill>
                  <a:srgbClr val="86432e"/>
                </a:solidFill>
                <a:latin typeface="Amsterdam_vp"/>
              </a:rPr>
              <a:t>                                                             Диаграмма 4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msterdam_vp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0117080" y="2057400"/>
            <a:ext cx="216000" cy="4068720"/>
          </a:xfrm>
          <a:prstGeom prst="rect">
            <a:avLst/>
          </a:prstGeom>
          <a:ln w="0">
            <a:noFill/>
          </a:ln>
        </p:spPr>
      </p:pic>
      <p:pic>
        <p:nvPicPr>
          <p:cNvPr id="347" name="Содержимое 5" descr=""/>
          <p:cNvPicPr/>
          <p:nvPr/>
        </p:nvPicPr>
        <p:blipFill>
          <a:blip r:embed="rId3"/>
          <a:stretch/>
        </p:blipFill>
        <p:spPr>
          <a:xfrm>
            <a:off x="406440" y="2006640"/>
            <a:ext cx="8319960" cy="41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msterdam_vp"/>
              </a:rPr>
              <a:t>Ч</a:t>
            </a:r>
            <a:r>
              <a:rPr b="1" i="1" lang="en-US" sz="4400" spc="-1" strike="noStrike">
                <a:solidFill>
                  <a:srgbClr val="993300"/>
                </a:solidFill>
                <a:latin typeface="Amsterdam_vp"/>
              </a:rPr>
              <a:t>емпион  по имени </a:t>
            </a:r>
            <a:r>
              <a:rPr b="1" lang="en-US" sz="4400" spc="-1" strike="noStrike">
                <a:solidFill>
                  <a:srgbClr val="993300"/>
                </a:solidFill>
                <a:latin typeface="Amsterdam_vp"/>
              </a:rPr>
              <a:t>как бы.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2057400"/>
            <a:ext cx="82184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can Retro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merican Retro"/>
              </a:rPr>
              <a:t>        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 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В ходе исследования выявили  </a:t>
            </a:r>
            <a:r>
              <a:rPr b="1" i="1" lang="en-US" sz="1600" spc="-1" strike="noStrike">
                <a:solidFill>
                  <a:srgbClr val="333399"/>
                </a:solidFill>
                <a:latin typeface="American Retro"/>
              </a:rPr>
              <a:t> чемпиона  по имени </a:t>
            </a:r>
            <a:r>
              <a:rPr b="1" lang="en-US" sz="1600" spc="-1" strike="noStrike">
                <a:solidFill>
                  <a:srgbClr val="333399"/>
                </a:solidFill>
                <a:latin typeface="American Retro"/>
              </a:rPr>
              <a:t>как бы.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   </a:t>
            </a:r>
            <a:r>
              <a:rPr b="0" i="1" lang="ru-RU" sz="1600" spc="-1" strike="noStrike">
                <a:solidFill>
                  <a:srgbClr val="333399"/>
                </a:solidFill>
                <a:latin typeface="American Retro"/>
              </a:rPr>
              <a:t>Говорящий сомневается, что подобрал нужные слова для выражения своей мысли. 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Выручает распространённое ныне сочетание </a:t>
            </a:r>
            <a:r>
              <a:rPr b="1" lang="en-US" sz="1600" spc="-1" strike="noStrike">
                <a:solidFill>
                  <a:srgbClr val="333399"/>
                </a:solidFill>
                <a:latin typeface="American Retro"/>
              </a:rPr>
              <a:t>как бы</a:t>
            </a:r>
            <a:r>
              <a:rPr b="1" lang="ru-RU" sz="1600" spc="-1" strike="noStrike">
                <a:solidFill>
                  <a:srgbClr val="333399"/>
                </a:solidFill>
                <a:latin typeface="American Retro"/>
              </a:rPr>
              <a:t>.  Я как бы работаю над темой… </a:t>
            </a:r>
            <a:r>
              <a:rPr b="1" lang="en-US" sz="1600" spc="-1" strike="noStrike">
                <a:solidFill>
                  <a:srgbClr val="333399"/>
                </a:solidFill>
                <a:latin typeface="American Retro"/>
              </a:rPr>
              <a:t>Я как бы уважаю ваше мнение… Я как бы помогаю… Я как бы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 </a:t>
            </a:r>
            <a:r>
              <a:rPr b="1" lang="en-US" sz="1600" spc="-1" strike="noStrike">
                <a:solidFill>
                  <a:srgbClr val="333399"/>
                </a:solidFill>
                <a:latin typeface="American Retro"/>
              </a:rPr>
              <a:t>знаю ответ… Я как бы защищаю ваши интересы…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 «Как бы» означает «как будто», т.е. выражает неуверенность, некомпетентность, несерьёзность. То ли да, то ли нет, предположительно. Но не обязательно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merican Retro"/>
              </a:rPr>
              <a:t>     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Во всём сквозит неуверенность, приблизительность: в речи, в человеке, в его поступках, взглядах, в пути, по которому он идёт. Или </a:t>
            </a:r>
            <a:r>
              <a:rPr b="1" lang="en-US" sz="1600" spc="-1" strike="noStrike">
                <a:solidFill>
                  <a:srgbClr val="333399"/>
                </a:solidFill>
                <a:latin typeface="American Retro"/>
              </a:rPr>
              <a:t>как бы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 идёт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merican Retro"/>
              </a:rPr>
              <a:t>    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«Как бы» заполонило всё жизненное пространство. Всё везде </a:t>
            </a:r>
            <a:r>
              <a:rPr b="1" lang="en-US" sz="1600" spc="-1" strike="noStrike">
                <a:solidFill>
                  <a:srgbClr val="333399"/>
                </a:solidFill>
                <a:latin typeface="American Retro"/>
              </a:rPr>
              <a:t>как бы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: нет ничего определённого, верного, точного. </a:t>
            </a:r>
            <a:r>
              <a:rPr b="1" lang="en-US" sz="1600" spc="-1" strike="noStrike">
                <a:solidFill>
                  <a:srgbClr val="333399"/>
                </a:solidFill>
                <a:latin typeface="American Retro"/>
              </a:rPr>
              <a:t>Как бы живём. Как бы говорим. Как бы любим. Как бы думаем</a:t>
            </a:r>
            <a:r>
              <a:rPr b="0" i="1" lang="en-US" sz="1600" spc="-1" strike="noStrike">
                <a:solidFill>
                  <a:srgbClr val="333399"/>
                </a:solidFill>
                <a:latin typeface="American Retro"/>
              </a:rPr>
              <a:t>..</a:t>
            </a:r>
            <a:r>
              <a:rPr b="1" lang="en-US" sz="1600" spc="-1" strike="noStrike">
                <a:solidFill>
                  <a:srgbClr val="333399"/>
                </a:solidFill>
                <a:latin typeface="American Retro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9612000" y="2057400"/>
            <a:ext cx="144360" cy="40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280" y="762120"/>
            <a:ext cx="807084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Baskerville Old Face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Retro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merican Retro"/>
              </a:rPr>
              <a:t>Как показало данное исследование, присутствие в нашей речи слов-паразитов нарушает правильное восприятие речи и является вредным и опасным лингвистическим явлением для языка, поэтому бороться с ним крайне необходимо.</a:t>
            </a:r>
            <a:endParaRPr b="0" lang="en-US" sz="1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merican Retro"/>
              </a:rPr>
              <a:t>Наша исследовательская работа может иметь несомненную практическую значимость, например, при организации школьного учебного курса по русскому языку о «Культуре речи», а также поможет обратить внимание школьников на бережное отношение к русскому языку. </a:t>
            </a:r>
            <a:endParaRPr b="0" lang="en-US" sz="1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merican Retro"/>
              </a:rPr>
              <a:t>Наш проект смог собрать большинство известных слов-паразитов русского языка. Прошло совсем немного времени, а мы уже успели обратить внимание многих учащихся на проблему засорения речи словами-паразитами. </a:t>
            </a:r>
            <a:endParaRPr b="0" lang="en-US" sz="18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635040" y="387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"/>
          <p:cNvSpPr/>
          <p:nvPr/>
        </p:nvSpPr>
        <p:spPr>
          <a:xfrm>
            <a:off x="647640" y="1628640"/>
            <a:ext cx="7885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 помощью нашего проекта мы хотим привлечь внимание широкого круга учащихся и учителей к проблемам сохранения чистоты русского языка, воспитывать активную позицию в решении языковых проблем, повышать популярность языковой культуры. Становится грустно от того, что «великий и могучий» русский язык, как утверждают классики, в нашей речи уже не кажется таким богатым и крас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олученные результаты в ходе работы над проектом подтверждают нашу гипотезу, что большинство учащихся школы бессознательно употребляют в своей речи слова-паразиты и подобные слова есть и в речи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ы считаем, что слова-паразиты, несомненно, заслуживают того, чтобы объявить им войну. Если кто-то ещё имеет такую привычку, советуем срочно провести генеральную чистку и дезинфекцию своей речи. В этом вам поможет наш про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Слова-паразиты — как соль в речи!?"/>
          <p:cNvPicPr/>
          <p:nvPr/>
        </p:nvPicPr>
        <p:blipFill>
          <a:blip r:embed="rId2"/>
          <a:stretch/>
        </p:blipFill>
        <p:spPr>
          <a:xfrm>
            <a:off x="179280" y="3141720"/>
            <a:ext cx="2772000" cy="28796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Baskerville Old Face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916360" y="2060640"/>
            <a:ext cx="5759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32800" indent="-532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щательно следите за своей речью, избегая повторения «излюбленных словечек»; 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marL="532800" indent="-532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еняйте «паразитов» на нейтральные слова, например, вместо «ммм» или «эээ» попробуйте сказать вслух «я торможу»; 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marL="532800" indent="-532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просите кого-либо из членов семьи, чтобы он «штрафовал» вас за каждое слово-паразита: щипал, колол…; 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marL="532800" indent="-532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читайте, читайте и еще раз читайте! Ничто не развивает речь лучше, чем чтение качественной литературы. 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268200" y="271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Baskerville Old Face"/>
              </a:rPr>
              <a:t>Актуальность исследования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07640" y="2060640"/>
            <a:ext cx="6985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Какая привычка считается самой плохой?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32640" indent="-33264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Оказывается, наряду с курением, ленью и привычкой всегда опаздывать одним из самых частых был ответ о том, что плохой является привычка употреблять в речи слова-паразиты. 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32640" indent="-33264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Сегодня все чаще в речи учащихся стали «проскальзывать» лишние слова. Слова, которые изменили речь не в лучшую сторону. 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32640" indent="-33264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Использование слов-паразитов не ограничено определённой социальной или возрастной средой. Эти слова звучат в речи теле- и радиожурналистов, политиков, преподавателей учебных заведений разного уровня, оказывая негативное влияние на экологию русской речи. И дело даже не в обрастании языка новой лексикой – проблема в том, что наша «прекрасная, богатая, могучая» речь становится неяркой, малопонятной, невыразительной. Присутствие в нашей речи слов-паразитов нарушает четкое, ясное и правильное восприятие речи собеседником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11" name="Содержимое 2"/>
          <p:cNvSpPr/>
          <p:nvPr/>
        </p:nvSpPr>
        <p:spPr>
          <a:xfrm>
            <a:off x="1476360" y="2276640"/>
            <a:ext cx="709308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662406"/>
              </a:buClr>
              <a:buFont typeface="Monotype Corsiv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5" descr="5220-original[1]"/>
          <p:cNvPicPr/>
          <p:nvPr/>
        </p:nvPicPr>
        <p:blipFill>
          <a:blip r:embed="rId2"/>
          <a:stretch/>
        </p:blipFill>
        <p:spPr>
          <a:xfrm>
            <a:off x="0" y="4386240"/>
            <a:ext cx="2325600" cy="24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WordArt 4"/>
          <p:cNvSpPr txBox="1"/>
          <p:nvPr/>
        </p:nvSpPr>
        <p:spPr>
          <a:xfrm>
            <a:off x="826920" y="1341360"/>
            <a:ext cx="6481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Book Antiqua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pic>
        <p:nvPicPr>
          <p:cNvPr id="360" name="Picture 5" descr="______-__________206x196"/>
          <p:cNvPicPr/>
          <p:nvPr/>
        </p:nvPicPr>
        <p:blipFill>
          <a:blip r:embed="rId4"/>
          <a:stretch/>
        </p:blipFill>
        <p:spPr>
          <a:xfrm>
            <a:off x="2556000" y="2924280"/>
            <a:ext cx="3743280" cy="3311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AG00315_[1]"/>
          <p:cNvPicPr/>
          <p:nvPr/>
        </p:nvPicPr>
        <p:blipFill>
          <a:blip r:embed="rId5"/>
          <a:stretch/>
        </p:blipFill>
        <p:spPr>
          <a:xfrm>
            <a:off x="324000" y="5373720"/>
            <a:ext cx="103824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Baskerville Old Face"/>
              </a:rPr>
              <a:t>Актуальность исследования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Retro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merican Retro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Retro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American Retro"/>
              </a:rPr>
              <a:t>Сегодня все чаще в речи учащихся стали «проскальзывать» лишние слова. Слова, которые изменили речь не в лучшую сторону. В современном обществе теряется чистота разговорной речи, все чаще недостаток лексического запаса компенсируют слова- паразиты, которые замещают пробелы между словами и чаще всего обозначают то, что человек мало читает или имеет скудный лексикон. Развитость речи – это показатель уровня культуры человека, его интеллекта, кругозора. Употребление слов – паразитов распространено в современном обществе, поэтому всестороннее рассмотрение данной проблемы и поиск путей ее решения делает эту проблему актуальной.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Baskerville Old Face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Большинство учащихся школы бессознательно употребляют в своей речи слова-паразиты. Подобные слова есть и в речи взрослых (педагогов и родителей), хотя качественный состав этих элементов иной и зависит от общей культуры человека, речевой ситуации, психологических факторов.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Retr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</p:txBody>
      </p:sp>
      <p:pic>
        <p:nvPicPr>
          <p:cNvPr id="317" name="Рисунок 3" descr="http://im2-tub-ru.yandex.net/i?id=776596487-70-72&amp;n=21"/>
          <p:cNvPicPr/>
          <p:nvPr/>
        </p:nvPicPr>
        <p:blipFill>
          <a:blip r:embed="rId2"/>
          <a:stretch/>
        </p:blipFill>
        <p:spPr>
          <a:xfrm>
            <a:off x="6875640" y="5373720"/>
            <a:ext cx="179352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Baskerville Old Face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Изучение проблемы засорённости речи словами-паразитами в среде учащихся нашей школы, выявление действенных способов борьбы с данным вредным языковым явлением, привлечение внимания школьников к проблеме необходимости очищения речи от словесного мусора.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merican Retr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Baskerville Old Face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pic>
        <p:nvPicPr>
          <p:cNvPr id="321" name="Rectangle 5" descr=""/>
          <p:cNvPicPr/>
          <p:nvPr/>
        </p:nvPicPr>
        <p:blipFill>
          <a:blip r:embed="rId2"/>
          <a:stretch/>
        </p:blipFill>
        <p:spPr>
          <a:xfrm>
            <a:off x="255600" y="2036880"/>
            <a:ext cx="843768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432e"/>
                </a:solidFill>
                <a:latin typeface="Amsterdam_vp"/>
              </a:rPr>
              <a:t>Что такое «паразиты» в речи.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«Слова-паразиты» — лингвистическое явление, выраженное в употреблении лишних и бессмысленных в данном контексте слов. 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Слова-паразиты – это слова, которые люди употребляют часто, но при этом не вкладывают в них никакого значения, а заполняют ими паузы. К словам паразитам относятся:  «</a:t>
            </a:r>
            <a:r>
              <a:rPr b="1" i="1" lang="en-US" sz="2000" spc="-1" strike="noStrike">
                <a:solidFill>
                  <a:srgbClr val="333399"/>
                </a:solidFill>
                <a:latin typeface="Arial Unicode MS"/>
              </a:rPr>
              <a:t>как бы», «просто», «типа», «короче», «на самом деле», «практически», «так сказать», «вообще-то», «кстати», «ну», «вот»,  «э-э-э»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 и т.п.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Unicode MS"/>
              </a:rPr>
              <a:t>слова-паразиты -  это  пустые, сорные слова, которые сбивают ритм речи и  мешают ее пониманию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merican Retro"/>
            </a:endParaRPr>
          </a:p>
        </p:txBody>
      </p:sp>
      <p:pic>
        <p:nvPicPr>
          <p:cNvPr id="324" name="Picture 4" descr="http://rus.1september.ru/2004/15/1.gif"/>
          <p:cNvPicPr/>
          <p:nvPr/>
        </p:nvPicPr>
        <p:blipFill>
          <a:blip r:embed="rId2"/>
          <a:stretch/>
        </p:blipFill>
        <p:spPr>
          <a:xfrm>
            <a:off x="5580000" y="5661000"/>
            <a:ext cx="331308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35956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msterdam_vp"/>
              </a:rPr>
              <a:t>         </a:t>
            </a:r>
            <a:r>
              <a:rPr b="1" lang="ru-RU" sz="2800" spc="-1" strike="noStrike">
                <a:solidFill>
                  <a:srgbClr val="aa6d5a"/>
                </a:solidFill>
                <a:latin typeface="Amsterdam_vp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aa6d5a"/>
                </a:solidFill>
                <a:latin typeface="Amsterdam_vp"/>
              </a:rPr>
              <a:t>       </a:t>
            </a:r>
            <a:r>
              <a:rPr b="1" lang="ru-RU" sz="2800" spc="-1" strike="noStrike">
                <a:solidFill>
                  <a:srgbClr val="662406"/>
                </a:solidFill>
                <a:latin typeface="Amsterdam_vp"/>
              </a:rPr>
              <a:t>Когда и кто употребляет слова-паразиты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недостаточный  словарный запас (говорящему не всегда удаётся  быстро найти нужное слово);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намеренное заполнение паузы между словами или выражениями;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быстрая, неподготовленная, спонтанная речь;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merican Retro"/>
              </a:rPr>
              <a:t>мода на некоторые  слова.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msterdam_vp"/>
              </a:rPr>
              <a:t>Пути избавления от слов-парази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    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Чтобы избавиться от слов-паразитов, следите за своей речью. Найдите в ней пустые, лишние слова, названные паразитами. Повторите свою речь уже без них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Теперь речь кажется тусклой и бесцветной? Вы просто не знаете великолепия интонации!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merican Retro"/>
              </a:rPr>
              <a:t>С её помощью о самых простых вещах можно говорить вдохновенно, таким образом, что эти вещи приобретают иной, не уловленный слушателями раньше смысл и привлекательность. Раскрасьте речь оттенками интонации или различной тональностью голоса: от тихого, почти шёпота, до резкого, с акцентом на главной мысли, выводе. Фразы произносите неторопливо, выделяйте ключевые слова, пользуйтесь паузами. Интригуйте собеседника. Творите волшебство! Технические возможности речи безграничны.</a:t>
            </a: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5:06:13Z</dcterms:created>
  <dc:creator>ирина</dc:creator>
  <dc:description/>
  <dc:language>en-US</dc:language>
  <cp:lastModifiedBy>Ленгерт</cp:lastModifiedBy>
  <dcterms:modified xsi:type="dcterms:W3CDTF">2015-01-30T10:05:03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