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57F6-1CC7-41B8-B0DA-72EAC5E0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A83-D4EF-49E0-B009-653B112B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F49-AB09-40AE-A921-68C785E3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3CA-E807-4283-9A56-6EA99572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C275-9855-41AC-8860-2F536FBF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6061-A095-4B63-A45D-76E38D44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D80C-BAA9-47D1-9D89-48A5EB54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987-8B65-4CA6-9756-9636B755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D6CA-63E4-4624-AE64-A30045F5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00F-C537-46D1-9FDC-4A11D44D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49AB-E9C0-4C3C-A99C-4A0EB1A2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A77-573F-47C8-A110-0773B5DC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A86F2-5F2F-457E-A753-F2763824A8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691920"/>
            <a:ext cx="7772400" cy="14698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470000"/>
              </a:gs>
              <a:gs pos="100000">
                <a:srgbClr val="990000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Izhitsa"/>
              </a:rPr>
              <a:t>Родительское собрание № 4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560" y="2428560"/>
            <a:ext cx="7429320" cy="407988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100000">
                <a:srgbClr val="76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Как помочь 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   ребёнку 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Izhitsa"/>
              </a:rPr>
              <a:t>  полюбить чтен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6560" y="396360"/>
            <a:ext cx="8074080" cy="109548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5ffff"/>
                </a:solidFill>
                <a:latin typeface="Tahoma"/>
              </a:rPr>
              <a:t>Эпиграф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071800" y="1785960"/>
            <a:ext cx="6000480" cy="4114800"/>
          </a:xfrm>
          <a:prstGeom prst="rect">
            <a:avLst/>
          </a:prstGeom>
          <a:gradFill rotWithShape="0">
            <a:gsLst>
              <a:gs pos="0">
                <a:srgbClr val="470018"/>
              </a:gs>
              <a:gs pos="100000">
                <a:srgbClr val="9900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Никогда не поздно 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     устроить себ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Monotype Corsiva"/>
              </a:rPr>
              <a:t>счастливое детство.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Глория  Стайн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Izhitsa"/>
              </a:rPr>
              <a:t>Как приучить ребёнка читать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11480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и в коем случае нельзя принуждать ребёнка что-либо дела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омните: дети, склонные к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ридингфоби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, с трудом усваивают печатный текс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 паниковать самим и успокоить ребён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нимательно и дружелюбно выслушивайте, не торопитесь его экзаменоват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 жалейте похвал, но и не торопитесь хвастаться перед гостями успехами своих ча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470000"/>
              </a:gs>
              <a:gs pos="50000">
                <a:srgbClr val="990000"/>
              </a:gs>
              <a:gs pos="100000">
                <a:srgbClr val="4700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Izhitsa"/>
              </a:rPr>
              <a:t>Цель литературного образова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Формирование и развитие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ультуры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читательского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осприятия и понимания литературного произведения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к явления словесного искусств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3400"/>
          </a:xfrm>
          <a:prstGeom prst="rect">
            <a:avLst/>
          </a:prstGeom>
          <a:gradFill rotWithShape="0">
            <a:gsLst>
              <a:gs pos="0">
                <a:srgbClr val="181876"/>
              </a:gs>
              <a:gs pos="50000">
                <a:srgbClr val="3333ff"/>
              </a:gs>
              <a:gs pos="100000">
                <a:srgbClr val="181876"/>
              </a:gs>
            </a:gsLst>
            <a:lin ang="189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Izhitsa"/>
              </a:rPr>
              <a:t>    </a:t>
            </a:r>
            <a:r>
              <a:rPr b="1" lang="ru-RU" sz="4000" spc="-1" strike="noStrike">
                <a:solidFill>
                  <a:srgbClr val="e5ffff"/>
                </a:solidFill>
                <a:latin typeface="Izhitsa"/>
              </a:rPr>
              <a:t>Урок  литературы - это… ………………………. . ………………………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3440" y="2331720"/>
            <a:ext cx="4037040" cy="374004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учение авторских образов и создание свои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(С. Агафонов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рок, на который надо настраиваться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(М. Головки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треча с писателем, произведение которого может отпечататься в памяти  на всю жизн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(Т. Вдовин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Мальчик с книгами"/>
          <p:cNvPicPr/>
          <p:nvPr/>
        </p:nvPicPr>
        <p:blipFill>
          <a:blip r:embed="rId1"/>
          <a:stretch/>
        </p:blipFill>
        <p:spPr>
          <a:xfrm>
            <a:off x="538200" y="1989000"/>
            <a:ext cx="3610080" cy="4104000"/>
          </a:xfrm>
          <a:prstGeom prst="rect">
            <a:avLst/>
          </a:prstGeom>
          <a:ln w="9360">
            <a:solidFill>
              <a:srgbClr val="8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2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Что такое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литературное чтение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solidFill>
            <a:srgbClr val="9900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Особый способ познания мира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через 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художест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енные образы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Творческая деятельность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(созидание читателя и автора в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самом себе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9000"/>
                            </p:stCondLst>
                            <p:childTnLst>
                              <p:par>
                                <p:cTn id="20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70c0"/>
          </a:solidFill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Основные содержательные линии программы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solidFill>
            <a:srgbClr val="7030a0"/>
          </a:solidFill>
          <a:ln w="936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уг чтения и опыт читательской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хника чте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воначальное литературное образован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ормирование умений читательской деятельнос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иды речево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solidFill>
            <a:srgbClr val="00b050"/>
          </a:solidFill>
          <a:ln w="76320">
            <a:solidFill>
              <a:srgbClr val="71a6a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хника чт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solidFill>
            <a:srgbClr val="6797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ределяет основное содержание формирования процесса чте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4568"/>
                </a:solidFill>
                <a:latin typeface="Tahoma"/>
              </a:rPr>
              <a:t>способ чт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4568"/>
                </a:solidFill>
                <a:latin typeface="Tahoma"/>
              </a:rPr>
              <a:t>правиль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4568"/>
                </a:solidFill>
                <a:latin typeface="Tahoma"/>
              </a:rPr>
              <a:t>скор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4568"/>
                </a:solidFill>
                <a:latin typeface="Tahoma"/>
              </a:rPr>
              <a:t>осознан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4568"/>
                </a:solidFill>
                <a:latin typeface="Tahoma"/>
              </a:rPr>
              <a:t>выразительно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14:31:59Z</dcterms:created>
  <dc:creator>Lena</dc:creator>
  <dc:description/>
  <dc:language>en-US</dc:language>
  <cp:lastModifiedBy>Вера</cp:lastModifiedBy>
  <dcterms:modified xsi:type="dcterms:W3CDTF">2011-12-06T16:19:36Z</dcterms:modified>
  <cp:revision>61</cp:revision>
  <dc:subject/>
  <dc:title>Е. И. Матвеева</dc:title>
</cp:coreProperties>
</file>