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FFC-EA14-4630-A79C-EC379764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CCC-0EA7-4EB3-89BC-0C8F17E7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EFB-87C0-402C-9046-079DD80F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306-0F30-45DA-BEAD-02E29CE8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D57-DCA3-4688-998C-7C0C8FD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DCF-481B-4F7B-9D89-029A908D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577-64FA-40A1-8833-8A8A1E13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919-ADC2-4DF2-9F27-27DF2287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3CD-CCB1-475D-BBAF-E51CD2B9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A96-E9CE-4846-8BEF-BEB823F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D50-D529-496B-AAB2-962C668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F64-B18D-4B2A-8988-B34F9A7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ADEC-BB7E-4444-A05B-A8FDE38E69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77724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4700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Izhitsa"/>
              </a:rPr>
              <a:t>Родительское собрание №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560" y="2428560"/>
            <a:ext cx="7429320" cy="40798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Как помочь 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   ребёнку 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  полюбить чт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396360"/>
            <a:ext cx="8074080" cy="10954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Эпигра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71800" y="1785960"/>
            <a:ext cx="6000480" cy="4114800"/>
          </a:xfrm>
          <a:prstGeom prst="rect">
            <a:avLst/>
          </a:prstGeom>
          <a:gradFill rotWithShape="0">
            <a:gsLst>
              <a:gs pos="0">
                <a:srgbClr val="470018"/>
              </a:gs>
              <a:gs pos="100000">
                <a:srgbClr val="99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Никогда не поздно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устроить себ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счастливое детство.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лория  Стайн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Izhitsa"/>
              </a:rPr>
              <a:t>Как приучить ребёнка читать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114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и в коем случае нельзя принуждать ребёнка что-либо дел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мните: дети, склонные к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идингфоби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с трудом усваивают печатный текс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паниковать самим и успокоить ребё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нимательно и дружелюбно выслушивайте, не торопитесь его экзаменов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жалейте похвал, но и не торопитесь хвастаться перед гостями успехами своих ч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50000">
                <a:srgbClr val="990000"/>
              </a:gs>
              <a:gs pos="100000">
                <a:srgbClr val="47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Izhitsa"/>
              </a:rPr>
              <a:t>Цель литературного образ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ирование и развит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ультуры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читательск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осприятия и понимания литературного произведения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явления словесного искус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3400"/>
          </a:xfrm>
          <a:prstGeom prst="rect">
            <a:avLst/>
          </a:prstGeom>
          <a:gradFill rotWithShape="0">
            <a:gsLst>
              <a:gs pos="0">
                <a:srgbClr val="181876"/>
              </a:gs>
              <a:gs pos="50000">
                <a:srgbClr val="3333ff"/>
              </a:gs>
              <a:gs pos="100000">
                <a:srgbClr val="181876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Izhitsa"/>
              </a:rPr>
              <a:t>    </a:t>
            </a:r>
            <a:r>
              <a:rPr b="1" lang="ru-RU" sz="4000" spc="-1" strike="noStrike">
                <a:solidFill>
                  <a:srgbClr val="e5ffff"/>
                </a:solidFill>
                <a:latin typeface="Izhitsa"/>
              </a:rPr>
              <a:t>Урок  литературы - это… ………………………. . ……………………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3440" y="2331720"/>
            <a:ext cx="4037040" cy="374004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ение авторских образов и создание сво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С. Агафон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, на который надо настраив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М. Головк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реча с писателем, произведение которого может отпечататься в памяти  на всю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Т. Вдов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Мальчик с книгами"/>
          <p:cNvPicPr/>
          <p:nvPr/>
        </p:nvPicPr>
        <p:blipFill>
          <a:blip r:embed="rId1"/>
          <a:stretch/>
        </p:blipFill>
        <p:spPr>
          <a:xfrm>
            <a:off x="538200" y="1989000"/>
            <a:ext cx="3610080" cy="410400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то такое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ное чтение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собый способ познания мир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через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художест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енные образ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ворческая деятельнос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(созидание читателя и автора в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самом себе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сновные содержательные линии программ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solidFill>
            <a:srgbClr val="7030a0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уг чтения и опыт читательск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ника чт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оначальное литературное образ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умений читательск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ы рече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b050"/>
          </a:solidFill>
          <a:ln w="76320">
            <a:solidFill>
              <a:srgbClr val="71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ика чт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solidFill>
            <a:srgbClr val="6797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 основное содержание формирования процесса чт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способ чт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прави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скор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осознан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выразите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31:59Z</dcterms:created>
  <dc:creator>Lena</dc:creator>
  <dc:description/>
  <dc:language>en-US</dc:language>
  <cp:lastModifiedBy>Вера</cp:lastModifiedBy>
  <dcterms:modified xsi:type="dcterms:W3CDTF">2011-12-06T16:19:36Z</dcterms:modified>
  <cp:revision>61</cp:revision>
  <dc:subject/>
  <dc:title>Е. И. Матвеева</dc:title>
</cp:coreProperties>
</file>