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9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9F77-3E45-495F-9B48-E6850BA7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D27C-7ECF-4BCC-97BC-C3134FCE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2615-0433-4090-AE7C-8FD4AE36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2710-1B67-46C8-A09F-EEDF7DF6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EBA-1AD3-4CB8-B399-DC2341B2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5D49-6934-4511-B826-026CD4E1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443F-B762-4A94-A82C-512AF87D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287D-E436-4BC6-AFF9-A9FE274F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E30-771A-4244-834D-AA74629E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483E-87A0-4F0C-B768-590206E7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03C-C84B-4712-B1EA-B7B0C578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4000-381B-4F17-836E-D8D4DD33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3d6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709D-7F02-4FB4-8137-6A935262C5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426960" y="1274760"/>
            <a:ext cx="7821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213840"/>
            <a:ext cx="88581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Мама работает в школе искусств. Там она учи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детей танцевать. В свободное время ма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играет с нами. Мне нравитс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как мама делает котлет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Я люблю свою мамочку, потом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то она помогает в трудну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минуту. Мама всег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держивает своё обещан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Я люблю маму обнимать 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щекотать. Я хотел бы пожелат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маме, чтоб у неё был отдых 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вободное врем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т такая у  меня мам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P1090828.JPG"/>
          <p:cNvPicPr/>
          <p:nvPr/>
        </p:nvPicPr>
        <p:blipFill>
          <a:blip r:embed="rId1"/>
          <a:stretch/>
        </p:blipFill>
        <p:spPr>
          <a:xfrm>
            <a:off x="5929200" y="1500120"/>
            <a:ext cx="32148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13840" y="0"/>
            <a:ext cx="85726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меня самая лучшая мама. Она работает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нице медицинской сестрой.  Мама леч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ных. Моя мама красивая, нежная, добра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ботливая. Мамочке нравятся  цветы. 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гаю маме ухажив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ними. Я очень любл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ю мамочку. Она помога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е во всём. Мама вкус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товит, а я люблю покуш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ма вяжет тёплые вещ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ой мамы нет ни у 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P1090725.JPG"/>
          <p:cNvPicPr/>
          <p:nvPr/>
        </p:nvPicPr>
        <p:blipFill>
          <a:blip r:embed="rId1"/>
          <a:stretch/>
        </p:blipFill>
        <p:spPr>
          <a:xfrm>
            <a:off x="5572080" y="2214720"/>
            <a:ext cx="34290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85840" y="214200"/>
            <a:ext cx="8400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ма- это лучший человек. Моя м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ботает на птицефабрике. Она сортиру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йца. Яйца собирает в решётки, затем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робки, затем их отправляют в магаз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ма готовит вкус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юре и котле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выходные 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дим к бабуш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гости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P1030937.JPG"/>
          <p:cNvPicPr/>
          <p:nvPr/>
        </p:nvPicPr>
        <p:blipFill>
          <a:blip r:embed="rId1"/>
          <a:stretch/>
        </p:blipFill>
        <p:spPr>
          <a:xfrm>
            <a:off x="4429080" y="2500200"/>
            <a:ext cx="4500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0" y="28548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ма всегда поможет в трудную минуту. У мамы мн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бот и хлопот, но мама как-то всё успевает и даже 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аёт вида, что устала. Благодаря маме в нашем до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гда  чисто и уютно. Добрая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раведливая, ласковая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рьёзная, смелая и чуткая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щё всё это вмест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дновременно.  И кажд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 она новая,  разная и всё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ки самая моя единственна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 люблю свою мамочку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P1090763.JPG"/>
          <p:cNvPicPr/>
          <p:nvPr/>
        </p:nvPicPr>
        <p:blipFill>
          <a:blip r:embed="rId1"/>
          <a:stretch/>
        </p:blipFill>
        <p:spPr>
          <a:xfrm>
            <a:off x="4929120" y="2401920"/>
            <a:ext cx="39686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 меня мамоч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ботает в магазин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ма самая красивая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есёлая и добра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 её очень люблю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ля меня нет лучш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мочки на свете!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4" descr="P1090791.JPG"/>
          <p:cNvPicPr/>
          <p:nvPr/>
        </p:nvPicPr>
        <p:blipFill>
          <a:blip r:embed="rId1"/>
          <a:stretch/>
        </p:blipFill>
        <p:spPr>
          <a:xfrm>
            <a:off x="5072040" y="785880"/>
            <a:ext cx="38480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ма работает в магазине  одежды и обуви. Она помогает мне решать задачи. Мама любит меня. А ещё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 нас скоро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будет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леньки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ребёнок-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й братик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P1030893.JPG"/>
          <p:cNvPicPr/>
          <p:nvPr/>
        </p:nvPicPr>
        <p:blipFill>
          <a:blip r:embed="rId1"/>
          <a:stretch/>
        </p:blipFill>
        <p:spPr>
          <a:xfrm>
            <a:off x="4071960" y="2955960"/>
            <a:ext cx="507204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642600"/>
            <a:ext cx="8686800" cy="422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оя мама работает в сбербанке. Мама готовит кушать. Она хорошая и добрая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Мама красива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 добролюбивая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оя мам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счастлива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2" descr="P1030898.JPG"/>
          <p:cNvPicPr/>
          <p:nvPr/>
        </p:nvPicPr>
        <p:blipFill>
          <a:blip r:embed="rId1"/>
          <a:stretch/>
        </p:blipFill>
        <p:spPr>
          <a:xfrm>
            <a:off x="4572000" y="2857680"/>
            <a:ext cx="428616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4" descr=""/>
          <p:cNvPicPr/>
          <p:nvPr/>
        </p:nvPicPr>
        <p:blipFill>
          <a:blip r:embed="rId1"/>
          <a:stretch/>
        </p:blipFill>
        <p:spPr>
          <a:xfrm>
            <a:off x="133200" y="1066680"/>
            <a:ext cx="4700880" cy="4724640"/>
          </a:xfrm>
          <a:prstGeom prst="rect">
            <a:avLst/>
          </a:prstGeom>
          <a:ln w="0">
            <a:noFill/>
          </a:ln>
        </p:spPr>
      </p:pic>
      <p:pic>
        <p:nvPicPr>
          <p:cNvPr id="73" name="Схема 5" descr=""/>
          <p:cNvPicPr/>
          <p:nvPr/>
        </p:nvPicPr>
        <p:blipFill>
          <a:blip r:embed="rId2"/>
          <a:stretch/>
        </p:blipFill>
        <p:spPr>
          <a:xfrm>
            <a:off x="4352760" y="993600"/>
            <a:ext cx="4559400" cy="4943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D:\Общие документы\КАРТИНКИ\АНИМИРОВАННЫЕ КАРТИНКИ\1 (42).gif"/>
          <p:cNvPicPr/>
          <p:nvPr/>
        </p:nvPicPr>
        <p:blipFill>
          <a:blip r:embed="rId3"/>
          <a:stretch/>
        </p:blipFill>
        <p:spPr>
          <a:xfrm>
            <a:off x="5429160" y="5226120"/>
            <a:ext cx="316728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85840" y="285480"/>
            <a:ext cx="84009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ма работает в детском саду. Мама всег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могает  в трудной ситуации. Помог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ветом, когда я в чё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о сомневаюс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ы участвуем в раз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нкурса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здим на экскур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очень любл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ою мам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P1090752.JPG"/>
          <p:cNvPicPr/>
          <p:nvPr/>
        </p:nvPicPr>
        <p:blipFill>
          <a:blip r:embed="rId1"/>
          <a:stretch/>
        </p:blipFill>
        <p:spPr>
          <a:xfrm>
            <a:off x="4714920" y="1785960"/>
            <a:ext cx="442908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13840" y="285480"/>
            <a:ext cx="8472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ма  очень красивая, трудолюбива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брая , ответственная. Она всегда помож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не. Когда мне нужен совет я обращаюсь 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ме. Когда мне скучно, 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ня развесели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ёт песенку на но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ма меня очень люби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смотря на мо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достат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мамочку очень люблю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P1090764.JPG"/>
          <p:cNvPicPr/>
          <p:nvPr/>
        </p:nvPicPr>
        <p:blipFill>
          <a:blip r:embed="rId1"/>
          <a:stretch/>
        </p:blipFill>
        <p:spPr>
          <a:xfrm>
            <a:off x="5000760" y="2714760"/>
            <a:ext cx="39290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здравляю с праздником, дорогая мама! Мама моя всех красивее и умнее. Я благодар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аме за всё!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любовь за надежду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и многое другое!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веты и свет теб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арю! Всё для тебя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я любимая мама!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 праздником мам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2" descr="P1090823.JPG"/>
          <p:cNvPicPr/>
          <p:nvPr/>
        </p:nvPicPr>
        <p:blipFill>
          <a:blip r:embed="rId1"/>
          <a:stretch/>
        </p:blipFill>
        <p:spPr>
          <a:xfrm>
            <a:off x="5500800" y="1785960"/>
            <a:ext cx="34639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я мама добрая, хорошая! Я люблю с мамой играть, гулять. Она вкусно готовит. Мама  работает в селекционной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станции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ам производят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разные семена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Мама лучша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на свет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4" descr="P1030874.JPG"/>
          <p:cNvPicPr/>
          <p:nvPr/>
        </p:nvPicPr>
        <p:blipFill>
          <a:blip r:embed="rId1"/>
          <a:stretch/>
        </p:blipFill>
        <p:spPr>
          <a:xfrm>
            <a:off x="4025880" y="2143080"/>
            <a:ext cx="51181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ю маму зовут Елена. Я её очень люблю. Она помогает мне в учёбе. Ещё она добрая. У меня есть брат. Мама нас люби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6" descr="P1030922.JPG"/>
          <p:cNvPicPr/>
          <p:nvPr/>
        </p:nvPicPr>
        <p:blipFill>
          <a:blip r:embed="rId1"/>
          <a:stretch/>
        </p:blipFill>
        <p:spPr>
          <a:xfrm>
            <a:off x="2357280" y="2722680"/>
            <a:ext cx="521496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оя  мама работает продавцом. У неё рыжие волосы, карие глаза. Мама относится ко мне нежно,  с добром. Я отношусь к мам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с любовью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Я её люблю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потому что он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у меня на свет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самая лучшая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Я её очень любл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5" descr="P1090738.JPG"/>
          <p:cNvPicPr/>
          <p:nvPr/>
        </p:nvPicPr>
        <p:blipFill>
          <a:blip r:embed="rId1"/>
          <a:stretch/>
        </p:blipFill>
        <p:spPr>
          <a:xfrm>
            <a:off x="4429080" y="1857240"/>
            <a:ext cx="428616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57120" y="214200"/>
            <a:ext cx="83296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я мама увлекается танцами, игрой 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тепиано, шитьём. Мне нравится готов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 мамой салат «Оливье» или рогалики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уховке. Я хотел бы поиграть с мамой 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ежем воздухе, 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на свободное врем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нята домашни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лами. Когда я вырасту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буду жить рядом с мам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думаю, что мо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ма самая лучша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5" descr="P1090826.JPG"/>
          <p:cNvPicPr/>
          <p:nvPr/>
        </p:nvPicPr>
        <p:blipFill>
          <a:blip r:embed="rId1"/>
          <a:stretch/>
        </p:blipFill>
        <p:spPr>
          <a:xfrm>
            <a:off x="5357880" y="2357280"/>
            <a:ext cx="35719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13840" y="214200"/>
            <a:ext cx="8472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ма-это самое первое слово, котор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носят дети.  Мама мне помогает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ёбе. Всегда мы делаем вместе домаш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ния. А по вечерам она учит плести 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исера, делать цветы 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енточек.  А ещё ма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меет вязать. В выход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ма любит печ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ю маму зовут Вал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очень люблю свою мам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на самая лучш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P1090778.JPG"/>
          <p:cNvPicPr/>
          <p:nvPr/>
        </p:nvPicPr>
        <p:blipFill>
          <a:blip r:embed="rId1"/>
          <a:stretch/>
        </p:blipFill>
        <p:spPr>
          <a:xfrm>
            <a:off x="5072040" y="2643120"/>
            <a:ext cx="38577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15:43:22Z</dcterms:created>
  <dc:creator>Пользователь Windows</dc:creator>
  <dc:description/>
  <dc:language>en-US</dc:language>
  <cp:lastModifiedBy>Kataeva-OYu</cp:lastModifiedBy>
  <dcterms:modified xsi:type="dcterms:W3CDTF">2015-01-30T10:17:29Z</dcterms:modified>
  <cp:revision>24</cp:revision>
  <dc:subject/>
  <dc:title>Слайд 1</dc:title>
</cp:coreProperties>
</file>