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934-285B-49D1-BCD3-7CA629CE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24E-76D9-44E9-80D9-A6D914A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DAE-0551-4F44-8248-37BCADDF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BA3-2E2D-410C-A4E4-55068BD1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950-E1A1-4CD2-89FA-81F4597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F7B-3FBD-4AB1-A248-5201475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79D-36FC-4B5E-A691-C6EEF4DA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60C-D7B9-451A-81A8-33CDFAEA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40A-F080-4F1C-AC6F-489EE132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57B-F78B-4983-AD81-A167CA3B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F2A-1E1B-46B8-B15B-B4253E2C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6B3-1247-4ADB-8BE4-2364A762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9B0B-CBF9-454E-BC2B-310188615F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26960" y="1274760"/>
            <a:ext cx="7821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ама работает в школе искусств. Там она учи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етей танцевать. В свободное время ма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грает с нами. Мне нравит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к мама делает котле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Я люблю свою мамочку, пото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то она помогает в трудну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инуту. Мама всег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держивает своё обеща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Я люблю маму обнимать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щекотать. Я хотел бы пожела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аме, чтоб у неё был отдых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врем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т такая у  меня ма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P1090828.JPG"/>
          <p:cNvPicPr/>
          <p:nvPr/>
        </p:nvPicPr>
        <p:blipFill>
          <a:blip r:embed="rId1"/>
          <a:stretch/>
        </p:blipFill>
        <p:spPr>
          <a:xfrm>
            <a:off x="5929200" y="1500120"/>
            <a:ext cx="3214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самая лучшая мама. Она работает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ице медицинской сестрой.  Мама леч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ых. Моя мама красивая, нежная, добр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ливая. Мамочке нравятся  цветы. 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ю маме ухажи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ними. Я очень люб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ю мамочку. Она помог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во всём. Мама вку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товит, а я люблю покуш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вяжет тёплые вещ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мамы нет ни у 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P1090725.JPG"/>
          <p:cNvPicPr/>
          <p:nvPr/>
        </p:nvPicPr>
        <p:blipFill>
          <a:blip r:embed="rId1"/>
          <a:stretch/>
        </p:blipFill>
        <p:spPr>
          <a:xfrm>
            <a:off x="5572080" y="2214720"/>
            <a:ext cx="3429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- это лучший человек. Моя м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ает на птицефабрике. Она сортир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йца. Яйца собирает в решётки, затем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обки, затем их отправляют в магаз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готовит вку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юре и котле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выходные 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дим к бабу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гост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P1030937.JPG"/>
          <p:cNvPicPr/>
          <p:nvPr/>
        </p:nvPicPr>
        <p:blipFill>
          <a:blip r:embed="rId1"/>
          <a:stretch/>
        </p:blipFill>
        <p:spPr>
          <a:xfrm>
            <a:off x="4429080" y="2500200"/>
            <a:ext cx="4500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а всегда поможет в трудную минуту. У мамы м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бот и хлопот, но мама как-то всё успевает и даже 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аёт вида, что устала. Благодаря маме в нашем до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 чисто и уютно. Добра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раведливая, ласковая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ьёзная, смелая и чуткая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щё всё это вмес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временно.  И кажд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 она новая,  разная и вс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и самая моя единственна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люблю свою мамочк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P1090763.JPG"/>
          <p:cNvPicPr/>
          <p:nvPr/>
        </p:nvPicPr>
        <p:blipFill>
          <a:blip r:embed="rId1"/>
          <a:stretch/>
        </p:blipFill>
        <p:spPr>
          <a:xfrm>
            <a:off x="4929120" y="2401920"/>
            <a:ext cx="39686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 меня мам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ботает в магаз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ма самая красива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ёлая и добра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её очень любл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ля меня нет лучш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мочки на свете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P1090791.JPG"/>
          <p:cNvPicPr/>
          <p:nvPr/>
        </p:nvPicPr>
        <p:blipFill>
          <a:blip r:embed="rId1"/>
          <a:stretch/>
        </p:blipFill>
        <p:spPr>
          <a:xfrm>
            <a:off x="5072040" y="785880"/>
            <a:ext cx="3848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ма работает в магазине  одежды и обуви. Она помогает мне решать задачи. Мама любит меня. А ещё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нас скор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буде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леньки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ебёнок-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й братик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P1030893.JPG"/>
          <p:cNvPicPr/>
          <p:nvPr/>
        </p:nvPicPr>
        <p:blipFill>
          <a:blip r:embed="rId1"/>
          <a:stretch/>
        </p:blipFill>
        <p:spPr>
          <a:xfrm>
            <a:off x="4071960" y="2955960"/>
            <a:ext cx="50720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6868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я мама работает в сбербанке. Мама готовит кушать. Она хорошая и добра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Мама красива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 добролюбива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я ма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счастлива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P1030898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861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4" descr=""/>
          <p:cNvPicPr/>
          <p:nvPr/>
        </p:nvPicPr>
        <p:blipFill>
          <a:blip r:embed="rId1"/>
          <a:stretch/>
        </p:blipFill>
        <p:spPr>
          <a:xfrm>
            <a:off x="133200" y="1066680"/>
            <a:ext cx="4700880" cy="4724640"/>
          </a:xfrm>
          <a:prstGeom prst="rect">
            <a:avLst/>
          </a:prstGeom>
          <a:ln w="0">
            <a:noFill/>
          </a:ln>
        </p:spPr>
      </p:pic>
      <p:pic>
        <p:nvPicPr>
          <p:cNvPr id="73" name="Схема 5" descr=""/>
          <p:cNvPicPr/>
          <p:nvPr/>
        </p:nvPicPr>
        <p:blipFill>
          <a:blip r:embed="rId2"/>
          <a:stretch/>
        </p:blipFill>
        <p:spPr>
          <a:xfrm>
            <a:off x="4352760" y="993600"/>
            <a:ext cx="4559400" cy="494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85840" y="285480"/>
            <a:ext cx="8400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работает в детском саду. Мама все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гает  в трудной ситуации. Помог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ом, когда я в ч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 сомневаю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 участвуем в раз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са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здим на экскур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очень люб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ю мам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P1090752.JPG"/>
          <p:cNvPicPr/>
          <p:nvPr/>
        </p:nvPicPr>
        <p:blipFill>
          <a:blip r:embed="rId1"/>
          <a:stretch/>
        </p:blipFill>
        <p:spPr>
          <a:xfrm>
            <a:off x="4714920" y="1785960"/>
            <a:ext cx="44290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3840" y="285480"/>
            <a:ext cx="8472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 очень красивая, трудолюбив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ая , ответственная. Она всегда помож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е. Когда мне нужен совет я обращаюс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е. Когда мне скучно, 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я развесел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ёт песенку на но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меня очень люб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мотря на м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доста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мамочку очень любл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P1090764.JPG"/>
          <p:cNvPicPr/>
          <p:nvPr/>
        </p:nvPicPr>
        <p:blipFill>
          <a:blip r:embed="rId1"/>
          <a:stretch/>
        </p:blipFill>
        <p:spPr>
          <a:xfrm>
            <a:off x="5000760" y="2714760"/>
            <a:ext cx="3929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здравляю с праздником, дорогая мама! Мама моя всех красивее и умнее. Я благодар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ме за всё!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любовь за надежд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и многое другое!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веты и свет теб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рю! Всё для теб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я любимая мама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праздником мам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P1090823.JPG"/>
          <p:cNvPicPr/>
          <p:nvPr/>
        </p:nvPicPr>
        <p:blipFill>
          <a:blip r:embed="rId1"/>
          <a:stretch/>
        </p:blipFill>
        <p:spPr>
          <a:xfrm>
            <a:off x="5500800" y="1785960"/>
            <a:ext cx="346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я мама добрая, хорошая! Я люблю с мамой играть, гулять. Она вкусно готовит. Мама  работает в селекционно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станци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м производя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азные семен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Мама лучш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на све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P1030874.JPG"/>
          <p:cNvPicPr/>
          <p:nvPr/>
        </p:nvPicPr>
        <p:blipFill>
          <a:blip r:embed="rId1"/>
          <a:stretch/>
        </p:blipFill>
        <p:spPr>
          <a:xfrm>
            <a:off x="4025880" y="2143080"/>
            <a:ext cx="5118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ю маму зовут Елена. Я её очень люблю. Она помогает мне в учёбе. Ещё она добрая. У меня есть брат. Мама нас люб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P1030922.JPG"/>
          <p:cNvPicPr/>
          <p:nvPr/>
        </p:nvPicPr>
        <p:blipFill>
          <a:blip r:embed="rId1"/>
          <a:stretch/>
        </p:blipFill>
        <p:spPr>
          <a:xfrm>
            <a:off x="2357280" y="2722680"/>
            <a:ext cx="5214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я  мама работает продавцом. У неё рыжие волосы, карие глаза. Мама относится ко мне нежно,  с добром. Я отношусь к мам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 любовью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Я её люблю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тому что он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у меня на свет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амая лучша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Я её очень любл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P1090738.JPG"/>
          <p:cNvPicPr/>
          <p:nvPr/>
        </p:nvPicPr>
        <p:blipFill>
          <a:blip r:embed="rId1"/>
          <a:stretch/>
        </p:blipFill>
        <p:spPr>
          <a:xfrm>
            <a:off x="4429080" y="1857240"/>
            <a:ext cx="428616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я мама увлекается танцами, игрой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тепиано, шитьём. Мне нравится готов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мамой салат «Оливье» или рогалики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ховке. Я хотел бы поиграть с мамой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жем воздухе, 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свободно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а домашн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лами. Когда я вырасту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буду жить рядом с ма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думаю, что м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самая лучша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P1090826.JPG"/>
          <p:cNvPicPr/>
          <p:nvPr/>
        </p:nvPicPr>
        <p:blipFill>
          <a:blip r:embed="rId1"/>
          <a:stretch/>
        </p:blipFill>
        <p:spPr>
          <a:xfrm>
            <a:off x="5357880" y="2357280"/>
            <a:ext cx="3571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-это самое первое слово, котор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носят дети.  Мама мне помогает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ёбе. Всегда мы делаем вместе домаш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я. А по вечерам она учит плести 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сера, делать цветы 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нточек.  А ещё м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ет вязать. В выход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любит печ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ю маму зовут Ва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очень люблю свою ма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самая лучш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P1090778.JPG"/>
          <p:cNvPicPr/>
          <p:nvPr/>
        </p:nvPicPr>
        <p:blipFill>
          <a:blip r:embed="rId1"/>
          <a:stretch/>
        </p:blipFill>
        <p:spPr>
          <a:xfrm>
            <a:off x="5072040" y="26431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5:43:22Z</dcterms:created>
  <dc:creator>Пользователь Windows</dc:creator>
  <dc:description/>
  <dc:language>en-US</dc:language>
  <cp:lastModifiedBy>Kataeva-OYu</cp:lastModifiedBy>
  <dcterms:modified xsi:type="dcterms:W3CDTF">2015-01-30T10:17:29Z</dcterms:modified>
  <cp:revision>24</cp:revision>
  <dc:subject/>
  <dc:title>Слайд 1</dc:title>
</cp:coreProperties>
</file>