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2372-324A-40FA-A0E4-0EFD65059C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D997-53E8-47A7-B1E5-F829EAD87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2DA-8419-4D79-8F63-B179F00A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D60-F1A7-49B2-A2DF-86EDA5B1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E86-AF90-4D8F-883B-94AE7CD0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E77-E701-40C4-8C2D-A73F8A0F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7CC-30E7-4BA9-886E-509DE52C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05C-20EF-4E14-B2BC-79519E4E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2F5-B852-4153-BB93-645376E9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1C6-98E3-4C16-AF86-6408DF7E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E02-342E-441E-BA25-D6E2F7E6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358-7CBC-4F98-9E6A-6C2D98CD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0E2-D652-40E0-A808-30D5C030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9A6-C85A-4337-AB3E-7F5A1AFF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6CD0-0F5A-4B6A-930D-6A87E545CA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208080" y="85680"/>
            <a:ext cx="865476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Администратор\Рабочий стол\тип уроков.jpg"/>
          <p:cNvPicPr/>
          <p:nvPr/>
        </p:nvPicPr>
        <p:blipFill>
          <a:blip r:embed="rId2"/>
          <a:stretch/>
        </p:blipFill>
        <p:spPr>
          <a:xfrm>
            <a:off x="3000240" y="1214280"/>
            <a:ext cx="3387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71680" y="428760"/>
            <a:ext cx="828648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уктура урока открытия нового зн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.Этап мотивации (самоопределения) 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.Этап актуализация и фиксирование индивидуального затруднения в пробном действ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.Этап выявления места и причины затруд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.Этап построения проекта выхода из затруд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.Этап реализации построенного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.Этап первичного закрепления с проговариванием во внешне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).Этап самостоятельной работы с самопроверкой по этал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).Этап включения в систему знаний и повт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).Этап рефлексии учебной деятельности на ур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357120" y="142920"/>
            <a:ext cx="84297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.Мотива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амоопределение) 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отивации (самоопределения) к учебной деятельно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вляется выработка на личностно значимом уровне внутренней готовности выполнения нормативных требовани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оздать условия для возникновения внутренней потребности включения в деятельность («хочу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ктуализировать требования к ученику со стороны учебной деятельности («надо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ить тематические рамки учебной деятельности («могу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/>
          <p:cNvSpPr/>
          <p:nvPr/>
        </p:nvSpPr>
        <p:spPr>
          <a:xfrm>
            <a:off x="357120" y="0"/>
            <a:ext cx="84297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ктуализац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фиксирование индивидуального затруднения в пробном действ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актуализации и пробного учебного действия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одготовка мышления учащихся и организация осознания ими внутренней потребности к построению учебных действий и организовать фиксирование каждым из них индивидуального затруднения в пробном действ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спроизвели и зафиксировал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ния, умения и навыки, достаточные для построения нового способа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ивизировали соответствующие мыслительные операции (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нализ, синтез, сравнение, обобщение, классификация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огия и т.д.) и познавательные процессы (внимание, память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уализировали норму пробного учебного действи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«надо» - «хочу» - «могу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пытались самостоятельно выполнить индивидуальное задание на применение нового знания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планированного для изучения на данном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фиксировали возникшее затруднен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ыполнении пробного действия или его обосн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/>
          <p:cNvSpPr/>
          <p:nvPr/>
        </p:nvSpPr>
        <p:spPr>
          <a:xfrm>
            <a:off x="357120" y="428760"/>
            <a:ext cx="84297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.Выявление места и причины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а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- организовать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нализ учащимис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никшей ситуации и на этой основе выявить места и причины затруднения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осознание того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 чем именно состоит недостаточность их знаний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ний или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анализировали шаг за шагом с опорой на знаковую запись и проговорили вслух, что и как они дела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фиксировали операцию, шаг, на котором возникло затруднение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место затрудн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оотнесли свои действия на этом шаге с изученными способами и зафиксировали, какого знания или умения недостает для решения исходной задачи и задач такого класса или типа вообще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причина затрудн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5"/>
          <p:cNvSpPr/>
          <p:nvPr/>
        </p:nvSpPr>
        <p:spPr>
          <a:xfrm>
            <a:off x="357120" y="0"/>
            <a:ext cx="84297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е проек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а из затруднения (цель, тема, план, сроки, способ, сред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построения проекта выхода из затруднения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остановка целей учебной деятельности и на этой основе - выбор способа и средств их 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ммуникативной форме сформулировали конкретную цель своих будущих учебных действий, устраняющих причину возникшего затруднения (то есть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формулировали, какие знания им нужно построить и чему научить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едложили и согласовали тему уро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ую учитель может уточн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брали способ построения нового знания (как?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точн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если новый способ действий можно сконструировать из ранее изученных) или метод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полн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если изученных аналогов нет и требуется введение принципиально нового знака или способа действ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брали средства для построения нового знания (с помощью чего?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ные понятия, алгоритмы, модели, формулы, способы запис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5"/>
          <p:cNvSpPr/>
          <p:nvPr/>
        </p:nvSpPr>
        <p:spPr>
          <a:xfrm>
            <a:off x="357120" y="428760"/>
            <a:ext cx="8429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5.Реализация построенног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реализации построенного проекта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строение учащимися нового способа действий и формирование умений его применя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при решении задачи, вызвавшей затруднение, так и при решении задач такого класса или типа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учащиеся долж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 основе выбранного метод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двинуть и обосновать гипоте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построении нового знани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пользовать предметные действия с моделями, схемами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менить новый способ действий для решения задач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ызвавшей затруд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фиксировать в обобщенном виде новый способ действ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ечи и знак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фиксировать преодолен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никшего ране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трудн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/>
          <p:cNvSpPr/>
          <p:nvPr/>
        </p:nvSpPr>
        <p:spPr>
          <a:xfrm>
            <a:off x="357120" y="428760"/>
            <a:ext cx="84297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6.Первичное закреплен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роговариванием во внешней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первичного закрепления с проговариванием во внешней речи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своение учащимися нового способа действия при решении типов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ешили (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ронтально, в группах, в пар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несколько типовых заданий на новый способ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этом проговаривали вслух выполненные шаги и их обоснование - определения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лгоритмы,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/>
          <p:cNvSpPr/>
          <p:nvPr/>
        </p:nvSpPr>
        <p:spPr>
          <a:xfrm>
            <a:off x="357120" y="214200"/>
            <a:ext cx="8429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7.Самостоятельная работа с самопроверкой по этал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тапа самостоятельной работы с самопроверкой по эталону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нтериоризация*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ого способа действия и исполнительская рефлексия (коллективная и индивидуальная) достижения цели пробного учебного действия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менение нового знание в типовых зад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организовать самостоятельно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ение учащими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иповых зада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овый способ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рганизовать самопроверк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мися своих решений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 эталон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зда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о возможности)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итуацию успех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каждого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учащихся, допустивших ошибки, предоставить возможность выявления причин ошибок и их ис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5357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выделяются такие стадии интериориз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взрослый словом действует на ребенка, побуждая что-то сдел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ребенок перенимает способ обращения и начинает воздействовать словом на взросл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ребенок начинает воздействовать словом на самого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4"/>
          <p:cNvSpPr/>
          <p:nvPr/>
        </p:nvSpPr>
        <p:spPr>
          <a:xfrm>
            <a:off x="0" y="5357880"/>
            <a:ext cx="2786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5"/>
          <p:cNvSpPr/>
          <p:nvPr/>
        </p:nvSpPr>
        <p:spPr>
          <a:xfrm>
            <a:off x="357120" y="428760"/>
            <a:ext cx="84297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8.Включение в систему знаний повтор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включения в систему знаний и повторения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вторение и закрепление ранее изученного и подготовка к изучению следующих разделов курса, выявление границы применимости нового знания и научить использовать его в системе изученных ранее знаний, повторить учебное содержание, необходимое для обеспечения содержательной непрерывности, включение нового способа действий в систему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у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явить и зафиксировать границы применимости нового знания и научить использовать его в системе изученных ранее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оведения его до уровня автоматизированного нав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необходимости организовать подготовку к изучению следующих разделов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вторить учебное содержание, необходимое для обеспечения содержательной непреры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5"/>
          <p:cNvSpPr/>
          <p:nvPr/>
        </p:nvSpPr>
        <p:spPr>
          <a:xfrm>
            <a:off x="357120" y="428760"/>
            <a:ext cx="8429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9. Рефлексия УД 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рефлексии учебной деятельности на уроке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амооценка учащимися результатов своей учебной деятельности, осознание метода построения и границ применения нового способа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уется рефлексия и самооценка учениками собственной учебной деятельности на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чащиеся соотносят цель и результаты своей учебной деятельности и фиксируют степень их соответ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мечаются цели дальнейшей деятельности и определяются задания для самоподготовки (домашнее задание с элементами выбора, творч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14200" y="214200"/>
            <a:ext cx="8643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 методическая ц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Ход познания – «от учеников»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составляет и обсуждает план урока вместе с учащимися, использует в ходе урока дидактический материал, позволяющий ученику выбирать наиболее значимые для него вид и форму учебного содерж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Администратор\Рабочий стол\от учеников.jpg"/>
          <p:cNvPicPr/>
          <p:nvPr/>
        </p:nvPicPr>
        <p:blipFill>
          <a:blip r:embed="rId1"/>
          <a:srcRect l="5880" t="5666" r="5880" b="20443"/>
          <a:stretch/>
        </p:blipFill>
        <p:spPr>
          <a:xfrm>
            <a:off x="2928960" y="2357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14200" y="285840"/>
            <a:ext cx="87156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отработки умений и рефлек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.Этап мотив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амоопределения) к 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тивации (самоопределения) к коррекционной 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выработка на личностно значимом уровне внутренней готовности к реализации нормативных требований учебной деятельности, однако в данном случае речь идет о норме 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треб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оздать условия для возникновения внутренней потребности включения в деятельность («хочу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уализировать требования к ученику со стороны коррекционной деятельности («надо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сходя из решенных ранее задач, установить тематические рамки и создать ориентировочную основу коррекционных действий («могу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14200" y="285840"/>
            <a:ext cx="8715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отработки умений и рефлек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лон для самоконтроля — реализация способа действия, соотнесённая с этал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остроении эталона для самоконтроля используется подробный образец рядом с эталоном, который построен и согласован в классе на уроке «открытия нового зна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ащиеся должны научиться пошагово сравнивать свою работу с эталоном при самопровер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ко это умение формируется у них постепенно. Сначала они учатся проверять свою работу по ответам, потом по краткому решению, далее - по подробному решению (образцу), последовательно переходя к проверке своей работы по эталону для самопрове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того чтобы коррекция учащимися своих ошибок была не случайным, а осмысленным событием, важно организовать их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ррекционные действия на основе рефлексивного метода, оформленного в виде алгоритма исправления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нный алгоритм должен строиться самими детьми на отдельном урок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Если уроки рефлексии проводятся системно, то этот алгоритм дети быстро осваивают и уверенно применя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85840" y="357120"/>
            <a:ext cx="85723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.Этап мотивации (самоопределения)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 коррекционн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.Этап актуализации и пробного учебно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.Этап локализации индивидуальных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.Этап построения проекта коррекции выявленных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.Этап реализации построенно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).Этап обобщения затруднений во внешней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.Этап самостоятельной работы с самопроверкой по этал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).Этап включения в систему знаний и повт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).Этап рефлексии учебной деятельности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57120" y="135720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личительной особенностью урока рефлексии от урока «открытия» нового знания явля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иксирование и преодоление, затруднений в собственных учебных действия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не в учебном содерж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грамотного проведения урока рефлексии необходимо уточнить поняти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лона, образца и эталона для самопрове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йдем к описанию основных требований к этапам урока рефлек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28760" y="3571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285840" y="1143000"/>
            <a:ext cx="84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.Этап мотив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амоопределения) к 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тивации (самоопределения) к коррекционной 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выработка на личностно значимом уровне внутренней готовности к реализации нормативных требований учебной деятельности, однако в данном случае речь идет о норме 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треб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оздать условия для возникновения внутренней потребности включения в деятельность («хочу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уализировать требования к ученику со стороны коррекционной деятельности («надо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сходя из решенных ранее задач, установить тематические рамки и создать ориентировочную основу коррекционных действий («могу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428760" y="1500120"/>
            <a:ext cx="828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 Этап актуализации и пробного учебно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является подготовка мышления учащихся и осознание ими потребности к выявлению причин затруднений в соб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этого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повторение и знаковую фиксацию способов действий, запланированных для рефлексивного анализа учащимися, - определений, алгоритмов, свойств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ивизировать соответствующие мыслительные операции и познавательные процессы (внимание, память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мотивирование («хочу» - «надо» - «могу») и выполнение учащимися самостоятельной работы № 1 на применение способов действий, запланированных для рефлексивного анали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самопроверку учащимися своих работ по готовому образцу с фиксацией полученных результатов (без исправления ошиб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28760" y="114300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. Этап локализации индивидуальных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локализации индивидуальных затрудне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осознание места и причины собственных затруднений в выполнении изученных способов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этого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точнили алгоритм исправления ошибок, который будет использоваться на данном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ее учащиеся, которые допустили оши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 основе алгоритма исправления ошибок анализируют свое решение и определяют место ошибок -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есто затруд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являют и фиксируют способы действий (алгоритмы, формулы, правила и т.д.), в которых допущены ошибки, - причину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это время учащиеся, которые не выявили ошибок, также выполняют пошаговую проверку своих решений по алгоритму исправления ошибок для исключения ситуации, когда ответ случайно верный, а решение - нет. Если при проверке они находят ошибку, то дальше присоединяются к первой группе - выявляют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ест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чин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руднения, а если ошибок нет - получают дополнительное задание творческого уровня и далее работают самостоятельно до этапа самопрове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85840" y="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28760" y="1143000"/>
            <a:ext cx="828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п целеполаг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строения проекта коррекции выявленных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целеполагания и построения проекта коррекции выявленных затруднений является постановки целей коррекционной деятельности и на этой основе - выбор способа и средств их 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формулировали индивидуальную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их будущих коррекционных действий (то есть сформулировали, какие понятия и способы действий им нужно уточнить и научиться правильно применя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брал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пособ (как?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ред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 помощью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его?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рекции, то есть установили, какие конкретно изученные понятия, алгоритмы, модели, формулы, способы записи и т.д. им нужно еще раз осмыслить и понять и каким образом они будут это делать (используя эталоны, учебник, анализируя выполнение аналогичных заданий на предыдущих уроках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85840" y="2142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500040" y="92880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 Этап реализации построенно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ализации построенного проек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осмысленная коррекция учащимися своих ошибок в самостоятельной работе и формирование умения правильно применять соответствующие способы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каждый учащийся, у которого были затруднения в самостоятельной работе,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амостоятельно (случай 1) исправить свои ошибки выбранным методом на основе применения выбранных средств, а в случае затруднения (случай 2) - с помощью предложенного эталона для самопровер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первом случае - соотнести свои результаты исправления ошибок с эталоном для самопровер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алее в обоих случаях выбрать из предложенных или придумать самому задания на те способы действий (правила, алгоритмы и т.д.), в которых были допущены ошиб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ешить эти задания (часть из них может войти в домашнюю рабо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, не допустившие ошибок в самостоятельной работе, продолжают решать задания творческого уровня или выступают в качестве консульт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285840" y="2142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28760" y="1285920"/>
            <a:ext cx="8286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п обобщения затруднений во внешней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а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закрепление способов действий, вызвавших затруд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уется обсуждение типовых затруд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оговариваются формулировки способов действий, которые вызвали затруд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ое внимание здесь следует уделить тем учащимся, у которых возникли затруднения, - лучше, чтобы именно они проговорили вслух правильные способы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285840" y="2142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14200" y="357120"/>
            <a:ext cx="86439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тодическая ц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   Преобразующий характер деятельности обучающихс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блюдают, сравнивают, группируют, классифицируют, делают выводы, выясняют закономерности. То есть пробудить к мыслительной деятельности, и их планир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Администратор\Рабочий стол\сравнивают.jpg"/>
          <p:cNvPicPr/>
          <p:nvPr/>
        </p:nvPicPr>
        <p:blipFill>
          <a:blip r:embed="rId1"/>
          <a:stretch/>
        </p:blipFill>
        <p:spPr>
          <a:xfrm>
            <a:off x="2071800" y="2786040"/>
            <a:ext cx="4752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357120" y="1571760"/>
            <a:ext cx="8286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п самостоятельной рабо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самопроверкой по этал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амостоятельной работы с самопроверкой по эталон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интериоризация способов действий, вызвавших затруднения, самопроверка их усвоения индивидуальная рефлексия достижения цели и создание (по возможности) ситуации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учащиеся, допустившие оши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яют самостоятельную работу, аналогичную первой, при этом берут только те задания, в которых были допущены ошиб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оводят самопроверку своих работ по эталону для самопроверки и фиксируют знаково результ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фиксируют преодоление возникшего ранее затруднения. В это время учащиеся, не допустившие ошибки в контрольной работе, выполняют самопроверку дополнительных заданий творческого уровня по предложенному образ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428760" y="1643040"/>
            <a:ext cx="8286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п включения в систему знаний и повт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ключения в систему знаний и повтор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рименение способов действий, вызвавших затруднения, повторение и закрепление ранее изученного и подготовка к изучению следующих разделов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учащиеся при положительном результате предыдущего э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яют задания, в которых рассматриваемые способы действий связываются с ранее изученными и между соб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яют задания на подготовку к изучению следующих 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и отрицательном результате учащиеся повторяют предыдущий этап для другого вари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428760" y="1214280"/>
            <a:ext cx="8286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9.Этап рефлексии деятельности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флексии деятельности на уро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осознание учащимися метода преодоления затруднений и самооценка ими результатов своей коррекционной (а в случае, если ошибок не было, самостоятельной 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точняют алгоритм исправления ошиб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зывают способы действий, вызвавшие затруд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фиксируют степень соответствия поставленной цели и результатов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ценивают собственную деятельность на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мечают цели последующе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соответствии с результатами деятельности на уроке согласовывают домашнее задание (с элементами выбора, творч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285840" y="2142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71680" y="1785960"/>
            <a:ext cx="778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на этих уроках не просто тренируются в решении задач — они осваивают метод коррекции собственных действий, им предоставляется возможность самим найти свои ошибки, понять их причину и исправить, а затем убедиться в правильности своих действий. После этого заметно повышается качество усвоения учащимися учебного содержания при уменьшении затраченно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пыт проведения урока рефлексии требует от учителя  создания и применения раздаточного индивидуального 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285840" y="35712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428760" y="428760"/>
            <a:ext cx="82864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тип. Уроки построения системы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роки общеметодологической направле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ная ц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 учащихся деятельностных способностей и способностей к структурированию и систематизации изучаемого предметного содержания, формирование способности учащихся к новому способу действия, связанному с построением структуры изученных понятий и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держательная ц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роение обобщенных деятельностных норм и выявление теоретических основ развития содержательно-методических линий курсов, выявление теоретических основ построения содержательно-методических ли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428760" y="42876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тип. Уроки построения системы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роки общеметодологической направле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уроко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бщеметодологической направлен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является построение методов, связывающих изученные понятия в единую сис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28760" y="428760"/>
            <a:ext cx="82864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тип. Уроки построения системы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роки общеметодологической направле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щеметодологической направленн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ва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-первых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ть у учащихся представления о методах, связывающих изучаемые понятия в единую сист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-вторых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методах организации самой учебной деятельности, направленной на самоизменение и саморазви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анных уроках организуется понимание и построение учащимися норм и методов учебной деятельности, самоконтроля и самооценки, рефлексивной самоорган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ти уроки являются надпредметными и проводятся вне рамок какого-либо предмета на классных часах, внеклассных мероприятиях или других специально отведенных для этого уроках в соответствии со структурой технологии деятельностного мет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дельные теперь уже предметные уроки должны быть посвящены формированию представлений о методах на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428760" y="428760"/>
            <a:ext cx="82864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к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ющего контро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ют следующую структу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этап мотивации (самоопределения) к контрольно-коррекцио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этап актуализации и пробного учебного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этап локализации индивидуальных затруд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этап построения проекта коррекции выявленных затруд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 этап реализации построенного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) этап обобщения затруднений во внешне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 этап самостоятельной работы с самопроверкой по этало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) этап решения заданий творческого уров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) этап рефлексии контрольно-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28760" y="357120"/>
            <a:ext cx="82864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и развивающего контрол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водятся в завершение изучения крупных разделов курса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едполагают написание контрольной работы и ее рефлексивный анализ. Поэтому по своей структуре, методике подготовки и проведению данные уроки напоминают уроки рефлексии. Вместе с тем уроки этих типов имеют некоторые существенные раз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ках развивающего контроля, в отличие от уроков рефлексии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 проведении контрольной работы акцент делается, прежде всего, на согласование критериев оценивания результатов учебной деятельности, их применение и фиксирование полученного результата сопоставления в форме отм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28760" y="357120"/>
            <a:ext cx="82864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личительной особенностью уроков развивающего контроля является их соответствие установленной структуре «управленческого»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ритериального контр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ые уроки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водят итог изучению значительного по объему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 содержание контрольных работ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 объему в 2-3 раза превышает обычные самостоятельные работы, предлагаемые на уроках рефлек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и развивающего контроля проводятся в два этап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написание учащимися контрольной работы и ее критериальное оцени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рефлексивный анализ выполненной контрольной работы и коррекция допущенных в работе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и этапы проводятся на двух уроках, которые разделены временем, необходимым учителю для проверки результатов работы учащихся на первом уроке (это время не должно превышать 1-2 дн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14200" y="357120"/>
            <a:ext cx="86439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 методическая ц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.Интенсивная самостоятельная деятельнос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ающихся, связанная с эмоциональными переживаниями, которая сопровождается эффектом неожиданности. Задания с включением механизма творчества, помощью к поощрениям со стороны учителя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читель создает проблемные ситуации – коллиз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Администратор\Рабочий стол\проблем.jpg"/>
          <p:cNvPicPr/>
          <p:nvPr/>
        </p:nvPicPr>
        <p:blipFill>
          <a:blip r:embed="rId1"/>
          <a:stretch/>
        </p:blipFill>
        <p:spPr>
          <a:xfrm>
            <a:off x="2357280" y="3000240"/>
            <a:ext cx="44532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428760" y="357120"/>
            <a:ext cx="82864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висимости от того, у кого находится эталонный вариант (критерии), различают следующие формы организации уроков развивающего контроля: самоконтроль, взаимоконтроль и педагогический конт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амоконтро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полагает предъявление эталонного варианта ученику, самостоятельное сопоставление им собственного варианта с эталонным с последующей самооценкой на основе установленных критери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заимоконтрол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жателем эталона является другой ученик. При этом формирование способности к самооценке происходит через проверку справедливости оценки, поставленное другим учеником, и рефлексивный анализ допущенных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дагогическ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троль развивающей направленности предполагает, что держателем эталона является педагог. Формирование способности к самооценке происходит через согласование с учителем результата на основе ранее установленных критериев и рефлексивный анализ допущенных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428760" y="357120"/>
            <a:ext cx="82864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.Этап мотив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амоопределения) к контрольно-коррекцио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тивации (самоопределения) к контролъно-коррекционной 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выработка на личностно значимом уровне внутренней готовности к реализации нормативных требований учебной деятельности, однако в данном случае речь идет о норме контрольно-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треб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пределить основную цель урока и создать условия для возникновения внутренней потребности включения в контрольно-коррекционную деятельность («хочу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уализировать требования к ученику со стороны конрольно-коррекционной деятельности («надо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сходя из решенных ранее задач, установить тематические рамки и создать ориентировочную основу контрольно-коррекционных действий («могу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становить форму и процедуру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едъявить критерий выставления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28760" y="357120"/>
            <a:ext cx="828648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.Этап актуализ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робного учебного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ктуализации и пробного учебного действ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одготовка мышления учащихся и осознание ими потребности в контроле и самоконтроле результата и выявлении причин затруднений в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повторение контролируемых способов действий (нор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ивизировать мыслительные операции (сравнение, обобщение) и познавательные процессы (внимание, память и т.д.), необходимые для выполнения контро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мотивирование учащихся («хочу» - «надо»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огу») к выполнению контрольной работы на применение способов действий, запланированных для контроля и последующего рефлексивного анали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индивидуальное написание учащимися контро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сопоставление учащимися своих работ по готовому образцу с фиксацией результатов (без исправления ошиб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едоставить возможность учащимся провести самооценку своих работ по заранее обоснованному крите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428760" y="357120"/>
            <a:ext cx="82864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ый урок соответствует уроку работы над ошибками контрольной работы в традиционной школе и проводится после проверки ее уч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.Этап локализации индивидуальных затрудн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сновной 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локализации индивидуальных затрудне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выработка на личностно значимом уровне внутренней готовности к коррекционной работе, а также выявление места и причины собственных затруднений в выполнении контро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428760" y="357120"/>
            <a:ext cx="8286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4.Этап построения проек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рекции выявленных затруд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сновной 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строения проекта коррекции выявленных затрудне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остановки целей коррекционной деятельности и на этой основе - выбор способа и средств их 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этого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формулировали индивидуальную цель своих будущих коррекционных действий (то есть сформулировали, какие понятия и способы действий им нужно уточнить и научиться правильно применя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брал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пособ (как?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ред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мощью чего?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рекции, то есть установили, какие конкретно изученные понятия, алгоритмы, модели, формулы, способы записи и т.д. им нужно еще раз осмыслить и понять и каким образом они будут это делать (используя эталоны, учебник, анализируя выполнение аналогичных заданий на предыдущих уроках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28760" y="357120"/>
            <a:ext cx="828648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5.Этап реализ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роенного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сновной 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ализации построенного проек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осмысленная коррекция учащимися своих ошибок в контрольной работе и формирование умения правильно применять соответствующие способы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и на уроке рефлексии, для реализации этой цели каждый учащийся, у которого были затруднения в контрольной работе,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амостоятельно (случай 1) исправить свои ошибки выбранным методом на основе применения выбранных средств, а в случае затруднения (случай 2) - с помощью предложенного эталона для самопровер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первом случае - соотнести свои результаты исправления ошибок с эталоном для самопровер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алее в обоих случаях выбрать из предложенных или придумать самому задания на способы действий (правила, алгоритмы и т.д.), в которых были допущены ошиб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ешить эти задания (часть из них может войти в домашнюю рабо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, не допустившие ошибок в контрольной работе, продолжают решать задания творческого уровня или выступают в качестве консульт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428760" y="35712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6.Этап обобщения затрудне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нешне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общения затруднений во внешней реч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закрепление способов действий, вызвавших затруд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, подобно урокам рефлексии, орган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бсуждение типовых ошиб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оговаривание формулировок способов действий, вызвавших затруд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428760" y="357120"/>
            <a:ext cx="82864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7.Этап самостоятельн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 с самопроверкой по этало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амостоятельной работы с самопроверкой по эталону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и на уроке рефлексии, является интериоризация способов действий, вызвавших затруднения, самопроверка их усвоения, индивидуальная рефлексия достижения цели, а также создание (по возможности) ситуации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необходим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чтобы учащиеся, допустившие ошибки в контрольной рабо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или самостоятельную работу, аналогичную контролируемой работе, выбирая только те задания, в которых допущены ошиб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овели самопроверку своих работ по готовому образцу и зафиксировали знаково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зафиксировали преодоление возникшего ранее затруд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, не допустившие ошибки в контрольной работе, выполняют самопроверку заданий творческого уровня по предложенному образ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428760" y="357120"/>
            <a:ext cx="8286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8.Этап решения зада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ого уров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ключения в систему знаний повтор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рименение способов действий, вызвавших затруднения, повторение и закрепление ранее изученного, подготовка к изучению следующих разделов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этого учащиеся при положительном результате предыдущего э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яют задания, в которых рассматриваемые способы действий связываются с ранее изученными и между соб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яют задания на подготовку к изучению следующие 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трицательном результате учащиеся повторяют предыдущий этап для другого вари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28760" y="357120"/>
            <a:ext cx="82864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п рефлексии контрольно-коррекционн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флексии деятельности на уро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самооценка результатов контрольно-коррекционной деятельности, осознание метода преодоления затруднений в деятельности и механизма контрольно-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оговаривают механизм деятельности по контро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нализируют, где и почему были допущены ошибки, способы их ис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зывают способы действий, вызвавшие затруд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фиксируют степень соответствия поставленной цели контрольно-коррекционной деятельности и ее результа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ценивают полученные результаты соб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необходимости определяются задания для самоподготовки (домашнее задание с элементами выбора, творче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мечают цели последующ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14200" y="357120"/>
            <a:ext cx="86439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 методическая ц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ллективный поиск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авляемый учителем (вопросы пробуждающие самостоятельную мысль учеников, предварительные домашние задания). Учитель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здает атмосферу заинтересованности каждого ученика в работе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Администратор\Рабочий стол\коллектив.jpg"/>
          <p:cNvPicPr/>
          <p:nvPr/>
        </p:nvPicPr>
        <p:blipFill>
          <a:blip r:embed="rId1"/>
          <a:stretch/>
        </p:blipFill>
        <p:spPr>
          <a:xfrm>
            <a:off x="1857240" y="2500200"/>
            <a:ext cx="50500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428760" y="357120"/>
            <a:ext cx="8286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дагогической практике часто проводятся контрольные уроки, не связанные с развитием у учащихся способностей к контролю и самоконтролю, например административный контроль или традиционная контрольная работа. Эти уроки следует отличать от уроков деятельностной направленности, поскольку они реализуют иные, а не деятельностные цели образования и, таким образом, не продвигают учащихся вперед в развитии у них нет необходимых деятельностных кач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428760" y="357120"/>
            <a:ext cx="82864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оретически обоснованный механизм деятельности по контролю предполаг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предъявление контролируемого вариан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наличие понятийно обоснованного эталона, а не субъективной верс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сопоставление проверяемого варианта с эталоном по оговоренному механиз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оценку результата сопоставления в соответствии с заранее обоснованным критер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428760" y="357120"/>
            <a:ext cx="8286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аким образом, уроки развивающего контроля предполагают организацию деятельности ученика в соответствии со следующей структур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написание учащимися варианта контрольной рабо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сопоставление с объективно обоснованным эталоном выполнения этой рабо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оценка учащимися результата сопоставления в соответствии с ранее установленными критер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35712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ю следует обратить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биение учебного процесса на уроки разных типов в соответствии с ведущими целями не должно разрушать его непрерывности, а значит, необходимо обеспечи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нвариантность технологии обучения*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этому при построении технологии организации уроков разных типов должен сохраняться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еятельностный метод обуч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обеспечиваться соответствующая ему система дидактических принципов как основа для построения структуры и условий взаимодействия между учителем и уче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остроения урока в рамках ФГОС  важно понять, какими должны быть критерии результативности урока, вне зависимости от того, какой типологии мы придерживае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5"/>
          <p:cNvSpPr/>
          <p:nvPr/>
        </p:nvSpPr>
        <p:spPr>
          <a:xfrm>
            <a:off x="357120" y="5000760"/>
            <a:ext cx="3500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28760" y="52149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Законы  технологии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28760" y="357120"/>
            <a:ext cx="8286480" cy="58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и результативности урока по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и урока задаются с тенденцией передачи функции от учителя к учени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систематически обучает детей осуществлять рефлексивное действие (оценивать свою готовность, обнаруживать незнание, находить причины затруднений и т.п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ются разнообразные формы, методы и приемы обучения, повышающие степень активности учащихся в учебном процесс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владеет технологией диалога, обучает учащихся ставить и адресовать вопрос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эффективно (адекватно цели урока) сочетает репродуктивную и проблемную формы обучения, учит детей работать по правилу и творчес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уроке задаются задачи и четкие критерии самоконтроля и самооценки (происходит специальное формирование контрольно-оценочной деятельности у обучающихс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добивается осмысления учебного материала всеми учащимися, используя для этого специальные при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стремиться оценивать реальное продвижение каждого ученика, поощряет и поддерживает минимальные успех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специально планирует коммуникативные задачи уро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принимает и поощряет, выражаемую учеником, собственную позицию, иное мнение, обучает корректным формам их выраж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иль, тон отношений, задаваемый на уроке, создают атмосферу сотрудничества, сотворчества, психологического комф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уроке осуществляется глубокое личностное воздействие «учитель – ученик» (через отношения, совместную деятельность и т.д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428760" y="357120"/>
            <a:ext cx="82864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– исследования (урок творч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труктура урока-исследования может быть следующ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ктуализация зн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1. Мотивация. Актуализация ЗУН и мыслительных операций, достаточных для построения нов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2. Фиксирование затруднения в индивидуа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428760" y="357120"/>
            <a:ext cx="82864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– исследования (урок творч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II. Операционно-исполнительски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1. Постановка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создание проблемной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постановка проблемы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2. Определите темы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3. Формулирование цели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4. Выдвижение гипот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5. Выбор метода решения проблемн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6. Составление плана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7. «Открытие» детьми нового знания. Проверка гипотез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85840" y="45720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дение эксперимента, наблюдений, лабораторной работы, чтение литературы, размышление, просмотр фрагментов учебных фильмов и т.д. Использование материальных или материализованных моделей. Создание мотивации на успех для каждого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428760" y="35712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– исследования (урок творч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III. Оценочно-рефлексивны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1. Интерпретация получен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2. Вывод по результатам исследовательск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3. Применение новых знаний в учебной деятельности. Проверка понимания учащимися изученного материала и его первичное закреп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4. Итоги урока. Самооценка детьми соб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428760" y="357120"/>
            <a:ext cx="82864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– исследования (урок творч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V. Домашнее зад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ашнее задание предусматривает элементы выбора, твор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данной структуры видно, что исследовательская работа учащихся занимает на уроке больше времени, чем выполнение заданий по образцу. Однако затраты времени впоследствии компенсируются тем, что учащиеся быстро и правильно выполняют задания, могут самостоятельно изучать новый материал. Кроме того, повышается осознанность и прочность их знаний, появляется устойчивый интерес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642960" y="357120"/>
            <a:ext cx="7858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е к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 говорить лишнего: не повторять задание, не озвучивать информацию, которая есть в учебнике, не повторять без необходимости ответ учени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обиваться от учеников аргументированных отв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е произносить слов «неправильно», «неверно» - пусть ученики сами заметят ошибку, исправят и оценят ответ товарищ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Чётко и точно формулировать зад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пособность к импров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сновная деятельность учителя не на уроке, а в процессе подготовки к нему, в подборе материала и сценировани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е актёр, а режиссё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14200" y="357120"/>
            <a:ext cx="86439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 методическая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Создание педагогических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итуаций общения на урок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воляющих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аждому ученику проявлять инициативу, самостоятельность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бирательность в способах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Администратор\Рабочий стол\личность.jpg"/>
          <p:cNvPicPr/>
          <p:nvPr/>
        </p:nvPicPr>
        <p:blipFill>
          <a:blip r:embed="rId1"/>
          <a:stretch/>
        </p:blipFill>
        <p:spPr>
          <a:xfrm>
            <a:off x="2000160" y="2714760"/>
            <a:ext cx="46562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14200" y="357120"/>
            <a:ext cx="86439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 методическая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Гибкая структур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использует разнообразные формы и методы организации учебной деятельности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зволяющие раскрыть субъективный опыт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Администратор\Рабочий стол\субъект.jpg"/>
          <p:cNvPicPr/>
          <p:nvPr/>
        </p:nvPicPr>
        <p:blipFill>
          <a:blip r:embed="rId1"/>
          <a:srcRect l="3630" t="4196" r="3752" b="3442"/>
          <a:stretch/>
        </p:blipFill>
        <p:spPr>
          <a:xfrm>
            <a:off x="2428920" y="2857680"/>
            <a:ext cx="3643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642960" y="357120"/>
            <a:ext cx="8001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роки деятельностной направ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 целеполаг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.Уроки «открытия» нового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.Уроки отработки умений 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флек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.Уроки общеметодологической направл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.Уроки развивающего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Администратор\Рабочий стол\петер.jpg"/>
          <p:cNvPicPr/>
          <p:nvPr/>
        </p:nvPicPr>
        <p:blipFill>
          <a:blip r:embed="rId1"/>
          <a:stretch/>
        </p:blipFill>
        <p:spPr>
          <a:xfrm>
            <a:off x="3714840" y="3786120"/>
            <a:ext cx="19047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71680" y="500040"/>
            <a:ext cx="8072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ная цель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 учащих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мений реализации новых способов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держательная цель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ширение понятийной базы за счет включения в нее нов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конструирования урока открытия нового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Выделить и сформулировать нов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Смоделировать способ открытия нов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Вычленить мыслительные операции, используемые при открытии нов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Определить необходимые ЗУН и способы его повт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Подобрать упражнения для этапа актуализации, опираясь на перечень необходимых мыслительных операций и ЗУ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Смоделировать затруднение и способ его фикс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Смоделировать проблемную ситуацию и диа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Составить самостоятельную работу и объективно обоснованный этал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Определить приемы организации и проведения первичного закреп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Подобрать задания для этапа повторения по уров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Провести анализ урока по консп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Внести при необходимости коррективы в план консп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4:22:25Z</dcterms:created>
  <dc:creator>XTreme</dc:creator>
  <dc:description/>
  <dc:language>en-US</dc:language>
  <cp:lastModifiedBy>Кристина</cp:lastModifiedBy>
  <dcterms:modified xsi:type="dcterms:W3CDTF">2012-10-15T19:00:46Z</dcterms:modified>
  <cp:revision>57</cp:revision>
  <dc:subject/>
  <dc:title>Слайд 1</dc:title>
</cp:coreProperties>
</file>