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19.jpeg" ContentType="image/jpeg"/>
  <Override PartName="/ppt/media/image18.jpeg" ContentType="image/jpeg"/>
  <Override PartName="/ppt/media/image7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55600" y="933480"/>
            <a:ext cx="4353120" cy="33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1031400" y="4624200"/>
            <a:ext cx="460692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4CD0935-7DB5-42D0-A9C8-2FB37B5D63D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2000" spc="-1" strike="noStrike">
              <a:solidFill>
                <a:srgbClr val="000000"/>
              </a:solidFill>
              <a:latin typeface="Times New Roman"/>
              <a:ea typeface="Lucida Sans Unicode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D9A5243-3DDC-47DB-B5AD-CF53B080262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2000" spc="-1" strike="noStrike">
              <a:solidFill>
                <a:srgbClr val="000000"/>
              </a:solidFill>
              <a:latin typeface="Times New Roman"/>
              <a:ea typeface="Lucida Sans Unicode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C5E1B52-999E-4E3E-B67D-F244505073B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2000" spc="-1" strike="noStrike">
              <a:solidFill>
                <a:srgbClr val="000000"/>
              </a:solidFill>
              <a:latin typeface="Times New Roman"/>
              <a:ea typeface="Lucida Sans Unicode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E590C86-7F97-47A2-8E0F-56938D54D4F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2000" spc="-1" strike="noStrike">
              <a:solidFill>
                <a:srgbClr val="000000"/>
              </a:solidFill>
              <a:latin typeface="Times New Roman"/>
              <a:ea typeface="Lucida Sans Unicode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4BEF8AF-E7BF-42F7-BE6A-A5D0E1B4E0F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2000" spc="-1" strike="noStrike">
              <a:solidFill>
                <a:srgbClr val="000000"/>
              </a:solidFill>
              <a:latin typeface="Times New Roman"/>
              <a:ea typeface="Lucida Sans Unicode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FB9997-843A-4C7F-9CD6-45817D690C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80732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71040" y="4161960"/>
            <a:ext cx="780732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F2992C-38C0-44E1-9B31-1089FBF586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71040" y="416196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1720" y="416196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B562A9-EE81-450E-9F5C-7563F09D33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0920" y="190620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50800" y="190620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71040" y="416196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0920" y="416196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50800" y="416196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2FC800-DEF5-4B12-B48F-39A7183A368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CA379B-E021-48FF-B66B-B04431CA801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671040" y="1906200"/>
            <a:ext cx="780732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140D4C-F7C0-4BB7-A295-72A706894E1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80732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1B9752-A2B5-4328-BF4D-A8D99E6C07C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C44AB5-1102-4387-BBF2-F17FA7EB2A8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DF34C8-EFBA-442C-A989-33C586D6C13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671040" y="569520"/>
            <a:ext cx="780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A714FE-9F6B-4AFD-86A7-0B43610BA37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1040" y="416196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3FBE2C-8AC5-421C-8D4F-C119AA94490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71040" y="1906200"/>
            <a:ext cx="780732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30197E-741A-44C6-BD62-572EAA5847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720" y="416196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972BD6-880A-4A60-885E-D76D9642583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71040" y="4161960"/>
            <a:ext cx="780732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3A6AC1-9C95-480B-9FB9-C1DCDAFF2DC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80732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71040" y="4161960"/>
            <a:ext cx="780732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68722D-1820-4283-9A1C-1121886FD66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71040" y="416196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720" y="416196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95A5A6-4428-47AB-BEC5-219BF2DE53C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310920" y="190620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950800" y="190620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671040" y="416196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310920" y="416196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5950800" y="416196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C7E7FC-6DD9-4274-805B-D759F4AE69B9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671040" y="1906200"/>
            <a:ext cx="780732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80732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80732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F5DC47-E27C-433C-A330-531DDF1BA7C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671040" y="569520"/>
            <a:ext cx="780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71040" y="416196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1720" y="416196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71040" y="4161960"/>
            <a:ext cx="780732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80732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671040" y="4161960"/>
            <a:ext cx="780732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71040" y="416196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1720" y="416196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310920" y="190620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5950800" y="190620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671040" y="416196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310920" y="416196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5950800" y="416196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72F803-3713-49FE-ADAC-2CBA0395BC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B9D4A3-CD55-4DFD-A008-CF2336DCA7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671040" y="569520"/>
            <a:ext cx="780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8BE08C-962C-4B65-9BAE-AAF8661B71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71040" y="416196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7474AB-5DD2-431B-B91F-19110C6DB9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1720" y="416196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E80904-0FE3-4D51-8022-3DD98C92AF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71040" y="4161960"/>
            <a:ext cx="780732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3566AA-63BD-4DA7-922A-1262258CE2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sldNum" idx="1"/>
          </p:nvPr>
        </p:nvSpPr>
        <p:spPr>
          <a:xfrm>
            <a:off x="6552720" y="6248160"/>
            <a:ext cx="2132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F70B8B9-CC12-4F3F-86C5-BF3AB2C0F36D}" type="slidenum">
              <a:rPr b="0" lang="ru-RU" sz="1200" spc="-1" strike="noStrike">
                <a:solidFill>
                  <a:srgbClr val="000000"/>
                </a:solidFill>
                <a:latin typeface="Arial Black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2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8160" cy="38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8160" cy="38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2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8C0E1A9D-053B-485B-8B1F-2AFA8C68FD7E}" type="slidenum">
              <a:rPr b="0" lang="ru-RU" sz="1200" spc="-1" strike="noStrike">
                <a:solidFill>
                  <a:srgbClr val="000000"/>
                </a:solidFill>
                <a:latin typeface="Arial Black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da647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71040" y="1906200"/>
            <a:ext cx="780732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 fontScale="99000"/>
          </a:bodyPr>
          <a:p>
            <a:pPr marL="339480" indent="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98a8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  <a:p>
            <a:pPr lvl="1" marL="339480" indent="-3394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98a8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  <a:p>
            <a:pPr lvl="2" marL="339480" indent="-3394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98a8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  <a:p>
            <a:pPr lvl="3" marL="339480" indent="-3394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98a8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  <a:p>
            <a:pPr lvl="4" marL="339480" indent="-3394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98a8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  <a:p>
            <a:pPr lvl="5" marL="339480" indent="-3394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98a8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  <a:p>
            <a:pPr lvl="6" marL="339480" indent="-3394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98a8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6769080" y="4381560"/>
            <a:ext cx="2373480" cy="2311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" Target="slide10.xml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da647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611280" y="5418000"/>
            <a:ext cx="853272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0" y="285840"/>
            <a:ext cx="5256360" cy="17524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endParaRPr b="1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4929120" y="1143000"/>
            <a:ext cx="4013280" cy="44956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287280" y="714240"/>
            <a:ext cx="7262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5e"/>
                </a:solidFill>
                <a:latin typeface="Arial"/>
              </a:rPr>
              <a:t>ТОКСИКОЛОГИЯ ФОСФО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da647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684360" y="527040"/>
            <a:ext cx="82296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990033"/>
                </a:solidFill>
                <a:latin typeface="Bookman Old Style"/>
                <a:ea typeface="Lucida Sans Unicode"/>
              </a:rPr>
              <a:t>ПРИМЕНЕНИЕ ФОСФОР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995640" y="2852640"/>
            <a:ext cx="1152720" cy="93672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Р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24000" y="1341360"/>
            <a:ext cx="2952720" cy="5050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удобр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24000" y="2276640"/>
            <a:ext cx="2952720" cy="5047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ядохимика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24000" y="3213000"/>
            <a:ext cx="2952720" cy="8636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оизводств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пиче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24000" y="4365720"/>
            <a:ext cx="2952720" cy="9349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оздан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дымовых </a:t>
            </a:r>
            <a:r>
              <a:rPr b="0" lang="ru-RU" sz="2800" spc="-1" strike="noStrike" u="sng">
                <a:solidFill>
                  <a:srgbClr val="ccccff"/>
                </a:solidFill>
                <a:uFillTx/>
                <a:latin typeface="Times New Roman"/>
              </a:rPr>
              <a:t>заве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059280" y="5950080"/>
            <a:ext cx="2952720" cy="5047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лупроводн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867280" y="4365720"/>
            <a:ext cx="2952720" cy="9349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оизводст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рас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867280" y="3213000"/>
            <a:ext cx="2952720" cy="8636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Защита о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орроз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867280" y="2276640"/>
            <a:ext cx="2952720" cy="5047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умягчение во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867280" y="1413000"/>
            <a:ext cx="2952720" cy="5047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оющие сред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4788000" y="1698120"/>
            <a:ext cx="1008000" cy="11559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 flipV="1">
            <a:off x="3346200" y="1626840"/>
            <a:ext cx="1011240" cy="12272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H="1" flipV="1">
            <a:off x="3274560" y="2490840"/>
            <a:ext cx="722520" cy="6523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5076720" y="2419200"/>
            <a:ext cx="790560" cy="650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3346560" y="3500280"/>
            <a:ext cx="722160" cy="730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8360" y="3429000"/>
            <a:ext cx="718920" cy="71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932360" y="3716280"/>
            <a:ext cx="792000" cy="1008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flipH="1">
            <a:off x="3346560" y="3716280"/>
            <a:ext cx="939600" cy="1008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572000" y="3789360"/>
            <a:ext cx="1440" cy="2087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da647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 rot="10800000">
            <a:off x="3204720" y="1774080"/>
            <a:ext cx="2808360" cy="1800360"/>
          </a:xfrm>
          <a:prstGeom prst="pie">
            <a:avLst/>
          </a:prstGeom>
          <a:solidFill>
            <a:srgbClr val="9999ff"/>
          </a:solidFill>
          <a:ln w="93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61452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АЛЛОТРОПНЫЕ МОДИФИКАЦИИ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924360" y="1844640"/>
            <a:ext cx="1224000" cy="107964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7d"/>
            </a:solidFill>
            <a:miter/>
          </a:ln>
          <a:effectLst>
            <a:outerShdw dist="107932" dir="18900000" blurRad="0" rotWithShape="0">
              <a:srgbClr val="00007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9999ff"/>
                </a:solidFill>
                <a:latin typeface="Verdana"/>
              </a:rPr>
              <a:t>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55640" y="1844640"/>
            <a:ext cx="2160720" cy="79056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7d"/>
            </a:solidFill>
            <a:miter/>
          </a:ln>
          <a:effectLst>
            <a:outerShdw dist="107932" dir="18900000" blurRad="0" rotWithShape="0">
              <a:srgbClr val="00007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 u="sng">
                <a:solidFill>
                  <a:srgbClr val="ccccff"/>
                </a:solidFill>
                <a:uFillTx/>
                <a:latin typeface="Bookman Old Style"/>
              </a:rPr>
              <a:t>БЕЛ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300720" y="1844640"/>
            <a:ext cx="2160720" cy="79056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7d"/>
            </a:solidFill>
            <a:miter/>
          </a:ln>
          <a:effectLst>
            <a:outerShdw dist="107932" dir="18900000" blurRad="0" rotWithShape="0">
              <a:srgbClr val="00007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 u="sng">
                <a:solidFill>
                  <a:srgbClr val="ccccff"/>
                </a:solidFill>
                <a:uFillTx/>
                <a:latin typeface="Bookman Old Style"/>
              </a:rPr>
              <a:t>КРАС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564000" y="3716280"/>
            <a:ext cx="2160360" cy="79056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7d"/>
            </a:solidFill>
            <a:miter/>
          </a:ln>
          <a:effectLst>
            <a:outerShdw dist="107932" dir="18900000" blurRad="0" rotWithShape="0">
              <a:srgbClr val="00007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 u="sng">
                <a:solidFill>
                  <a:srgbClr val="ccccff"/>
                </a:solidFill>
                <a:uFillTx/>
                <a:latin typeface="Bookman Old Style"/>
              </a:rPr>
              <a:t>ЧЕР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6372360" y="4653000"/>
            <a:ext cx="2268360" cy="194472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755640" y="2781360"/>
            <a:ext cx="2298600" cy="163332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3"/>
          <a:stretch/>
        </p:blipFill>
        <p:spPr>
          <a:xfrm>
            <a:off x="6372360" y="2781360"/>
            <a:ext cx="2292120" cy="162720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4"/>
          <a:stretch/>
        </p:blipFill>
        <p:spPr>
          <a:xfrm>
            <a:off x="3203640" y="4797360"/>
            <a:ext cx="2798640" cy="16639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5"/>
          <a:stretch/>
        </p:blipFill>
        <p:spPr>
          <a:xfrm>
            <a:off x="826920" y="4581360"/>
            <a:ext cx="2144880" cy="2090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da647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Физиологическое действие 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белого фосфо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79280" y="1871640"/>
            <a:ext cx="3063960" cy="316872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6191280" y="2060640"/>
            <a:ext cx="2952720" cy="295272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6335640" y="5082840"/>
            <a:ext cx="2808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езультат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именени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чрезмерного количества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фосфор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5088240"/>
            <a:ext cx="3276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явление лягушек с уродствами -результат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именени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фосфорных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удобрений, которые смываются в реки и пруд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3"/>
          <a:stretch/>
        </p:blipFill>
        <p:spPr>
          <a:xfrm>
            <a:off x="3419640" y="1906560"/>
            <a:ext cx="2808000" cy="367344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3492360" y="5734080"/>
            <a:ext cx="2428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Фосфорный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екроз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– поражение челюст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" dur="1000" fill="hold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500" fill="hold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dur="indefinite" fill="hold">
                      <p:stCondLst>
                        <p:cond delay="indefinite"/>
                      </p:stCondLst>
                      <p:childTnLst>
                        <p:par>
                          <p:cTn id="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" dur="2000" fill="hold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" dur="500" fill="hold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da647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457200" y="457200"/>
            <a:ext cx="3900600" cy="56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 u="sng">
                <a:solidFill>
                  <a:srgbClr val="5c8526"/>
                </a:solidFill>
                <a:uFillTx/>
                <a:latin typeface="Tahoma"/>
                <a:ea typeface="Lucida Sans Unicode"/>
              </a:rPr>
              <a:t>Белый фосфор</a:t>
            </a:r>
            <a:r>
              <a:rPr b="0" lang="ru-RU" sz="2800" spc="-1" strike="noStrike">
                <a:solidFill>
                  <a:srgbClr val="5c8526"/>
                </a:solidFill>
                <a:latin typeface="Tahoma"/>
                <a:ea typeface="Lucida Sans Unicode"/>
              </a:rPr>
              <a:t>  </a:t>
            </a:r>
            <a:br>
              <a:rPr sz="2800"/>
            </a:br>
            <a:br>
              <a:rPr sz="2800"/>
            </a:br>
            <a:r>
              <a:rPr b="1" lang="ru-RU" sz="2600" spc="-1" strike="noStrike">
                <a:solidFill>
                  <a:srgbClr val="5c8526"/>
                </a:solidFill>
                <a:latin typeface="Tahoma"/>
                <a:ea typeface="Lucida Sans Unicode"/>
              </a:rPr>
              <a:t>очень ядовит, растворим в липидах. Смертельная доза белого фосфора — 50-150 мг. Попадая на кожу, белый фосфор дает тяжелые ожог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4308480" y="785880"/>
            <a:ext cx="4535640" cy="5143320"/>
            <a:chOff x="4308480" y="785880"/>
            <a:chExt cx="4535640" cy="5143320"/>
          </a:xfrm>
        </p:grpSpPr>
        <p:pic>
          <p:nvPicPr>
            <p:cNvPr id="172" name="" descr=""/>
            <p:cNvPicPr/>
            <p:nvPr/>
          </p:nvPicPr>
          <p:blipFill>
            <a:blip r:embed="rId1"/>
            <a:srcRect l="0" t="0" r="0" b="14950"/>
            <a:stretch/>
          </p:blipFill>
          <p:spPr>
            <a:xfrm>
              <a:off x="4308480" y="785880"/>
              <a:ext cx="4535640" cy="514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" name=""/>
            <p:cNvSpPr/>
            <p:nvPr/>
          </p:nvSpPr>
          <p:spPr>
            <a:xfrm>
              <a:off x="4308480" y="785880"/>
              <a:ext cx="4535640" cy="514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da647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642960" y="-488880"/>
            <a:ext cx="8229600" cy="606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5c8526"/>
                </a:solidFill>
                <a:latin typeface="Tahoma"/>
                <a:ea typeface="Lucida Sans Unicode"/>
              </a:rPr>
              <a:t>Впервые в военном деле начал применяться в Первую мировую войну и используется до сих пор.Из последних применений: Израиль в Газе, США в Ираке,в Афгане, после бомбардировки силами НАТО населенного пункта боеприпасами с белым фосфор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28760" y="571680"/>
            <a:ext cx="8229600" cy="25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431640" indent="-323640">
              <a:lnSpc>
                <a:spcPct val="100000"/>
              </a:lnSpc>
              <a:spcBef>
                <a:spcPts val="799"/>
              </a:spcBef>
              <a:buClr>
                <a:srgbClr val="7da647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198a8a"/>
                </a:solidFill>
                <a:latin typeface="Times New Roman"/>
                <a:ea typeface="Lucida Sans Unicode"/>
              </a:rPr>
              <a:t>Фосфор сжигает тело, он растворяет плоть до кости. Фосфор взрывается и образует облако в радиусе 150 метр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da647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3887640" y="360360"/>
            <a:ext cx="2592360" cy="28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йска СШ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ли фосфор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мб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Ираке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04 г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250920" y="3943440"/>
            <a:ext cx="4190760" cy="2914560"/>
            <a:chOff x="250920" y="3943440"/>
            <a:chExt cx="4190760" cy="2914560"/>
          </a:xfrm>
        </p:grpSpPr>
        <p:pic>
          <p:nvPicPr>
            <p:cNvPr id="178" name="" descr=""/>
            <p:cNvPicPr/>
            <p:nvPr/>
          </p:nvPicPr>
          <p:blipFill>
            <a:blip r:embed="rId1"/>
            <a:stretch/>
          </p:blipFill>
          <p:spPr>
            <a:xfrm>
              <a:off x="250920" y="3943440"/>
              <a:ext cx="4190760" cy="291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"/>
            <p:cNvSpPr/>
            <p:nvPr/>
          </p:nvSpPr>
          <p:spPr>
            <a:xfrm>
              <a:off x="250920" y="3943440"/>
              <a:ext cx="4190760" cy="291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7020000" y="1619280"/>
            <a:ext cx="2044800" cy="197964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3"/>
          <a:stretch/>
        </p:blipFill>
        <p:spPr>
          <a:xfrm>
            <a:off x="324000" y="422280"/>
            <a:ext cx="3095640" cy="245736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4"/>
          <a:stretch/>
        </p:blipFill>
        <p:spPr>
          <a:xfrm>
            <a:off x="4716360" y="3933720"/>
            <a:ext cx="4248360" cy="2846520"/>
          </a:xfrm>
          <a:prstGeom prst="rect">
            <a:avLst/>
          </a:prstGeom>
          <a:ln w="0">
            <a:noFill/>
          </a:ln>
        </p:spPr>
      </p:pic>
      <p:sp>
        <p:nvSpPr>
          <p:cNvPr id="183" name="">
            <a:hlinkClick r:id="rId5" action="ppaction://hlinksldjump"/>
          </p:cNvPr>
          <p:cNvSpPr/>
          <p:nvPr/>
        </p:nvSpPr>
        <p:spPr>
          <a:xfrm>
            <a:off x="8783640" y="6597720"/>
            <a:ext cx="360360" cy="260280"/>
          </a:xfrm>
          <a:prstGeom prst="rightArrow">
            <a:avLst>
              <a:gd name="adj1" fmla="val 50000"/>
              <a:gd name="adj2" fmla="val 34613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da647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428760" y="357120"/>
            <a:ext cx="8429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5c8526"/>
                </a:solidFill>
                <a:latin typeface="Tahoma"/>
                <a:ea typeface="Lucida Sans Unicode"/>
              </a:rPr>
              <a:t>Следствия фосфорного оружия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57200" y="1981080"/>
            <a:ext cx="8229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5143680" y="2571840"/>
            <a:ext cx="3809880" cy="38098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285840" y="2571840"/>
            <a:ext cx="4762440" cy="380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da647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5c8526"/>
                </a:solidFill>
                <a:latin typeface="Tahoma"/>
                <a:ea typeface="Lucida Sans Unicode"/>
              </a:rPr>
              <a:t>Вьетнамская сколопенд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575160" y="272880"/>
            <a:ext cx="5111640" cy="58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57200" y="1434960"/>
            <a:ext cx="3008160" cy="469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Для людей вьетнамская сколопендра небезопасна.  Хотя без причины она не кусает, но пробежавшись по коже, эта многоножка выделяет слизь с запахом фосфора, которая вызывает сильные ожоги и воспаление кожи.  У взрослого человека место укуса опухает и болит. Для маленьких детей или у людей с ослабленным организмом ее укус может оказаться смертельны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3714840" y="1357200"/>
            <a:ext cx="4762440" cy="3695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da647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590400" y="576360"/>
            <a:ext cx="8229600" cy="33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3600" spc="-1" strike="noStrike" u="sng">
                <a:solidFill>
                  <a:srgbClr val="c00000"/>
                </a:solidFill>
                <a:uFillTx/>
                <a:latin typeface="Tahoma"/>
                <a:ea typeface="Lucida Sans Unicode"/>
              </a:rPr>
              <a:t>Красный фосфор</a:t>
            </a:r>
            <a:r>
              <a:rPr b="0" lang="ru-RU" sz="3600" spc="-1" strike="noStrike">
                <a:solidFill>
                  <a:srgbClr val="5c8526"/>
                </a:solidFill>
                <a:latin typeface="Tahoma"/>
                <a:ea typeface="Lucida Sans Unicode"/>
              </a:rPr>
              <a:t> практически нетоксичен (токсичность ему придают примеси белого фосфора). Пыль красного фосфора, попадая в легкие, вызывает пневмонию при хроническом действ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ser</dc:creator>
  <dc:description/>
  <dc:language>en-US</dc:language>
  <cp:lastModifiedBy>User</cp:lastModifiedBy>
  <dcterms:modified xsi:type="dcterms:W3CDTF">2015-01-28T16:49:57Z</dcterms:modified>
  <cp:revision>28</cp:revision>
  <dc:subject/>
  <dc:title>PowerPoint Presentation</dc:title>
</cp:coreProperties>
</file>