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5600" y="933480"/>
            <a:ext cx="435312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69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94C21C-A546-458E-95C4-5F9FE08AD5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C9D7FC-7A8E-4BE3-8A67-F94C924B37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D654BE-26F4-498E-A570-E8BA26CAF8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38BF89-8A9A-4229-A16C-8403874043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99FA6C-75A1-4AB2-8CA9-7FEB07B5AA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3C10-7E8D-420E-B01E-AE1709FAF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2B4B-DF8B-4424-AF7F-8F7E73133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95CA-13FB-4190-A638-3BE543B3E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7A95-4D66-46F4-BD03-CEF4B7B3F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7F73-0303-4E95-9085-3CEFC625F0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FED7-25AF-4626-9C5C-C4244A1D97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9B5C-AD7E-4A51-B9A9-506586B47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6BBE-3345-4417-A85E-F8333A80C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10ED-A9AF-4AC5-8173-68B7825255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7F50-53CF-4A76-9DB5-342E3EB2D4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99A7-A5D7-4935-9FC9-4BD2CAE0B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2144-BFA5-4BBA-B0B1-4519B5A2B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4038-A07C-43D8-AC51-25855BAFB1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7CCC-9DA9-4858-90A0-7B6648BFE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0EDE-83F1-491C-B96A-9F5122061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84B8-7231-40B1-BAC7-73B512D63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FD56-56F7-4B86-A4AC-DEBF89DDEA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EF8E-FF32-442A-9CB6-97D58FFF51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89EE-934D-4473-8785-3371562C0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6A05-DEE0-44DA-B1C7-199604279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33DB-6F74-4CDC-8622-A67137DDB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3A68-FBE7-41FA-AA87-8F0E0AB1D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C8F6-1184-4D54-9C99-F98D7FC5C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B942-1012-4BEE-838F-350B64557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0BDFE6-1849-4337-99E5-784E02BC7222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11BE14-E9B1-4BD7-B77B-8F355A239022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" Target="slide10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5418000"/>
            <a:ext cx="85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85840"/>
            <a:ext cx="525636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929120" y="1143000"/>
            <a:ext cx="401328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7280" y="714240"/>
            <a:ext cx="72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5e"/>
                </a:solidFill>
                <a:latin typeface="Arial"/>
              </a:rPr>
              <a:t>ТОКСИКОЛОГИЯ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52704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  <a:ea typeface="Lucida Sans Unicode"/>
              </a:rPr>
              <a:t>ПРИМЕНЕНИЕ ФОС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2640"/>
            <a:ext cx="1152720" cy="936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341360"/>
            <a:ext cx="295272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б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дохими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ымовых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</a:rPr>
              <a:t>зав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95008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прово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щита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ро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ягч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141300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788000" y="1698120"/>
            <a:ext cx="1008000" cy="115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346200" y="1626840"/>
            <a:ext cx="1011240" cy="122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3274560" y="2490840"/>
            <a:ext cx="722520" cy="65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076720" y="2419200"/>
            <a:ext cx="790560" cy="65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346560" y="3500280"/>
            <a:ext cx="7221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8360" y="3429000"/>
            <a:ext cx="71892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2360" y="371628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346560" y="3716280"/>
            <a:ext cx="9396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789360"/>
            <a:ext cx="1440" cy="20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0800000">
            <a:off x="3204720" y="1774080"/>
            <a:ext cx="2808360" cy="1800360"/>
          </a:xfrm>
          <a:prstGeom prst="pie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14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АЛЛОТРОПНЫЕ МОДИФИК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1844640"/>
            <a:ext cx="1224000" cy="10796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Bookman Old Style"/>
              </a:rPr>
              <a:t>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Bookman Old Style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716280"/>
            <a:ext cx="216036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Bookman Old Style"/>
              </a:rPr>
              <a:t>Ч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4653000"/>
            <a:ext cx="226836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298600" cy="1633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2292120" cy="162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203640" y="4797360"/>
            <a:ext cx="2798640" cy="1663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2144880" cy="20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Физиологическое действи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белого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71640"/>
            <a:ext cx="30639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91280" y="2060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35640" y="508284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мерного количе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8824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лягушек с уродствами -результа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добрений, которые смываются в реки и пру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419640" y="1906560"/>
            <a:ext cx="2808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92360" y="573408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р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р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ражение челю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457200"/>
            <a:ext cx="39006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5c8526"/>
                </a:solidFill>
                <a:uFillTx/>
                <a:latin typeface="Tahoma"/>
                <a:ea typeface="Lucida Sans Unicode"/>
              </a:rPr>
              <a:t>Белый фосфор</a:t>
            </a:r>
            <a:r>
              <a:rPr b="0" lang="ru-RU" sz="2800" spc="-1" strike="noStrike">
                <a:solidFill>
                  <a:srgbClr val="5c8526"/>
                </a:solidFill>
                <a:latin typeface="Tahoma"/>
                <a:ea typeface="Lucida Sans Unicode"/>
              </a:rPr>
              <a:t>  </a:t>
            </a: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5c8526"/>
                </a:solidFill>
                <a:latin typeface="Tahoma"/>
                <a:ea typeface="Lucida Sans Unicode"/>
              </a:rPr>
              <a:t>очень ядовит, растворим в липидах. Смертельная доза белого фосфора — 50-150 мг. Попадая на кожу, белый фосфор дает тяжелые ожо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308480" y="785880"/>
            <a:ext cx="4535640" cy="5143320"/>
            <a:chOff x="4308480" y="785880"/>
            <a:chExt cx="4535640" cy="51433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rcRect l="0" t="0" r="0" b="14950"/>
            <a:stretch/>
          </p:blipFill>
          <p:spPr>
            <a:xfrm>
              <a:off x="4308480" y="785880"/>
              <a:ext cx="453564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308480" y="785880"/>
              <a:ext cx="4535640" cy="51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2960" y="-488880"/>
            <a:ext cx="822960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8526"/>
                </a:solidFill>
                <a:latin typeface="Tahoma"/>
                <a:ea typeface="Lucida Sans Unicode"/>
              </a:rPr>
              <a:t>Впервые в военном деле начал применяться в Первую мировую войну и используется до сих пор.Из последних применений: Израиль в Газе, США в Ираке,в Афгане, после бомбардировки силами НАТО населенного пункта боеприпасами с белым фосф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760" y="571680"/>
            <a:ext cx="82296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198a8a"/>
                </a:solidFill>
                <a:latin typeface="Times New Roman"/>
                <a:ea typeface="Lucida Sans Unicode"/>
              </a:rPr>
              <a:t>Фосфор сжигает тело, он растворяет плоть до кости. Фосфор взрывается и образует облако в радиусе 150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7640" y="360360"/>
            <a:ext cx="2592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ска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фосфо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м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ра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4 г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0920" y="3943440"/>
            <a:ext cx="4190760" cy="2914560"/>
            <a:chOff x="250920" y="3943440"/>
            <a:chExt cx="4190760" cy="291456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50920" y="3943440"/>
              <a:ext cx="419076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50920" y="3943440"/>
              <a:ext cx="4190760" cy="29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020000" y="1619280"/>
            <a:ext cx="2044800" cy="19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24000" y="422280"/>
            <a:ext cx="309564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248360" cy="2846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5" action="ppaction://hlinksldjump"/>
          </p:cNvPr>
          <p:cNvSpPr/>
          <p:nvPr/>
        </p:nvSpPr>
        <p:spPr>
          <a:xfrm>
            <a:off x="8783640" y="6597720"/>
            <a:ext cx="360360" cy="260280"/>
          </a:xfrm>
          <a:prstGeom prst="rightArrow">
            <a:avLst>
              <a:gd name="adj1" fmla="val 50000"/>
              <a:gd name="adj2" fmla="val 346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28760" y="357120"/>
            <a:ext cx="84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c8526"/>
                </a:solidFill>
                <a:latin typeface="Tahoma"/>
                <a:ea typeface="Lucida Sans Unicode"/>
              </a:rPr>
              <a:t>Следствия фосфорного оруж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43680" y="25718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c8526"/>
                </a:solidFill>
                <a:latin typeface="Tahoma"/>
                <a:ea typeface="Lucida Sans Unicode"/>
              </a:rPr>
              <a:t>Вьетнамская сколопе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дей вьетнамская сколопендра небезопасна.  Хотя без причины она не кусает, но пробежавшись по коже, эта многоножка выделяет слизь с запахом фосфора, которая вызывает сильные ожоги и воспаление кожи.  У взрослого человека место укуса опухает и болит. Для маленьких детей или у людей с ослабленным организмом ее укус может оказаться смер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14840" y="1357200"/>
            <a:ext cx="476244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90400" y="57636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c00000"/>
                </a:solidFill>
                <a:uFillTx/>
                <a:latin typeface="Tahoma"/>
                <a:ea typeface="Lucida Sans Unicode"/>
              </a:rPr>
              <a:t>Красный фосфор</a:t>
            </a:r>
            <a:r>
              <a:rPr b="0" lang="ru-RU" sz="3600" spc="-1" strike="noStrike">
                <a:solidFill>
                  <a:srgbClr val="5c8526"/>
                </a:solidFill>
                <a:latin typeface="Tahoma"/>
                <a:ea typeface="Lucida Sans Unicode"/>
              </a:rPr>
              <a:t> практически нетоксичен (токсичность ему придают примеси белого фосфора). Пыль красного фосфора, попадая в легкие, вызывает пневмонию при хроническом действ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1-28T16:49:57Z</dcterms:modified>
  <cp:revision>28</cp:revision>
  <dc:subject/>
  <dc:title>PowerPoint Presentation</dc:title>
</cp:coreProperties>
</file>