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B6272-8457-41FB-8BD0-4E6B906FF8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1BFCC-2935-4725-A1DB-7B5D1E1B4D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22D8-1259-4807-BDBF-491EBBC05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6E5B-8EB5-40DF-A17A-C1EB80CF2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257A-1C16-4A71-9A6A-FD64C8D09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F0F9-9567-4EF4-AC7E-3A8EFBE9A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93F6-05D4-480E-8B39-63D4F35E3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BEE7-81D5-46D0-9DE6-2AE1B4552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C005-7015-4E9D-A260-8C81068B8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B4D4-7116-48BA-B775-4B20C9362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AB29-6D33-493D-A790-93846F8C8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60E7-98E0-4CCF-A0B1-52B05CA10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7403-402C-4CF3-9786-42A3D4B6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DCD7-2586-4CAD-AA91-937997F5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CBE2E-5182-40D9-8694-C3E79A029F6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сследовательская работа</a:t>
            </a:r>
            <a:br>
              <a:rPr sz="44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 Улица имени Николая Ивановича Лобачевског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508720" y="3367080"/>
            <a:ext cx="302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у  выполни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к 2 класса 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СОШ №14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башев Исла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Ф.Халиуллин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C:\Users\1\Desktop\Лобачевского\DSCN5180.JPG"/>
          <p:cNvPicPr/>
          <p:nvPr/>
        </p:nvPicPr>
        <p:blipFill>
          <a:blip r:embed="rId1"/>
          <a:stretch/>
        </p:blipFill>
        <p:spPr>
          <a:xfrm>
            <a:off x="684360" y="2492280"/>
            <a:ext cx="2881080" cy="35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ходе проведенного исследования удалось выяснить, что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Гипотеза о том, что на улице имени Н.И. Лобачевского есть много памятников истории, оказалась верной. Почти каж-дый дом на улице представляет историческую ценно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Исследования подобного рода, приносят большую пользу как исследователю и докладчику, так и аудитор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сок литератур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3928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. Амиров, Р. Ахметзянова, Р. Вениаминов «Казанских улиц имена». Казань, 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zan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зань». 2010 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iske-kazan.ru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kazan.telecet.ru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tatarstan.vsedomarossii.r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podgourski.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history-kazan.ru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0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ипотеза:</a:t>
            </a:r>
            <a:br>
              <a:rPr sz="2200"/>
            </a:b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улице имени Н.И. Лобачевского есть 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 памятников истории.</a:t>
            </a:r>
            <a:br>
              <a:rPr sz="2900"/>
            </a:br>
            <a:br>
              <a:rPr sz="40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8360" y="191628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ль исследовани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Выяснить, что знают ученики 2 класса А об улице имени Н.И. Лобачевского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дтвердить гипотезу и рассказать о памятниках истории подробне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ачи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39640" y="105264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сти опрос среди одноклассников о том, что они знают об улице имени Н.И. Лобачевског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хать на улицу Лобачевского, изучить фасады домов, памятные таблички, поговорить со старожилами улицы, сделать фотограф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литературу по данной тем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снить, верна  ли гипотез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зультаты опрос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ошено –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7 человек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ют, кто такой Н.И. Лобачевский –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0 человек ( 100%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ют, что в Казани есть улица Лобачевского –  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4 человека (57%)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ют, как раньше называлась улица Лобачевского – 0 человек (100%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ют, какие исторические памятники находятся на улице Лобачевского –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0 человек (100%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иколай Иванович Лобачевский (1793-1856)</a:t>
            </a:r>
            <a:br>
              <a:rPr sz="32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 математик, создатель неевклидовой геометр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Содержимое 3" descr="390px-Lobachevsky_03_crop.jpg"/>
          <p:cNvPicPr/>
          <p:nvPr/>
        </p:nvPicPr>
        <p:blipFill>
          <a:blip r:embed="rId1"/>
          <a:stretch/>
        </p:blipFill>
        <p:spPr>
          <a:xfrm>
            <a:off x="1042920" y="1628640"/>
            <a:ext cx="2695680" cy="45259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5" descr="DSCN4617.JPG"/>
          <p:cNvPicPr/>
          <p:nvPr/>
        </p:nvPicPr>
        <p:blipFill>
          <a:blip r:embed="rId2"/>
          <a:stretch/>
        </p:blipFill>
        <p:spPr>
          <a:xfrm>
            <a:off x="4788000" y="1484280"/>
            <a:ext cx="35082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я улицы им. Лобачевског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10920" y="1072800"/>
            <a:ext cx="79930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бачевского - бывшая Поперечно-Воскресенская – так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ывается с 1892 года, когда праздновалась столетня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овщина дня рождения Н.И. Лобачевского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ко, по другим источникам, улица Лобачевского – эт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вшая Почтамтская, которая переименована в октябре 1893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4" descr="DSCN4677.JPG"/>
          <p:cNvPicPr/>
          <p:nvPr/>
        </p:nvPicPr>
        <p:blipFill>
          <a:blip r:embed="rId1"/>
          <a:stretch/>
        </p:blipFill>
        <p:spPr>
          <a:xfrm>
            <a:off x="0" y="3789360"/>
            <a:ext cx="4114800" cy="302436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5" descr="DSCN4687.JPG"/>
          <p:cNvPicPr/>
          <p:nvPr/>
        </p:nvPicPr>
        <p:blipFill>
          <a:blip r:embed="rId2"/>
          <a:stretch/>
        </p:blipFill>
        <p:spPr>
          <a:xfrm>
            <a:off x="4356000" y="3789360"/>
            <a:ext cx="47880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Лобачевского , д.1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Теперь разве только старожилы помнят, что в 1890 году возвели большой пятикупольный собор, а слева - часовню во имя всех святых. После революции собор закрыли, он  просуществовал до середины 1930-х, после - был взорван. Теперь на месте Воскресенского собора стоит здание химического факультета КГУ. Вот отсюда и берет свое начало улица Лобачевского.</a:t>
            </a:r>
            <a:br>
              <a:rPr sz="7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4" descr="DSCN4689.JPG"/>
          <p:cNvPicPr/>
          <p:nvPr/>
        </p:nvPicPr>
        <p:blipFill>
          <a:blip r:embed="rId1"/>
          <a:stretch/>
        </p:blipFill>
        <p:spPr>
          <a:xfrm>
            <a:off x="4427640" y="4076640"/>
            <a:ext cx="4716360" cy="26370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5" descr="хим фак раньше.jpg"/>
          <p:cNvPicPr/>
          <p:nvPr/>
        </p:nvPicPr>
        <p:blipFill>
          <a:blip r:embed="rId2"/>
          <a:stretch/>
        </p:blipFill>
        <p:spPr>
          <a:xfrm>
            <a:off x="4427640" y="1557360"/>
            <a:ext cx="4716360" cy="2533680"/>
          </a:xfrm>
          <a:prstGeom prst="rect">
            <a:avLst/>
          </a:prstGeom>
          <a:ln w="0">
            <a:noFill/>
          </a:ln>
        </p:spPr>
      </p:pic>
      <p:pic>
        <p:nvPicPr>
          <p:cNvPr id="67" name="Содержимое 7" descr="5 купольный собор.jpg"/>
          <p:cNvPicPr/>
          <p:nvPr/>
        </p:nvPicPr>
        <p:blipFill>
          <a:blip r:embed="rId3"/>
          <a:stretch/>
        </p:blipFill>
        <p:spPr>
          <a:xfrm>
            <a:off x="179280" y="1989000"/>
            <a:ext cx="4176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Лобачевского, д.3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доме №3 была гостиница Михайлова, где до революции любили жить актеры. Здесь в 1897-1899 годах жил народный артист СССР Василий Иванович Качалов. 10 мая 1888 года здесь скончался знаменитый на всю Россию актер, чтец и писатель В. Анд-реев-Бурлак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Содержимое 3" descr="DSCN4624.JPG"/>
          <p:cNvPicPr/>
          <p:nvPr/>
        </p:nvPicPr>
        <p:blipFill>
          <a:blip r:embed="rId1"/>
          <a:stretch/>
        </p:blipFill>
        <p:spPr>
          <a:xfrm>
            <a:off x="250920" y="1268280"/>
            <a:ext cx="3395520" cy="488628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4" descr="DSCN4625.JPG"/>
          <p:cNvPicPr/>
          <p:nvPr/>
        </p:nvPicPr>
        <p:blipFill>
          <a:blip r:embed="rId2"/>
          <a:stretch/>
        </p:blipFill>
        <p:spPr>
          <a:xfrm>
            <a:off x="3851280" y="1268280"/>
            <a:ext cx="5113440" cy="252108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5" descr="DSCN4685.JPG"/>
          <p:cNvPicPr/>
          <p:nvPr/>
        </p:nvPicPr>
        <p:blipFill>
          <a:blip r:embed="rId3"/>
          <a:stretch/>
        </p:blipFill>
        <p:spPr>
          <a:xfrm>
            <a:off x="3851280" y="3789360"/>
            <a:ext cx="511344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к «Черное озеро»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Когда-то здесь плавали очень редкие птицы – черные лебеди. Отсюда и произошло название «Черное озеро»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Главной достопримечательностью парка является так называемая Арка влюбленных, которая расположена со стороны улицы Лобачевского. Арка имеет эллиптическую форму и обладает акустическим эффектом: если два человека находятся по разные стороны арки и говорят даже шепотом, то они прекрасно слышат друг друга.  </a:t>
            </a:r>
            <a:br>
              <a:rPr sz="16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Содержимое 3" descr="DSCN4631.JPG"/>
          <p:cNvPicPr/>
          <p:nvPr/>
        </p:nvPicPr>
        <p:blipFill>
          <a:blip r:embed="rId1"/>
          <a:stretch/>
        </p:blipFill>
        <p:spPr>
          <a:xfrm>
            <a:off x="0" y="2133720"/>
            <a:ext cx="4140360" cy="472428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4" descr="DSCN4630.JPG"/>
          <p:cNvPicPr/>
          <p:nvPr/>
        </p:nvPicPr>
        <p:blipFill>
          <a:blip r:embed="rId2"/>
          <a:stretch/>
        </p:blipFill>
        <p:spPr>
          <a:xfrm>
            <a:off x="4500720" y="2205000"/>
            <a:ext cx="4176720" cy="204156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5" descr="DSCN4632.JPG"/>
          <p:cNvPicPr/>
          <p:nvPr/>
        </p:nvPicPr>
        <p:blipFill>
          <a:blip r:embed="rId3"/>
          <a:stretch/>
        </p:blipFill>
        <p:spPr>
          <a:xfrm>
            <a:off x="4500720" y="4486320"/>
            <a:ext cx="417492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1T06:25:44Z</dcterms:created>
  <dc:creator>1</dc:creator>
  <dc:description/>
  <dc:language>en-US</dc:language>
  <cp:lastModifiedBy>user</cp:lastModifiedBy>
  <dcterms:modified xsi:type="dcterms:W3CDTF">2015-01-30T11:10:02Z</dcterms:modified>
  <cp:revision>115</cp:revision>
  <dc:subject/>
  <dc:title>Исследовательская работа</dc:title>
</cp:coreProperties>
</file>