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86F3-6917-4EBB-B48B-4CB6167C3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B5E-B72E-4A5C-A6D2-66D7C9C57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1D3-316A-4788-BBD1-E73C90F3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BC0-4F6E-46EC-83A1-273635A3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99F-CF82-435B-A366-B3B66782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887-5544-4A89-9CF6-FC255841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41B-F7A9-4BD5-B4A3-0D687AC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620-B520-4522-BE46-6AACB0E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AD4-BEDD-4BFE-8C90-5C76994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527-7A6F-4BD2-ACBC-A7631DF9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450-58B6-4289-B2D3-556BBFC9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E44-4E3A-4504-B7B5-64A2CB2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1CE-8AC9-4912-B522-8FE345B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FC4-137E-4417-941E-AB15DF6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B8A0-1E3E-4590-9B4E-D5FA854FC9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тельская работ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Улица имени Николая Ивановича Лобаче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08720" y="3367080"/>
            <a:ext cx="302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 выполни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2 класса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1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ашев Исл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Ф.Халиулл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1\Desktop\Лобачевского\DSCN5180.JPG"/>
          <p:cNvPicPr/>
          <p:nvPr/>
        </p:nvPicPr>
        <p:blipFill>
          <a:blip r:embed="rId1"/>
          <a:stretch/>
        </p:blipFill>
        <p:spPr>
          <a:xfrm>
            <a:off x="684360" y="2492280"/>
            <a:ext cx="28810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ного исследования удалось выяснить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ипотеза о том, что на улице имени Н.И. Лобачевского есть много памятников истории, оказалась верной. Почти каж-дый дом на улице представляет историческую це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следования подобного рода, приносят большую пользу как исследователю и докладчику, так и ауди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Амиров, Р. Ахметзянова, Р. Вениаминов «Казанских улиц имена». Казань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n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ь».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ske-kazan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azan.telecet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tarstan.vsedomarossii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gourski.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history-kazan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br>
              <a:rPr sz="22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имени Н.И. Лобачевского есть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памятников истории.</a:t>
            </a:r>
            <a:br>
              <a:rPr sz="29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916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снить, что знают ученики 2 класса А об улице имени Н.И. Лобачевск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твердить гипотезу и рассказать о памятниках истории подроб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052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среди одноклассников о том, что они знают об улице имени Н.И. Лобачев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хать на улицу Лобачевского, изучить фасады домов, памятные таблички, поговорить со старожилами улицы, сделать фотограф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верна  ли гипот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 опро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шено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то такой Н.И. Лобачевский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 человек ( 100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что в Казани есть улица Лобачевского –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человека (57%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ак раньше называлась улица Лобачевского – 0 человек (100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акие исторические памятники находятся на улице Лобачевского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 человек (100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колай Иванович Лобачевский (1793-1856)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атематик, создатель неевклидовой геомет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390px-Lobachevsky_03_crop.jpg"/>
          <p:cNvPicPr/>
          <p:nvPr/>
        </p:nvPicPr>
        <p:blipFill>
          <a:blip r:embed="rId1"/>
          <a:stretch/>
        </p:blipFill>
        <p:spPr>
          <a:xfrm>
            <a:off x="1042920" y="1628640"/>
            <a:ext cx="26956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DSCN4617.JPG"/>
          <p:cNvPicPr/>
          <p:nvPr/>
        </p:nvPicPr>
        <p:blipFill>
          <a:blip r:embed="rId2"/>
          <a:stretch/>
        </p:blipFill>
        <p:spPr>
          <a:xfrm>
            <a:off x="4788000" y="1484280"/>
            <a:ext cx="3508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улицы им. Лобачев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0920" y="1072800"/>
            <a:ext cx="79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чевского - бывшая Поперечно-Воскресенская – т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с 1892 года, когда праздновалась столетня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щина дня рождения Н.И. Лобачевск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по другим источникам, улица Лобачевского –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шая Почтамтская, которая переименована в октябре 189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SCN4677.JPG"/>
          <p:cNvPicPr/>
          <p:nvPr/>
        </p:nvPicPr>
        <p:blipFill>
          <a:blip r:embed="rId1"/>
          <a:stretch/>
        </p:blipFill>
        <p:spPr>
          <a:xfrm>
            <a:off x="0" y="3789360"/>
            <a:ext cx="411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DSCN4687.JPG"/>
          <p:cNvPicPr/>
          <p:nvPr/>
        </p:nvPicPr>
        <p:blipFill>
          <a:blip r:embed="rId2"/>
          <a:stretch/>
        </p:blipFill>
        <p:spPr>
          <a:xfrm>
            <a:off x="4356000" y="3789360"/>
            <a:ext cx="478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бачевского , д.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перь разве только старожилы помнят, что в 1890 году возвели большой пятикупольный собор, а слева - часовню во имя всех святых. После революции собор закрыли, он  просуществовал до середины 1930-х, после - был взорван. Теперь на месте Воскресенского собора стоит здание химического факультета КГУ. Вот отсюда и берет свое начало улица Лобачевского.</a:t>
            </a:r>
            <a:br>
              <a:rPr sz="7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DSCN4689.JPG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637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хим фак раньше.jpg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5 купольный собор.jpg"/>
          <p:cNvPicPr/>
          <p:nvPr/>
        </p:nvPicPr>
        <p:blipFill>
          <a:blip r:embed="rId3"/>
          <a:stretch/>
        </p:blipFill>
        <p:spPr>
          <a:xfrm>
            <a:off x="179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бачевского, д.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оме №3 была гостиница Михайлова, где до революции любили жить актеры. Здесь в 1897-1899 годах жил народный артист СССР Василий Иванович Качалов. 10 мая 1888 года здесь скончался знаменитый на всю Россию актер, чтец и писатель В. Анд-реев-Бурлак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DSCN4624.JPG"/>
          <p:cNvPicPr/>
          <p:nvPr/>
        </p:nvPicPr>
        <p:blipFill>
          <a:blip r:embed="rId1"/>
          <a:stretch/>
        </p:blipFill>
        <p:spPr>
          <a:xfrm>
            <a:off x="250920" y="1268280"/>
            <a:ext cx="3395520" cy="4886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DSCN4625.JPG"/>
          <p:cNvPicPr/>
          <p:nvPr/>
        </p:nvPicPr>
        <p:blipFill>
          <a:blip r:embed="rId2"/>
          <a:stretch/>
        </p:blipFill>
        <p:spPr>
          <a:xfrm>
            <a:off x="3851280" y="1268280"/>
            <a:ext cx="5113440" cy="2521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DSCN4685.JPG"/>
          <p:cNvPicPr/>
          <p:nvPr/>
        </p:nvPicPr>
        <p:blipFill>
          <a:blip r:embed="rId3"/>
          <a:stretch/>
        </p:blipFill>
        <p:spPr>
          <a:xfrm>
            <a:off x="3851280" y="3789360"/>
            <a:ext cx="5113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 «Черное озеро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гда-то здесь плавали очень редкие птицы – черные лебеди. Отсюда и произошло название «Черное озеро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Главной достопримечательностью парка является так называемая Арка влюбленных, которая расположена со стороны улицы Лобачевского. Арка имеет эллиптическую форму и обладает акустическим эффектом: если два человека находятся по разные стороны арки и говорят даже шепотом, то они прекрасно слышат друг друга. 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DSCN4631.JPG"/>
          <p:cNvPicPr/>
          <p:nvPr/>
        </p:nvPicPr>
        <p:blipFill>
          <a:blip r:embed="rId1"/>
          <a:stretch/>
        </p:blipFill>
        <p:spPr>
          <a:xfrm>
            <a:off x="0" y="21337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DSCN4630.JPG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2041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DSCN4632.JPG"/>
          <p:cNvPicPr/>
          <p:nvPr/>
        </p:nvPicPr>
        <p:blipFill>
          <a:blip r:embed="rId3"/>
          <a:stretch/>
        </p:blipFill>
        <p:spPr>
          <a:xfrm>
            <a:off x="4500720" y="4486320"/>
            <a:ext cx="4174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6:25:44Z</dcterms:created>
  <dc:creator>1</dc:creator>
  <dc:description/>
  <dc:language>en-US</dc:language>
  <cp:lastModifiedBy>user</cp:lastModifiedBy>
  <dcterms:modified xsi:type="dcterms:W3CDTF">2015-01-30T11:10:02Z</dcterms:modified>
  <cp:revision>115</cp:revision>
  <dc:subject/>
  <dc:title>Исследовательская работа</dc:title>
</cp:coreProperties>
</file>