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E33A-5736-41BB-B268-01418F2D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0D7C-C480-4325-9E7E-62D8A8AB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0F53F-0C7F-42F1-9D8C-27830949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45105-9E71-4831-B451-738301E7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92E46-0A90-4335-A297-B9625E3D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CBF9A-9417-4035-B7F5-7DE5C187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34781-10A7-49C9-B3DF-72580217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06E34-A9E1-45C6-ABCA-51374A1F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85525-B1B3-456A-A7BD-E2904E09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3E607-CA8D-4D26-896E-6EBB9CB6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985E8-BBA7-4360-86E9-FD9619FE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2751-CB08-48D7-9A4A-12315903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9A35-06C3-4542-BF90-828F22B5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8892-BB0E-4439-81E8-7B1AE4E3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D020-9610-47F9-860A-7F0C8A87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66ED-1E1A-424C-AA49-613B7049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D578-FC0F-4D35-8D08-8FA7BA8C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9C0A-2832-451C-9468-CBED0267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F867-57A6-4769-AC74-7839C6B4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5EF5-8705-4ACF-8C02-F0D96378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753-D662-4334-9B74-A6353FAC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A280-92EE-48A5-8DE5-A02E26C0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B4B3-55B0-4CA7-999C-70CD0197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4216-00CC-45A5-AF01-6E7868D9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8A19-845C-41C7-BCEA-67E6A684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BD6E-D411-4566-ADD6-375F476C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4680A-11D7-45F9-B749-E19A288F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A3B37-64D2-4B44-96FD-A72E0B13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37FF7-677A-41AC-90EA-073C04C0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0B33F-1F2B-420F-BB68-F7C9FF40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CF05A-2413-46B1-97DB-E05FB353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F72A-5198-4BB0-9EED-6534D542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74EAC-EB2D-4134-9247-F19F558E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3994C-1E93-4AA9-84C6-C0DA4CC6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C9DFF-5D47-43CE-96D8-E96E6A3E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BEDD8-43A2-491F-8C47-7F115A14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5ED39-1C74-484F-8E44-215AD559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E003F-7AF3-4B16-A1C0-378E744B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04DF6-2C82-4222-820A-F9324A1E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78FD0-F08C-4A8D-8C28-154D022E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3BD19-2B6E-463B-AB65-0871F6B2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F9C65-04F1-4BF3-BD5C-3BD6BA27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E9EB-D698-4E66-9E89-73F4C4C4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44E0A-BC42-450B-A17D-6F8B9C0C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637E7-AC90-42B1-AAC4-6682058C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9AF70-7858-42F4-B179-ADE59E76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A693E-01AF-404E-8E90-643D374B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01479-572D-4ACA-B27E-E5D832A4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0387E-CF3D-47A7-A091-9DF38C16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9B0EF-683A-448C-8880-DAECFC16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69931-63F1-4F5D-B323-65DB17C2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42D7A-65CD-4EF0-9298-364C9AC0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1A19D-2A46-473F-81D1-70DD77F9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AC69-A0A7-40A2-8ED1-2D47775D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19BE7-953A-4992-8DEA-E19C5D34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903F0-A7D8-4829-8013-54E17DF9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8B000-3232-4335-81F4-668E1F0E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EE167-0697-41C4-8FB0-0FC5AC91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08010-E6F2-4D4C-A85A-6557BE45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57026-3950-4E3D-B0E9-720642DF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EB487-ED28-4D2F-B99A-6CF1C3F4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A03E5-4926-49CE-A23B-667D5E88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0715E-8D56-494E-BC79-97519D7E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A3A19-B8E6-4DB7-834E-BEA03C58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2D0F-F997-44D9-A6DA-3BC9377C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B7020-E7C6-4A03-ABDB-588D8D8B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7B165-9D14-447C-9D27-FD708261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6BD6E-79FF-49A2-B44F-7FB1D676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F4B48-FB4B-426B-8AF0-D89C11EC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A9E8F-6753-4C85-9B8A-FE1BA1A9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11F72-EC7E-4E7E-8826-CA415D29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6F6DB-FD16-4CBA-A55C-D20904D1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84E1E-EEB4-44AD-AC7E-B58ACA4A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B9BB4-3DF0-443E-B017-217DE29B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AA8B9-6E18-4F25-AAF0-4A9D0A10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7B4F-6065-44C0-A47D-B78ED953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BA2E0-2034-4106-AF40-7CE63F70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6AC79-99A7-4504-8C01-371DFDE5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EDF37-542C-4501-B0E7-21EA427C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A3306-42D4-46EF-9B22-C12CBE75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DEF3C-24F5-4B11-AD85-190D5A68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0E68A-5333-4A24-95A9-08235F8E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45BBC-AB6A-4E19-B941-089B744A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D73AE-19E4-4670-B500-B73B0DB4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9C0C9-EADA-4EAE-913F-1F86F687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E1189-6EBE-4D4B-9905-858F0F4F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08B0-2F4A-4B0D-9B8B-3540C743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F2E39-F9FC-4325-90E1-53175EAD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20CCF-58B7-4D27-B977-49F99314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88932-9F6D-4548-A75C-FED248AF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FA8D0-0F6C-419F-9184-84CE9258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9D2B3-BB35-45A2-B390-AE2AF16C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5A3D8-2E83-470B-97F4-90C466A6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37265-347D-46A7-89AD-FBA540D4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4441B-70FE-4598-B730-DF8C6949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C19C1-B813-4066-9634-161A9AC6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C3A2A-3AE8-4EA6-8376-47414B53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34F1-D32A-4F04-8D0A-F33D0599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8B2DE-A382-4CA1-8195-84C3E23A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E1B67-8087-40A0-9820-5DB2CC2F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494A1-6F36-4719-87EE-FF547894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377F9-75A4-472C-A226-E559AD4B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744D0-F082-4165-B693-86AD2245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79D20-4D98-48B6-9F5E-5F5B577A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03894-C45E-411E-9A40-FCE8EFBF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EB490-1F2A-409C-975B-44979224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3BA6A-42EE-469C-A1CA-52F862B2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C770D-9AD4-435B-B06F-CAB55E9C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C07C-43D5-4154-81F4-4E3ADA3D07C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09C4-F0CB-4FEF-8121-6C46B344DAC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41EF-5DE6-4996-80F9-76BA1530377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B2CE-57AE-489A-AEE6-10E38B49E80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0388-EAF6-4867-A4AF-4D7CDBDADCC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2BCA-354F-444F-B99F-8EAF35CC74C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34C7-2C4B-42CD-8BE9-E9A1D5F25AA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DFE3-699E-48AD-A2AF-39C6C0197EB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AF75-2EDF-47A5-B620-B0EB42D343A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74680" y="4809960"/>
            <a:ext cx="8570880" cy="12733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43329"/>
                </a:solidFill>
                <a:latin typeface="Franklin Gothic Book"/>
              </a:rPr>
              <a:t>Информационная обработка текст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143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Карпухина Юл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Новым для русской культуры явлением стало открытие в 1672 году при дворе Алексея Михайловича первого в России театра. До этого театральное действо разыгрывалось лишь в ярмарочные дни скоморохами и лицедеями для толпы. Главным героем этих представлений был Петрушка. Он говорил на родном языке со всеми его грубостями и резкостями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Прежде всего царский двор стал необычайно многолюдным. День и ночь в царских покоях, конюшнях, подсобных помещениях суетились сотни людей - как обслуживавших двор, так и искавших царских милостей. Одна лишь охрана царя обеспечивалась двумя тысячами дворян и стрельцов. Несколько десятков лиц одевали царя после сна; другие участвовали в его трапезе; третьи отвечали за сохранность его личных вещей; четвертые - за лошадей, псов и соколов для охоты; пятые - за исправность экипажей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214200" y="1143000"/>
            <a:ext cx="87775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(1) Земной шар живет своей собственной, непредсказуемой жизнью. (2) Сложные процессы протекают на его поверхности.  (3) Содрогается Земля под воздействием землетрясений. (4) Гибнут люди, населенные пункты. (5) Тайфуны провисятся над го­родами, разрушая здания, выворачивая вековые деревья. (6) Град, ливни обрушиваются на землю, наводнения поглощают не только посевы, но и то, что было создано людь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214200" y="1143000"/>
            <a:ext cx="87775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(7) А где-то в другом месте катастрофические засухи ведут к голоду целые народы. (8) Добрая, ласковая Земля неожиданно становится жестокой и безжалостной в отношении людей, ее на­селяющих. (9) Что заставляет ее, прекрасную нашу планету, ста­новиться такой злой и беспощадной? (10) Об этом давно задумывались люди, замечая, что неистовство природных сил совпадает с крупными социальными катастрофами, возникающими в чело­веческом обществе: войнами, революциями, религиозными распрями, душевными потрясениями. (11) Нет ли здесь какой-то за­висимости?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214200" y="1143000"/>
            <a:ext cx="87775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(12) Может быть, планета по-своему реагирует на вспышки противоречий в социальной сфере, человечества?,(13) Может быть, она мстит людям? (14) Особенно ярко проявилась эта фа­тальная зависимость в 2001 году, когда социальные взрывы с участием тысяч и тысяч людей буквально перемежаются с катаст­рофическими взрывами в природных условиях Земли. (15) Войны на Балканах, чеченские события, палестино-израильский кон­фликт, афганские распри, африканские столкновения — с одной стороны. (16) И одновременно непрерывные землетрясения, на­воднения, тайфуны, извержения — с другой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214200" y="1143000"/>
            <a:ext cx="87775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(17) Великий ученый В. Вернадский предложил свою нашу­мевшую гипотезу ноосферы, созданной интеллектом, трудом, энергетикой бесконечной смены человеческих поколений.(18) Может быть, острые конфликты, возникающие среди огромных человеческих коллективов, вызывают дисбаланс в энергетиче­ском поле планеты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(19) А это, в свою очередь, вызывает нарушение привычных природных условий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Открыть  наугад  любой учебник (истории, географии), выбрать любой отрывок</a:t>
            </a:r>
            <a:br>
              <a:rPr sz="3200"/>
            </a:b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(слов на 60), посчитать, сколько в этом отрывке местоимений, сколько процентов составляют местоимения в неадаптированном тексте. Сделать вывод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298440" y="353880"/>
            <a:ext cx="8437680" cy="12304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142920" y="128556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Портфолио - это набор материалов, демонстрирующих умение учителя решать задачи своей профессиональной деятельности, выбирать стратегию и тактику профессионального поведения и предназначенный для оценки уровня профессионализма учителя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В переводе с итальянского "портфолио" означает "папка с документами»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Слово "портфолио" не склоняется, а употреблять его можно как в мужском, так и в среднем роде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4e3b30"/>
                </a:solidFill>
                <a:uFillTx/>
                <a:latin typeface="Franklin Gothic Book"/>
              </a:rPr>
              <a:t>Портфолио учителя: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Основные сведения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Результаты педагогической деятельности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Внеурочная деятельность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Научно - методическая деятельность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4e3b30"/>
                </a:solidFill>
                <a:uFillTx/>
                <a:latin typeface="Franklin Gothic Book"/>
              </a:rPr>
              <a:t>Содержание портфолио ученика: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Титульный лист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2. Анкета ученика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3. Лестница успеха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4. Чему я научился на уроках по всем предметам (умения и навыки)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5. Чему Я обязательно научусь на уроках по отдельным предметам (предметные умения)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6. Таблицы требований по предметам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7. Сведения об успеваемости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8. Творческие работы ученика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9. Перечень представленных творческих работ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10. Дипломы, грамоты, благодарственные письма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298440" y="-73080"/>
            <a:ext cx="8437680" cy="16891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Сжатое изложение проверяет: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1) умение   слушать,   то   есть   адекватно   воспринимать информацию, содержащуюся в прослушанном тексте;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2) умение     обрабатывать     воспринятую     информацию, выделяя в ней главное;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3)  письменно       передавать       обработанную информацию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Проверка   этих   трёх   основных   умений   легла   в   основу   системы критериев оценивания изложения.</a:t>
            </a:r>
            <a:br>
              <a:rPr sz="2700"/>
            </a:b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-71280" y="0"/>
          <a:ext cx="9215280" cy="6924600"/>
        </p:xfrm>
        <a:graphic>
          <a:graphicData uri="http://schemas.openxmlformats.org/drawingml/2006/table">
            <a:tbl>
              <a:tblPr/>
              <a:tblGrid>
                <a:gridCol w="865080"/>
                <a:gridCol w="7223040"/>
                <a:gridCol w="1127160"/>
              </a:tblGrid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итерии оценивания излож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изложения (см. таблицу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86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уемый передал основное содержание прослушанного текста, отразив все важные для его восприятия микротемы, перечисленные в табли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жатие исходного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уемый правильно применил не менее 2 разных приёмов сжатия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сключение, обобщение, упрощение) и использовал их для сжатия не менее 3 микротем текста, или экзаменуемый правильно применил 3 приём сжатия, использовав его на протяжении всего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овая цельность, речевая связность и последовательность из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48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экзаменуемого характеризуется смысловой цельностью, речевой связностью и последовательностью излож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логические ошибки отсутствуют, последовательность изложения не  нарушена; - в работе нет нарушении абзацного членения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5556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баллов за сжатое изложение по критериям ИК1-НК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214200" y="1600200"/>
            <a:ext cx="478656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На уроке истории. Внима­тельно рассмотрите рисунок и на его основе постройте рассуждение на тему «Вывоз сукна и шерсти из Англии». Вам нужно объяснить, почему увеличился вывоз сукна и сократился вывоз шерсти. Какому стилю речи должно соответство­вать ваше сообщение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9" name="Picture 5" descr="C:\Documents and Settings\Учащийся\Рабочий стол\сканы\Изображение 013.jpg"/>
          <p:cNvPicPr/>
          <p:nvPr/>
        </p:nvPicPr>
        <p:blipFill>
          <a:blip r:embed="rId1"/>
          <a:stretch/>
        </p:blipFill>
        <p:spPr>
          <a:xfrm>
            <a:off x="5143680" y="1785960"/>
            <a:ext cx="3657600" cy="267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95120" y="-128520"/>
            <a:ext cx="8863200" cy="18478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214200" y="1553760"/>
            <a:ext cx="87775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Самым молодым главнокомандующим, который когда-либо водил армию в сражение был трехмесячный герцог Говард 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III</a:t>
            </a: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 Брабантский (Бельгия). Ему всего было 90 дней, когда он унаследовал от отца престол и стал главнокомандующим армией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ачалась война. Герцог должен был вести армию в сражение. Его положили в колыбель, привязанную к двум деревьям вдалеке от места сражения. Таким образом, герцог лично присутствовал на поле боя, и победа, одержанная в тот день, был приписана ему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а протяжении 48 лет царствования он носил звание «Храброго». Правда, остались свидетельства, что иногда современники называли его менее почтительно – «герцогом из колыбели»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212760" y="285840"/>
            <a:ext cx="8785080" cy="10303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В различных уголках земного шара в пищу используют землю, точнее глину. Некоторые сибиряки, например, с удовольствием ели лакомства, приготовленные из каолина (вид глины и оленьего молока). На базарах наших южных соседей – иранцев продают съедобную глину, жирную белую мас­су наподобие халвы. В свое время в Италии было очень распро­странено кушанье «алика» смесь пшеницы и мергеля, добывае­мого около Неаполя. Жители Сенегала любят употреблять в пи­щу зеленоватую глину. Характерно, что американские негры, предки которых были вывезены из Сенегала, не забыли люби­мого лакомства и на новой родине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В августе 1689 года Пётр получил известие о готовящемся в пользу Софьи перевороте, в ходе которого  стрельцы  якобы хотели его убить.  Он срочно покинул Преображенское и выехал в хорошо укреплённую Троице-Сергиеву лавру. К этому времени Пётр уже достиг совершеннолетия и мог быть самостоятельным правителем. Поэтому, чувствуя за ним силу, в лавру потянулись бояре, дворяне, военные, ранее поддерживавшие Софью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e3b30"/>
                </a:solidFill>
                <a:latin typeface="Franklin Gothic Book"/>
              </a:rPr>
              <a:t>Задания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Определите, какой вид связи предложений в данном тексте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Составьте схему связи предложения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Вдовиченко Даниил 7В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SS10</cp:lastModifiedBy>
  <dcterms:modified xsi:type="dcterms:W3CDTF">2010-01-26T11:23:13Z</dcterms:modified>
  <cp:revision>10</cp:revision>
  <dc:subject/>
  <dc:title>Слайд 1</dc:title>
</cp:coreProperties>
</file>