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AC714-EC35-4816-9918-74D89D2EE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12C4C-61F1-466D-BF6D-F90A17AC8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EE2E65-F878-4A20-B633-FC44F21D0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01FA70-AC7D-49F3-B538-4B78D2910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77D195-CB16-4842-8CF3-0A45D9B35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214FA0-09CF-43B0-9B40-1665B6B87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AC2E6F-66B3-4495-BD1E-F86D58F79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F1B132-3D79-467C-A838-A1F06D9EC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99679F-195F-4B85-9062-AD4433E2D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9E89C2-F60B-428B-98C7-1B4E2A60D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EC6348-C9E4-4952-808F-1C905CB3A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0E825-0159-4219-8B0C-EB9FF3F70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0C6F6-A047-45A8-AD99-468325493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BAA1C-6784-41E4-9B37-9988E5F13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6E605-E7C6-4C0B-9BF8-E5D767B64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69744-8ABF-47C1-A61D-F4D8248C2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81BC1-39D3-4BA2-B4DD-95BBE21FF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EAB2A-1277-4B14-94FD-EAEF0D1D3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954FE-7223-4849-AA64-CFD16D300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ACAFF-FF61-4B24-A578-19DFC4E5C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719FD-C1AB-4589-85CD-63D95EE87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AC9EC-C650-43CE-B4C8-9432746E7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86396-DD2F-4163-958A-5474A5A4C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46D1B-49EB-44D1-A4F6-A74AAEA7A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7C346-5D8A-4909-B960-14C15DCE8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B2FD5-D762-4E7F-A28B-A37B77DE3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A44CA4-F905-4A58-8A64-63A200B9C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0DD6B5-08A3-47AA-B812-309BC5F80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B5BA89-19A4-48F2-A3A5-1141EACD6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F87696-30AB-4F41-8FD0-3F5F25FDC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E79C33-2795-4FB5-9F5F-5A0C2C23B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B0AF1-DBE6-4E10-90CF-42CEE9A4A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2DFF40-110F-4CF8-BD42-4D899105D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3B5083-836A-4D6C-AC15-28D497E24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F671EA-210D-440C-8548-992782DD7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54CF9C-7CC3-4BA1-899A-6C18ABC19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1AD814-1A2A-4BF0-8D67-2524EF439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43360F-9148-4A19-8D25-3D753A76E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423162-6338-409A-AD5C-EB83ED307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1C4C14-61E5-427F-A643-059B17CC5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C797D6-83BB-4A66-9E58-D186AB3E0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1E54C6-22D2-452D-B762-4DB9A739B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06A6B-DD1C-4FA2-BE9E-7A879B4DC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C3D711-2921-485E-BFAB-24CBF7E02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2D3FD7-EAE9-4977-B5A1-F773B29FE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85C710-A456-469B-B0CB-D4F5AA7FC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25FBBB-4CF2-42A2-9239-2FFD4BBC6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EDBAB4-ADAD-4476-8FE7-54809502F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575CCD-37D4-4DCA-AC51-27B62B7E9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678075-953A-45DA-A4C2-D12064FA5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406F95-1649-4D70-BEF8-7F81940B4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DFAC41-81AB-4729-9A58-183DD838E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3A7555-CBA4-4A39-A34E-656F95DCF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7FDBB-73D3-4B67-9832-D36CB78E0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644F9D-CE28-4A87-9666-A51A4D07A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5E2317-04E7-4D8B-81A6-535DF6321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1A0873-4F45-4CDD-956A-DC578E43B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C0DCE6-BC0A-461B-805F-E9AAEF372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78C04B-3608-475C-9012-276B2CB14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932555-6913-4489-A555-EE03B05D6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445142-5AB9-4D2C-8670-19708612E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6C5C36-56CB-4391-8D6F-2069682E1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2084C0-F581-451E-A46D-A790E96F0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8A21ED-970C-4462-99B4-8BC8548BE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DF013-E744-443F-94DB-F7F89A81F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012272-C8C4-4358-B788-E520DFD48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8CD294-371E-43E9-AD33-6674861E5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F69284-C384-463A-AD76-8C91A294A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BF6178-07F1-48D3-B453-D3C028B14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9E59D6-F700-46AD-995A-927CD1C12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2D6436-E02A-4145-83A7-68049F7A9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A0354A-9858-4056-BA51-55DFB393C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A64589-04B2-47DC-BBEA-E79ACDF2B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DEAD48-D902-467D-A06B-61E70CC90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5DCEB1-BE56-462D-920C-96B74B302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00C7E-24D9-4686-8822-6743B3DBF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723779-EE91-4F92-91CC-676718DD3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F614E5-BBA8-4644-A635-4C2FAB149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136786-5FAF-42E6-BB52-0C84646CD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B14AD2-B7A6-4C5D-90CB-C85C1D773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9BE34B-DB3F-4941-9DE5-0D989EFF8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35F16D-8D4E-4351-9C8E-B2197E7D4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B67796-FE12-4063-8D5C-1CAA3255D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4C03B3-A291-411C-8185-D525E0810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646F3E-170E-4593-99A1-9FB1C6E9D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D98E0F-4604-48F7-B894-62D4DE978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0631C-0E0F-4222-9AF8-B05280186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2C8184-8D37-428D-97BE-CA10C0F43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31E263-234C-491A-885D-42D7A2F18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8C0881-56B3-43C4-A662-B746FE1E8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59694C-B163-4F1D-B0BD-2B50C81F4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17E907-27CB-410C-9427-33B19B29D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3BEEFE-16FD-4976-8BFE-7F9CA7EC8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DE6994-54A9-4378-9845-7E202129F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1A882B-F414-4401-9309-755756790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8772AA-56D9-4ACB-A7DC-A8AC9349C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D294F2-3FD9-43A9-B667-BFA4F9356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83198-1634-42F4-8314-DF0C60FD5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331F49-357C-49CE-B924-A77F62EBB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2A2201-EFA9-43B5-9E0D-D6C842511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88C00B-1492-45C1-9EA3-13611268E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C941CA-97FD-4564-9231-5CE656FA9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18CB4A-2095-4305-AF85-C9EFFBF7D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58B5A2-6D87-4862-96AA-1F7C6D8BF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1A7606-A14C-4A80-B7C7-2A3307D94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ED9075-5119-4361-A6E3-E5B372939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A6B8B1-BD74-4057-8797-88EED6F7A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8C1F85-462F-474C-95FD-5B772A42D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0919D-8BF3-42E5-B8FF-77865CBFA763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4D933-0154-427C-B3B8-3C1CD4C57492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F146A-DA53-42E9-9EE5-C73B136A8274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A1601-5C20-4F4B-82ED-B1AA47050CB6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EE49B-181A-4F7C-9863-908555ED6EFD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9A0D1-B3D0-4194-859B-C64E9C5A4882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6CC3E-3A2C-406B-BA75-1424034AEC6D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14395-E4D5-43A9-A3BD-9036C5461729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7705A-A772-4FF3-92E4-B22B82D376B3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Заголовок 1" descr=""/>
          <p:cNvPicPr/>
          <p:nvPr/>
        </p:nvPicPr>
        <p:blipFill>
          <a:blip r:embed="rId1"/>
          <a:stretch/>
        </p:blipFill>
        <p:spPr>
          <a:xfrm>
            <a:off x="274680" y="4809960"/>
            <a:ext cx="8570880" cy="127332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380520" y="38862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443329"/>
                </a:solidFill>
                <a:latin typeface="Franklin Gothic Book"/>
              </a:rPr>
              <a:t>Информационная обработка текста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 txBox="1"/>
          <p:nvPr/>
        </p:nvSpPr>
        <p:spPr>
          <a:xfrm>
            <a:off x="457200" y="11430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e3b30"/>
                </a:solidFill>
                <a:latin typeface="Franklin Gothic Book"/>
              </a:rPr>
              <a:t>Карпухина Юля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e3b30"/>
                </a:solidFill>
                <a:latin typeface="Franklin Gothic Book"/>
              </a:rPr>
              <a:t> 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e3b30"/>
                </a:solidFill>
                <a:latin typeface="Franklin Gothic Book"/>
              </a:rPr>
              <a:t>Новым для русской культуры явлением стало открытие в 1672 году при дворе Алексея Михайловича первого в России театра. До этого театральное действо разыгрывалось лишь в ярмарочные дни скоморохами и лицедеями для толпы. Главным героем этих представлений был Петрушка. Он говорил на родном языке со всеми его грубостями и резкостями.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e3b30"/>
                </a:solidFill>
                <a:latin typeface="Franklin Gothic Book"/>
              </a:rPr>
              <a:t> 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e3b30"/>
                </a:solidFill>
                <a:latin typeface="Franklin Gothic Book"/>
              </a:rPr>
              <a:t>Прежде всего царский двор стал необычайно многолюдным. День и ночь в царских покоях, конюшнях, подсобных помещениях суетились сотни людей - как обслуживавших двор, так и искавших царских милостей. Одна лишь охрана царя обеспечивалась двумя тысячами дворян и стрельцов. Несколько десятков лиц одевали царя после сна; другие участвовали в его трапезе; третьи отвечали за сохранность его личных вещей; четвертые - за лошадей, псов и соколов для охоты; пятые - за исправность экипажей.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 txBox="1"/>
          <p:nvPr/>
        </p:nvSpPr>
        <p:spPr>
          <a:xfrm>
            <a:off x="214200" y="1143000"/>
            <a:ext cx="8777520" cy="55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(1) Земной шар живет своей собственной, непредсказуемой жизнью. (2) Сложные процессы протекают на его поверхности.  (3) Содрогается Земля под воздействием землетрясений. (4) Гибнут люди, населенные пункты. (5) Тайфуны провисятся над го­родами, разрушая здания, выворачивая вековые деревья. (6) Град, ливни обрушиваются на землю, наводнения поглощают не только посевы, но и то, что было создано людьми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 txBox="1"/>
          <p:nvPr/>
        </p:nvSpPr>
        <p:spPr>
          <a:xfrm>
            <a:off x="214200" y="1143000"/>
            <a:ext cx="8777520" cy="55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4e3b30"/>
                </a:solidFill>
                <a:latin typeface="Franklin Gothic Book"/>
              </a:rPr>
              <a:t>(7) А где-то в другом месте катастрофические засухи ведут к голоду целые народы. (8) Добрая, ласковая Земля неожиданно становится жестокой и безжалостной в отношении людей, ее на­селяющих. (9) Что заставляет ее, прекрасную нашу планету, ста­новиться такой злой и беспощадной? (10) Об этом давно задумывались люди, замечая, что неистовство природных сил совпадает с крупными социальными катастрофами, возникающими в чело­веческом обществе: войнами, революциями, религиозными распрями, душевными потрясениями. (11) Нет ли здесь какой-то за­висимости?</a:t>
            </a:r>
            <a:endParaRPr b="0" lang="en-US" sz="27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 txBox="1"/>
          <p:nvPr/>
        </p:nvSpPr>
        <p:spPr>
          <a:xfrm>
            <a:off x="214200" y="1143000"/>
            <a:ext cx="8777520" cy="55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4e3b30"/>
                </a:solidFill>
                <a:latin typeface="Franklin Gothic Book"/>
              </a:rPr>
              <a:t>(12) Может быть, планета по-своему реагирует на вспышки противоречий в социальной сфере, человечества?,(13) Может быть, она мстит людям? (14) Особенно ярко проявилась эта фа­тальная зависимость в 2001 году, когда социальные взрывы с участием тысяч и тысяч людей буквально перемежаются с катаст­рофическими взрывами в природных условиях Земли. (15) Войны на Балканах, чеченские события, палестино-израильский кон­фликт, афганские распри, африканские столкновения — с одной стороны. (16) И одновременно непрерывные землетрясения, на­воднения, тайфуны, извержения — с другой.</a:t>
            </a:r>
            <a:endParaRPr b="0" lang="en-US" sz="27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 txBox="1"/>
          <p:nvPr/>
        </p:nvSpPr>
        <p:spPr>
          <a:xfrm>
            <a:off x="214200" y="1143000"/>
            <a:ext cx="8777520" cy="55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(17) Великий ученый В. Вернадский предложил свою нашу­мевшую гипотезу ноосферы, созданной интеллектом, трудом, энергетикой бесконечной смены человеческих поколений.(18) Может быть, острые конфликты, возникающие среди огромных человеческих коллективов, вызывают дисбаланс в энергетиче­ском поле планеты?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(19) А это, в свою очередь, вызывает нарушение привычных природных условий.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Заголовок 1" descr=""/>
          <p:cNvPicPr/>
          <p:nvPr/>
        </p:nvPicPr>
        <p:blipFill>
          <a:blip r:embed="rId1"/>
          <a:stretch/>
        </p:blipFill>
        <p:spPr>
          <a:xfrm>
            <a:off x="133200" y="268200"/>
            <a:ext cx="8864640" cy="1036800"/>
          </a:xfrm>
          <a:prstGeom prst="rect">
            <a:avLst/>
          </a:prstGeom>
          <a:ln w="0">
            <a:noFill/>
          </a:ln>
        </p:spPr>
      </p:pic>
      <p:sp>
        <p:nvSpPr>
          <p:cNvPr id="422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 </a:t>
            </a: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Открыть  наугад  любой учебник (истории, географии), выбрать любой отрывок</a:t>
            </a:r>
            <a:br>
              <a:rPr sz="3200"/>
            </a:b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(слов на 60), посчитать, сколько в этом отрывке местоимений, сколько процентов составляют местоимения в неадаптированном тексте. Сделать вывод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Заголовок 1" descr=""/>
          <p:cNvPicPr/>
          <p:nvPr/>
        </p:nvPicPr>
        <p:blipFill>
          <a:blip r:embed="rId1"/>
          <a:stretch/>
        </p:blipFill>
        <p:spPr>
          <a:xfrm>
            <a:off x="298440" y="353880"/>
            <a:ext cx="8437680" cy="123048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 txBox="1"/>
          <p:nvPr/>
        </p:nvSpPr>
        <p:spPr>
          <a:xfrm>
            <a:off x="142920" y="1285560"/>
            <a:ext cx="8686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4e3b30"/>
                </a:solidFill>
                <a:latin typeface="Franklin Gothic Book"/>
              </a:rPr>
              <a:t>Портфолио - это набор материалов, демонстрирующих умение учителя решать задачи своей профессиональной деятельности, выбирать стратегию и тактику профессионального поведения и предназначенный для оценки уровня профессионализма учителя.</a:t>
            </a:r>
            <a:endParaRPr b="0" lang="en-US" sz="27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4e3b30"/>
                </a:solidFill>
                <a:latin typeface="Franklin Gothic Book"/>
              </a:rPr>
              <a:t>В переводе с итальянского "портфолио" означает "папка с документами».</a:t>
            </a:r>
            <a:endParaRPr b="0" lang="en-US" sz="27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4e3b30"/>
                </a:solidFill>
                <a:latin typeface="Franklin Gothic Book"/>
              </a:rPr>
              <a:t>Слово "портфолио" не склоняется, а употреблять его можно как в мужском, так и в среднем роде.</a:t>
            </a:r>
            <a:endParaRPr b="0" lang="en-US" sz="27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Заголовок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 u="sng">
                <a:solidFill>
                  <a:srgbClr val="4e3b30"/>
                </a:solidFill>
                <a:uFillTx/>
                <a:latin typeface="Franklin Gothic Book"/>
              </a:rPr>
              <a:t>Портфолио учителя:</a:t>
            </a:r>
            <a:endParaRPr b="0" lang="en-US" sz="15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4e3b30"/>
                </a:solidFill>
                <a:latin typeface="Franklin Gothic Book"/>
              </a:rPr>
              <a:t>Основные сведения</a:t>
            </a:r>
            <a:endParaRPr b="0" lang="en-US" sz="15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4e3b30"/>
                </a:solidFill>
                <a:latin typeface="Franklin Gothic Book"/>
              </a:rPr>
              <a:t>Результаты педагогической деятельности</a:t>
            </a:r>
            <a:endParaRPr b="0" lang="en-US" sz="15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4e3b30"/>
                </a:solidFill>
                <a:latin typeface="Franklin Gothic Book"/>
              </a:rPr>
              <a:t>Внеурочная деятельность</a:t>
            </a:r>
            <a:endParaRPr b="0" lang="en-US" sz="15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4e3b30"/>
                </a:solidFill>
                <a:latin typeface="Franklin Gothic Book"/>
              </a:rPr>
              <a:t>Научно - методическая деятельность</a:t>
            </a:r>
            <a:endParaRPr b="0" lang="en-US" sz="15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 u="sng">
                <a:solidFill>
                  <a:srgbClr val="4e3b30"/>
                </a:solidFill>
                <a:uFillTx/>
                <a:latin typeface="Franklin Gothic Book"/>
              </a:rPr>
              <a:t>Содержание портфолио ученика:</a:t>
            </a:r>
            <a:endParaRPr b="0" lang="en-US" sz="15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4e3b30"/>
                </a:solidFill>
                <a:latin typeface="Franklin Gothic Book"/>
              </a:rPr>
              <a:t>Титульный лист</a:t>
            </a:r>
            <a:endParaRPr b="0" lang="en-US" sz="15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4e3b30"/>
                </a:solidFill>
                <a:latin typeface="Franklin Gothic Book"/>
              </a:rPr>
              <a:t>2. Анкета ученика</a:t>
            </a:r>
            <a:endParaRPr b="0" lang="en-US" sz="15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4e3b30"/>
                </a:solidFill>
                <a:latin typeface="Franklin Gothic Book"/>
              </a:rPr>
              <a:t>3. Лестница успеха</a:t>
            </a:r>
            <a:endParaRPr b="0" lang="en-US" sz="15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4e3b30"/>
                </a:solidFill>
                <a:latin typeface="Franklin Gothic Book"/>
              </a:rPr>
              <a:t>4. Чему я научился на уроках по всем предметам (умения и навыки)</a:t>
            </a:r>
            <a:endParaRPr b="0" lang="en-US" sz="15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4e3b30"/>
                </a:solidFill>
                <a:latin typeface="Franklin Gothic Book"/>
              </a:rPr>
              <a:t>5. Чему Я обязательно научусь на уроках по отдельным предметам (предметные умения)</a:t>
            </a:r>
            <a:endParaRPr b="0" lang="en-US" sz="15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4e3b30"/>
                </a:solidFill>
                <a:latin typeface="Franklin Gothic Book"/>
              </a:rPr>
              <a:t>6. Таблицы требований по предметам.</a:t>
            </a:r>
            <a:endParaRPr b="0" lang="en-US" sz="15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4e3b30"/>
                </a:solidFill>
                <a:latin typeface="Franklin Gothic Book"/>
              </a:rPr>
              <a:t>7. Сведения об успеваемости</a:t>
            </a:r>
            <a:endParaRPr b="0" lang="en-US" sz="15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4e3b30"/>
                </a:solidFill>
                <a:latin typeface="Franklin Gothic Book"/>
              </a:rPr>
              <a:t>8. Творческие работы ученика</a:t>
            </a:r>
            <a:endParaRPr b="0" lang="en-US" sz="15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4e3b30"/>
                </a:solidFill>
                <a:latin typeface="Franklin Gothic Book"/>
              </a:rPr>
              <a:t>9. Перечень представленных творческих работ</a:t>
            </a:r>
            <a:endParaRPr b="0" lang="en-US" sz="15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4e3b30"/>
                </a:solidFill>
                <a:latin typeface="Franklin Gothic Book"/>
              </a:rPr>
              <a:t>10. Дипломы, грамоты, благодарственные письма</a:t>
            </a:r>
            <a:endParaRPr b="0" lang="en-US" sz="15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Заголовок 1" descr=""/>
          <p:cNvPicPr/>
          <p:nvPr/>
        </p:nvPicPr>
        <p:blipFill>
          <a:blip r:embed="rId1"/>
          <a:stretch/>
        </p:blipFill>
        <p:spPr>
          <a:xfrm>
            <a:off x="298440" y="-73080"/>
            <a:ext cx="8437680" cy="168912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4e3b30"/>
                </a:solidFill>
                <a:latin typeface="Franklin Gothic Book"/>
              </a:rPr>
              <a:t>Сжатое изложение проверяет:</a:t>
            </a:r>
            <a:endParaRPr b="0" lang="en-US" sz="27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4e3b30"/>
                </a:solidFill>
                <a:latin typeface="Franklin Gothic Book"/>
              </a:rPr>
              <a:t>1) умение   слушать,   то   есть   адекватно   воспринимать информацию, содержащуюся в прослушанном тексте;</a:t>
            </a:r>
            <a:endParaRPr b="0" lang="en-US" sz="27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4e3b30"/>
                </a:solidFill>
                <a:latin typeface="Franklin Gothic Book"/>
              </a:rPr>
              <a:t>2) умение     обрабатывать     воспринятую     информацию, выделяя в ней главное;</a:t>
            </a:r>
            <a:endParaRPr b="0" lang="en-US" sz="27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4e3b30"/>
                </a:solidFill>
                <a:latin typeface="Franklin Gothic Book"/>
              </a:rPr>
              <a:t>3)  письменно       передавать       обработанную информацию.</a:t>
            </a:r>
            <a:endParaRPr b="0" lang="en-US" sz="27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4e3b30"/>
                </a:solidFill>
                <a:latin typeface="Franklin Gothic Book"/>
              </a:rPr>
              <a:t>Проверка   этих   трёх   основных   умений   легла   в   основу   системы критериев оценивания изложения.</a:t>
            </a:r>
            <a:br>
              <a:rPr sz="2700"/>
            </a:br>
            <a:r>
              <a:rPr b="0" lang="ru-RU" sz="2700" spc="-1" strike="noStrike">
                <a:solidFill>
                  <a:srgbClr val="4e3b30"/>
                </a:solidFill>
                <a:latin typeface="Franklin Gothic Book"/>
              </a:rPr>
              <a:t> </a:t>
            </a:r>
            <a:endParaRPr b="0" lang="en-US" sz="27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7" name=""/>
          <p:cNvGraphicFramePr/>
          <p:nvPr/>
        </p:nvGraphicFramePr>
        <p:xfrm>
          <a:off x="-71280" y="0"/>
          <a:ext cx="9215280" cy="6924600"/>
        </p:xfrm>
        <a:graphic>
          <a:graphicData uri="http://schemas.openxmlformats.org/drawingml/2006/table">
            <a:tbl>
              <a:tblPr/>
              <a:tblGrid>
                <a:gridCol w="865080"/>
                <a:gridCol w="7223040"/>
                <a:gridCol w="1127160"/>
              </a:tblGrid>
              <a:tr h="655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ритерии оценивания изложения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</a:tr>
              <a:tr h="655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К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держание изложения (см. таблицу 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лл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</a:tr>
              <a:tr h="863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кзаменуемый передал основное содержание прослушанного текста, отразив все важные для его восприятия микротемы, перечисленные в таблиц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</a:tr>
              <a:tr h="304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К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жатие исходного текс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</a:tr>
              <a:tr h="1646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кзаменуемый правильно применил не менее 2 разных приёмов сжатия текс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исключение, обобщение, упрощение) и использовал их для сжатия не менее 3 микротем текста, или экзаменуемый правильно применил 3 приём сжатия, использовав его на протяжении всего текс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</a:tr>
              <a:tr h="655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К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мысловая цельность, речевая связность и последовательность излож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</a:tr>
              <a:tr h="1487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бота экзаменуемого характеризуется смысловой цельностью, речевой связностью и последовательностью изложения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логические ошибки отсутствуют, последовательность изложения не  нарушена; - в работе нет нарушении абзацного членения текс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</a:tr>
              <a:tr h="655560"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ксимальное количество баллов за сжатое изложение по критериям ИК1-НК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 txBox="1"/>
          <p:nvPr/>
        </p:nvSpPr>
        <p:spPr>
          <a:xfrm>
            <a:off x="214200" y="1600200"/>
            <a:ext cx="4786560" cy="48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e3b30"/>
                </a:solidFill>
                <a:latin typeface="Franklin Gothic Book"/>
              </a:rPr>
              <a:t>На уроке истории. Внима­тельно рассмотрите рисунок и на его основе постройте рассуждение на тему «Вывоз сукна и шерсти из Англии». Вам нужно объяснить, почему увеличился вывоз сукна и сократился вывоз шерсти. Какому стилю речи должно соответство­вать ваше сообщение?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09" name="Picture 5" descr="C:\Documents and Settings\Учащийся\Рабочий стол\сканы\Изображение 013.jpg"/>
          <p:cNvPicPr/>
          <p:nvPr/>
        </p:nvPicPr>
        <p:blipFill>
          <a:blip r:embed="rId1"/>
          <a:stretch/>
        </p:blipFill>
        <p:spPr>
          <a:xfrm>
            <a:off x="5143680" y="1785960"/>
            <a:ext cx="3657600" cy="2670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Заголовок 1" descr=""/>
          <p:cNvPicPr/>
          <p:nvPr/>
        </p:nvPicPr>
        <p:blipFill>
          <a:blip r:embed="rId1"/>
          <a:stretch/>
        </p:blipFill>
        <p:spPr>
          <a:xfrm>
            <a:off x="195120" y="-128520"/>
            <a:ext cx="8863200" cy="184788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 txBox="1"/>
          <p:nvPr/>
        </p:nvSpPr>
        <p:spPr>
          <a:xfrm>
            <a:off x="214200" y="1553760"/>
            <a:ext cx="87775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01680" indent="-30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e3b30"/>
                </a:solidFill>
                <a:latin typeface="Franklin Gothic Book"/>
              </a:rPr>
              <a:t>Самым молодым главнокомандующим, который когда-либо водил армию в сражение был трехмесячный герцог Говард </a:t>
            </a:r>
            <a:r>
              <a:rPr b="1" lang="en-US" sz="2200" spc="-1" strike="noStrike">
                <a:solidFill>
                  <a:srgbClr val="4e3b30"/>
                </a:solidFill>
                <a:latin typeface="Franklin Gothic Book"/>
              </a:rPr>
              <a:t>III</a:t>
            </a:r>
            <a:r>
              <a:rPr b="1" lang="ru-RU" sz="2200" spc="-1" strike="noStrike">
                <a:solidFill>
                  <a:srgbClr val="4e3b30"/>
                </a:solidFill>
                <a:latin typeface="Franklin Gothic Book"/>
              </a:rPr>
              <a:t> Брабантский (Бельгия). Ему всего было 90 дней, когда он унаследовал от отца престол и стал главнокомандующим армией. 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01680" indent="-30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01680" indent="-30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e3b30"/>
                </a:solidFill>
                <a:latin typeface="Franklin Gothic Book"/>
              </a:rPr>
              <a:t>Началась война. Герцог должен был вести армию в сражение. Его положили в колыбель, привязанную к двум деревьям вдалеке от места сражения. Таким образом, герцог лично присутствовал на поле боя, и победа, одержанная в тот день, был приписана ему.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01680" indent="-30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01680" indent="-30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e3b30"/>
                </a:solidFill>
                <a:latin typeface="Franklin Gothic Book"/>
              </a:rPr>
              <a:t>На протяжении 48 лет царствования он носил звание «Храброго». Правда, остались свидетельства, что иногда современники называли его менее почтительно – «герцогом из колыбели».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Заголовок 1" descr=""/>
          <p:cNvPicPr/>
          <p:nvPr/>
        </p:nvPicPr>
        <p:blipFill>
          <a:blip r:embed="rId1"/>
          <a:stretch/>
        </p:blipFill>
        <p:spPr>
          <a:xfrm>
            <a:off x="212760" y="285840"/>
            <a:ext cx="8785080" cy="1030320"/>
          </a:xfrm>
          <a:prstGeom prst="rect">
            <a:avLst/>
          </a:prstGeom>
          <a:ln w="0">
            <a:noFill/>
          </a:ln>
        </p:spPr>
      </p:pic>
      <p:sp>
        <p:nvSpPr>
          <p:cNvPr id="413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e3b30"/>
                </a:solidFill>
                <a:latin typeface="Franklin Gothic Book"/>
              </a:rPr>
              <a:t>В различных уголках земного шара в пищу используют землю, точнее глину. Некоторые сибиряки, например, с удовольствием ели лакомства, приготовленные из каолина (вид глины и оленьего молока). На базарах наших южных соседей – иранцев продают съедобную глину, жирную белую мас­су наподобие халвы. В свое время в Италии было очень распро­странено кушанье «алика» смесь пшеницы и мергеля, добывае­мого около Неаполя. Жители Сенегала любят употреблять в пи­щу зеленоватую глину. Характерно, что американские негры, предки которых были вывезены из Сенегала, не забыли люби­мого лакомства и на новой родине. 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e3b30"/>
                </a:solidFill>
                <a:latin typeface="Franklin Gothic Book"/>
              </a:rPr>
              <a:t> 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e3b30"/>
                </a:solidFill>
                <a:latin typeface="Franklin Gothic Book"/>
              </a:rPr>
              <a:t>В августе 1689 года Пётр получил известие о готовящемся в пользу Софьи перевороте, в ходе которого  стрельцы  якобы хотели его убить.  Он срочно покинул Преображенское и выехал в хорошо укреплённую Троице-Сергиеву лавру. К этому времени Пётр уже достиг совершеннолетия и мог быть самостоятельным правителем. Поэтому, чувствуя за ним силу, в лавру потянулись бояре, дворяне, военные, ранее поддерживавшие Софью.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4e3b30"/>
                </a:solidFill>
                <a:latin typeface="Franklin Gothic Book"/>
              </a:rPr>
              <a:t> 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4e3b30"/>
                </a:solidFill>
                <a:latin typeface="Franklin Gothic Book"/>
              </a:rPr>
              <a:t>Задания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e3b30"/>
                </a:solidFill>
                <a:latin typeface="Franklin Gothic Book"/>
              </a:rPr>
              <a:t>Определите, какой вид связи предложений в данном тексте.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e3b30"/>
                </a:solidFill>
                <a:latin typeface="Franklin Gothic Book"/>
              </a:rPr>
              <a:t>Составьте схему связи предложения.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e3b30"/>
                </a:solidFill>
                <a:latin typeface="Franklin Gothic Book"/>
              </a:rPr>
              <a:t> 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e3b30"/>
                </a:solidFill>
                <a:latin typeface="Franklin Gothic Book"/>
              </a:rPr>
              <a:t>Вдовиченко Даниил 7В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SS10</cp:lastModifiedBy>
  <dcterms:modified xsi:type="dcterms:W3CDTF">2010-01-26T11:23:13Z</dcterms:modified>
  <cp:revision>10</cp:revision>
  <dc:subject/>
  <dc:title>Слайд 1</dc:title>
</cp:coreProperties>
</file>