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gif" ContentType="image/gif"/>
  <Override PartName="/ppt/media/image2.jpeg" ContentType="image/jpeg"/>
  <Override PartName="/ppt/media/image4.png" ContentType="image/png"/>
  <Override PartName="/ppt/media/image8.jpeg" ContentType="image/jpeg"/>
  <Override PartName="/ppt/media/image7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C9A5-2B3D-4F45-B8A2-85DE079710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BCA7-0D7E-42BF-95F2-99ED08B66FC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3953-1065-41AF-8F88-1B22F089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D7C8-0DE2-4020-B9E3-4C229B56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46A6-C2A2-41B4-A3A0-DDE276B2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7E87-AF71-41B0-9D10-82218CDB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98BF-E120-4FCC-BF71-D9F98C7A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2825-041D-4E26-B7E9-6F6230F1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A213-4CF6-48F4-AA4A-B43A66B2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61F2-5E6E-4884-81E2-D49F3D69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0798-0A9E-45F7-9A26-9337CFDC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972D-73D0-4743-B3A3-777A0DEB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C844-D0D7-4ED8-A420-8EC55222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B04B-3665-40D2-ABA9-F331B119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7308-A780-431C-85D6-46D4DCF4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C39B-89A7-46A2-A401-3215B188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912F-D2B1-439A-8FFE-27223BC1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F006-BBD8-4C45-8BCB-A6A8DE04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D32F-1A34-4397-8A03-4BAB7634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B4BD-D69D-45D7-B10F-5FB4B056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3F9F-F59D-4640-9AAB-ED5DF2DA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EB62-1127-450D-930E-C2331049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EA19-3518-4DAE-98A3-64C141F7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5B92-043A-490B-94A2-AB4FC167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8CAE-E4CD-4FC4-8160-C6A86EC0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0071-3EE3-4E38-BECA-F4A83CEB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87A7-9000-463D-B39E-0E68E8365E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F3B8-7450-4AE5-9CBF-E35EB4CABE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drevo.pravbeseda.ru/index.php?title=&#1050;&#1040;&#1051;&#1051;&#1048;&#1052;&#1040;&#1061;" TargetMode="External"/><Relationship Id="rId3" Type="http://schemas.openxmlformats.org/officeDocument/2006/relationships/hyperlink" Target="http://drevo.pravbeseda.ru/index.php?title=&#1060;&#1045;&#1054;&#1050;&#1056;&#1048;&#1058;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Arial"/>
              </a:rPr>
              <a:t>История Древнего Мира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Arial"/>
              </a:rPr>
              <a:t>5 класс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Garamond"/>
              </a:rPr>
              <a:t>В АЛЕКСАНДРИИ ЕГИПЕТСКОЙ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Garamond"/>
              </a:rPr>
              <a:t>МБОУ СОШ № 1 Тетюш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имнасий (гр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. gymnasion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учебно-воспитательное учреждение для знатных юношей, которые обучались политике, философии и литературе, одновременно занимаясь гимнастик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ртик (лат.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orticus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рхитектурное перекрытие, поддерживаемое колоннадой или аркадой, образующее выступающую часть здания, часто оформляет главный вх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упнейшим культурным и торговым центром для всего Восточного Средиземноморья стала столица Египетского царства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Александ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alexandria"/>
          <p:cNvPicPr/>
          <p:nvPr/>
        </p:nvPicPr>
        <p:blipFill>
          <a:blip r:embed="rId1"/>
          <a:stretch/>
        </p:blipFill>
        <p:spPr>
          <a:xfrm>
            <a:off x="1979640" y="2349360"/>
            <a:ext cx="5184720" cy="388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842920" y="6165360"/>
            <a:ext cx="3600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Александрия. Современное фото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ким образом, после смерти Александра Македонского, на месте его державы возникали множество самостоятельных государств со своими царями. Самым крупным считалась столица Египетского царства Александр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314136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2. В александрийском порт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19280" y="6092640"/>
            <a:ext cx="59040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ые корабли, прибывающие в Александр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fort-i-port"/>
          <p:cNvPicPr/>
          <p:nvPr/>
        </p:nvPicPr>
        <p:blipFill>
          <a:blip r:embed="rId1"/>
          <a:stretch/>
        </p:blipFill>
        <p:spPr>
          <a:xfrm>
            <a:off x="755640" y="260280"/>
            <a:ext cx="7682040" cy="5762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890720" y="1895400"/>
            <a:ext cx="536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640" y="2349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Знаете ли вы, что тако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Фаросский маяк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Недалеко от Большой пристани, у правого ее входа, располагался остров со стоящим на нем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Фаросским маяком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. </a:t>
            </a:r>
            <a:br>
              <a:rPr sz="24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76360" y="6237000"/>
            <a:ext cx="28033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росский мая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lighthou"/>
          <p:cNvPicPr/>
          <p:nvPr/>
        </p:nvPicPr>
        <p:blipFill>
          <a:blip r:embed="rId1"/>
          <a:stretch/>
        </p:blipFill>
        <p:spPr>
          <a:xfrm>
            <a:off x="1403280" y="1773360"/>
            <a:ext cx="6050160" cy="4502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ряки уже издали видели этот огромный маяк, даже не взирая на непогоду и тьму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001"/>
          <p:cNvPicPr/>
          <p:nvPr/>
        </p:nvPicPr>
        <p:blipFill>
          <a:blip r:embed="rId1"/>
          <a:stretch/>
        </p:blipFill>
        <p:spPr>
          <a:xfrm>
            <a:off x="2627280" y="1484280"/>
            <a:ext cx="3816360" cy="5064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Снабженный всеми техническими достижениями того времени, Фаросский маяк возвышался на высоте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150 метров!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верхней платформе маяка, под куполом, горел огонь, сияние которого усиливалось зеркалами из полированного гранита так, что его видели на расстоянии 90 километр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огда моряки признавали его даже за новую звезд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may"/>
          <p:cNvPicPr/>
          <p:nvPr/>
        </p:nvPicPr>
        <p:blipFill>
          <a:blip r:embed="rId1"/>
          <a:stretch/>
        </p:blipFill>
        <p:spPr>
          <a:xfrm>
            <a:off x="4859280" y="1413000"/>
            <a:ext cx="3679920" cy="518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8" name="Line 10"/>
          <p:cNvSpPr/>
          <p:nvPr/>
        </p:nvSpPr>
        <p:spPr>
          <a:xfrm flipV="1">
            <a:off x="3924360" y="2420640"/>
            <a:ext cx="2376360" cy="2879640"/>
          </a:xfrm>
          <a:prstGeom prst="line">
            <a:avLst/>
          </a:prstGeom>
          <a:ln w="7920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11"/>
          <p:cNvSpPr/>
          <p:nvPr/>
        </p:nvSpPr>
        <p:spPr>
          <a:xfrm flipH="1" flipV="1">
            <a:off x="2916360" y="4365360"/>
            <a:ext cx="1008000" cy="934920"/>
          </a:xfrm>
          <a:prstGeom prst="line">
            <a:avLst/>
          </a:prstGeom>
          <a:ln w="792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Александрия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211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76360" y="6469200"/>
            <a:ext cx="2819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лександрия Египетска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лан уро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пад державы Александра Македонск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александрийском порт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улицах и площад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александрийском музе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востока город соединялся каналом с Нильской дельтой, а через нее - с остальным Египт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не городской стены располагался некрополь, впоследствии превращенный в христианское кладбищ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еверо-восточной части Александрии предположительно находился еврейский квартал, который был отделен стеной от ипподро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арском квартале, по-видимому, находились дворцы Птолемеев, окруженные садами, гробницы Александра Великого и Птолемеев, Мусейон с библиотек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ТОРГОВЛ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11280" y="1052640"/>
            <a:ext cx="3240000" cy="15112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ИМПОР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292720" y="981000"/>
            <a:ext cx="3240000" cy="151128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ЭКСПОР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2050920" y="2205000"/>
            <a:ext cx="486000" cy="1513080"/>
          </a:xfrm>
          <a:prstGeom prst="downArrow">
            <a:avLst>
              <a:gd name="adj1" fmla="val 50000"/>
              <a:gd name="adj2" fmla="val 77833"/>
            </a:avLst>
          </a:prstGeom>
          <a:solidFill>
            <a:srgbClr val="ff00ff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6732720" y="2133720"/>
            <a:ext cx="485640" cy="1512720"/>
          </a:xfrm>
          <a:prstGeom prst="downArrow">
            <a:avLst>
              <a:gd name="adj1" fmla="val 50000"/>
              <a:gd name="adj2" fmla="val 77872"/>
            </a:avLst>
          </a:prstGeom>
          <a:solidFill>
            <a:srgbClr val="ff00ff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39640" y="4005360"/>
            <a:ext cx="3527640" cy="2872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древес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39640" y="4581360"/>
            <a:ext cx="3527640" cy="28764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серебр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39640" y="5084640"/>
            <a:ext cx="3527640" cy="28764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шерсть, выкрашенная пурпур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539640" y="5661000"/>
            <a:ext cx="3527640" cy="2872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дорогие в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5219640" y="4005360"/>
            <a:ext cx="3527640" cy="2872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зер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219640" y="4508640"/>
            <a:ext cx="3527640" cy="2872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папиру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219640" y="5084640"/>
            <a:ext cx="3527640" cy="28764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слоновую к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5219640" y="5661000"/>
            <a:ext cx="3527640" cy="2872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тончайшие льнные тка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219640" y="6165720"/>
            <a:ext cx="3527640" cy="28764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изделия из стекл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Подумайте, что обуславливало подобную торговлю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Рядом с гаванью расположен царский дворец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87280" y="6237360"/>
            <a:ext cx="353844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арский дворец в Александр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6" descr="http://i075.radikal.ru/1104/ce/31e14d218282.jpg"/>
          <p:cNvPicPr/>
          <p:nvPr/>
        </p:nvPicPr>
        <p:blipFill>
          <a:blip r:embed="rId1"/>
          <a:stretch/>
        </p:blipFill>
        <p:spPr>
          <a:xfrm>
            <a:off x="1187280" y="981000"/>
            <a:ext cx="6721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ким образом, Александрия была одним из самых крупных торговых центров Восточного Средиземноморья. А ее главное достопримечательностью по праву считается Фаросский мая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9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3. На улицах и площадя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Александрия была выстроена по единому плану, ее улицы пересекались под прямыми углам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4" descr="Безымянный"/>
          <p:cNvPicPr/>
          <p:nvPr/>
        </p:nvPicPr>
        <p:blipFill>
          <a:blip r:embed="rId1"/>
          <a:stretch/>
        </p:blipFill>
        <p:spPr>
          <a:xfrm>
            <a:off x="1908000" y="1125360"/>
            <a:ext cx="5216760" cy="521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80000" y="6308640"/>
            <a:ext cx="22428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лан Александр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723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ород с востока на запад пересекала центральная улица шириной 30 метров, которая под прямым углом перекрещивалась с другой улицей, идущей с севера на ю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723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ередине ее были высажены деревья, которые разделяли дорогу как бы на две ча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723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лицы в Александрии имели названия, в основном они носили культовые или царские имена, например, «улица Арсинои II» (жены Птолемея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ким образом, Александрия - типично эллинистический город, который имел около 5 километров в длину и чуть больше одного километра в ширин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4. В Александрийском музе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Цели урока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Образовательная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учиться выявлять особенности распада державы Александра Македонского, узнать главные достопримечательности Александрии, понять, что из себя представляли александрийский порт, муз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Развивающая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развить умение работать с картой, иллюстрациями, выявлять причинно-следственные связи, умение анализировать, сравни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упнейшим центром науки был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Музей (Мусейон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ей – это слово означало «место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де обитают музы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4" descr="museum4_164_02"/>
          <p:cNvPicPr/>
          <p:nvPr/>
        </p:nvPicPr>
        <p:blipFill>
          <a:blip r:embed="rId1"/>
          <a:stretch/>
        </p:blipFill>
        <p:spPr>
          <a:xfrm>
            <a:off x="2771640" y="1989000"/>
            <a:ext cx="3524400" cy="4708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640" y="227664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Как вы думаете, в каких областях науки велись исследования в Александрийском музее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узее вели исследования в различных областях наук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илологи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строноми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еографи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тематик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таник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оологи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диц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исали свои труды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нователь александрийской школы грамматиков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Каллим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и поэт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Феокрит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ханик и изобретатель Архимед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тематики Евклид и Аполлоний из Перг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рхитектор Александрийского маяка Сострат из Книд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нователь географии Эратосфен из Кирены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тель гелиоцентрической системы Аристарх Самосский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лософ-стоик Посидоний Апамейский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расистрат из Кеоса, разработавший основы физиолог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1280" y="2781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О каких из этих ученых в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что-либо известно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76360" y="6308280"/>
            <a:ext cx="281916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лександрийский муз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Garamond"/>
              </a:rPr>
              <a:t>При музее находилась Александрийская библиотека, созданная по инициативе философа и государственного деятеля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Деметрия Фалерского</a:t>
            </a:r>
            <a:r>
              <a:rPr b="0" lang="ru-RU" sz="3200" spc="-1" strike="noStrike">
                <a:solidFill>
                  <a:srgbClr val="66ff33"/>
                </a:solidFill>
                <a:latin typeface="Garamond"/>
              </a:rPr>
              <a:t>, в которой к I веку до Р. Х. хранилось около 700 тысяч рукописных том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640" y="6308640"/>
            <a:ext cx="296208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Библиотека в Александрии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4" descr="AlexLib"/>
          <p:cNvPicPr/>
          <p:nvPr/>
        </p:nvPicPr>
        <p:blipFill>
          <a:blip r:embed="rId1"/>
          <a:stretch/>
        </p:blipFill>
        <p:spPr>
          <a:xfrm>
            <a:off x="1547640" y="260280"/>
            <a:ext cx="612144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16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воначальная структура библиотеки была разработана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Деметрием Фалерским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хорошо знакомым с устройством библиотеки в Афин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16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музей, и библиотека были своего рода учебно-научными учреждениями, во главе которых стоял верховный жрец, и находились на полном  содержании египетских цар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16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блиотека в основном была греческой, но, по  сообщениям античных авторов, включала также греческие переводы с  других язы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http://media.kunst-fuer-alle.de/img/41/m/41_00385358~ptolemaeus-ii--philadelphus-gruendet-die-alexandrinische-bibliothek.jpg"/>
          <p:cNvPicPr/>
          <p:nvPr/>
        </p:nvPicPr>
        <p:blipFill>
          <a:blip r:embed="rId1"/>
          <a:stretch/>
        </p:blipFill>
        <p:spPr>
          <a:xfrm>
            <a:off x="1476360" y="765000"/>
            <a:ext cx="6120000" cy="4873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1476360" y="5732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Vincenzo Camuccini (1771-1844). Птолемей II изучает свиток папируса. Александрийская библиотек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сновные понятия уро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сточное Средиземноморь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тров Фа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росский мая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удеса све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лександрийская библиот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дательская программа библиотеки предусматривала переписывание, подробное филологическое комментирование сочинений греческих авторов, разделение произведений на секции, которые мы сейчас называем «книгами» (возможно, для обеспечения стандартной длины свитков), и последовательное введение систем пунктуации и акцентуации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ким образом, крупнейшим центром науки в Александрии был Музей, который занимал целый район и при нем находилась знаменитая Александрийская библиот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Закрепление пройденного материал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 повлекло за собой распад державы Александра Македонског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ие государства образовывались на месте державы Александр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 из себя представлял Александрийский порт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какому принципу располагались улицы и площади в Александрии Египетской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овы особенности александрийского музея и библиотек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43, вопрос 3 письмен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ть раздел «Древняя Греци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5"/>
          <p:cNvSpPr/>
          <p:nvPr/>
        </p:nvSpPr>
        <p:spPr>
          <a:xfrm>
            <a:off x="32400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upload.wikimedia.org/wikipedia/commons/thumb/6/62/Bust_Alexander_BM_1857.jpg/280px-Bust_Alexander_BM_1857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2932920" y="4046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нтернет-ресурс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250920" y="17733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travel-4.ru/wp-content/uploads/2010/07/alexandria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250920" y="2060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travels.co.ua/images/egipet/aleksandriya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250920" y="2349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moikompas.ru/img/compas/2008-03-01/aleksandriiskiimayak/64344229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-119520" y="2637000"/>
            <a:ext cx="53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raskraska.com/catalog0001/3066.gi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250920" y="29242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koryazhma.ru/usefull/know/pic/40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Прямоугольник 10"/>
          <p:cNvSpPr/>
          <p:nvPr/>
        </p:nvSpPr>
        <p:spPr>
          <a:xfrm>
            <a:off x="250920" y="3284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liveinternet.ru/tags/%C0%EB%E5%EA%F1%E0%ED%E4%F0%E8%FF/page3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Прямоугольник 12"/>
          <p:cNvSpPr/>
          <p:nvPr/>
        </p:nvSpPr>
        <p:spPr>
          <a:xfrm>
            <a:off x="152280" y="386064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ais.by/story/99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250920" y="4149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s3-eu-west-1.amazonaws.com/youroute-media/system/photos/images/000/030/989/ff55ddc4fd2926c537d849a60b253432a7a28143_show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Прямоугольник 14"/>
          <p:cNvSpPr/>
          <p:nvPr/>
        </p:nvSpPr>
        <p:spPr>
          <a:xfrm>
            <a:off x="250920" y="494172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turometr.ru/place/%D0%90%D0%BB%D0%B5%D0%BA%D1%81%D0%B0%D0%BD%D0%B4%D1%80%D0%B8%D0%B9%D1%81%D0%BA%D0%B0%D1%8F%20%D0%B1%D0%B8%D0%B1%D0%BB%D0%B8%D0%BE%D1%82%D0%B5%D0%BA%D0%B0_19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Прямоугольник 15"/>
          <p:cNvSpPr/>
          <p:nvPr/>
        </p:nvSpPr>
        <p:spPr>
          <a:xfrm>
            <a:off x="250920" y="602136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bubligum9000.livejournal.com/36420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76309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1. Распад державы Александра Македонског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2708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Вспомните, что вам известно об Александре Македонском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После смерти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Александра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 македонские полководцы стали делить земли, входившие в созданную им державу.</a:t>
            </a:r>
            <a:br>
              <a:rPr sz="24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87640" y="6165360"/>
            <a:ext cx="332280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лександр Македонск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28083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На месте державы Александра возникло сразу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несколько государств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Главные из них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4"/>
          <p:cNvSpPr/>
          <p:nvPr/>
        </p:nvSpPr>
        <p:spPr>
          <a:xfrm rot="10800000">
            <a:off x="2339640" y="2349360"/>
            <a:ext cx="885960" cy="1656000"/>
          </a:xfrm>
          <a:prstGeom prst="pie">
            <a:avLst/>
          </a:prstGeom>
          <a:solidFill>
            <a:srgbClr val="cc33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6"/>
          <p:cNvSpPr/>
          <p:nvPr/>
        </p:nvSpPr>
        <p:spPr>
          <a:xfrm rot="10800000">
            <a:off x="4211640" y="2349360"/>
            <a:ext cx="719280" cy="2448000"/>
          </a:xfrm>
          <a:prstGeom prst="upArrow">
            <a:avLst>
              <a:gd name="adj1" fmla="val 50000"/>
              <a:gd name="adj2" fmla="val 85085"/>
            </a:avLst>
          </a:prstGeom>
          <a:solidFill>
            <a:srgbClr val="cc33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9"/>
          <p:cNvSpPr/>
          <p:nvPr/>
        </p:nvSpPr>
        <p:spPr>
          <a:xfrm flipH="1" rot="10800000">
            <a:off x="5796000" y="2349360"/>
            <a:ext cx="936720" cy="1656000"/>
          </a:xfrm>
          <a:prstGeom prst="pie">
            <a:avLst/>
          </a:prstGeom>
          <a:solidFill>
            <a:srgbClr val="cc33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324000" y="3573360"/>
            <a:ext cx="2016000" cy="129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"/>
              </a:rPr>
              <a:t>ЕГИПЕТСКО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3564000" y="5013360"/>
            <a:ext cx="2016000" cy="12952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"/>
              </a:rPr>
              <a:t>МАКЕДОНСКО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6732720" y="3716280"/>
            <a:ext cx="2016000" cy="12952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"/>
              </a:rPr>
              <a:t>СИРИЙСКО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их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сударствах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еначальники провозглашали себя царям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ывали города, в которых поселяли македонских воинов и греков-переселенц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оили театры, гимнасии, порт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2:47:42Z</dcterms:created>
  <dc:creator>User</dc:creator>
  <dc:description/>
  <dc:language>en-US</dc:language>
  <cp:lastModifiedBy>Admin</cp:lastModifiedBy>
  <dcterms:modified xsi:type="dcterms:W3CDTF">2013-03-13T15:59:05Z</dcterms:modified>
  <cp:revision>45</cp:revision>
  <dc:subject/>
  <dc:title>ТЕМА</dc:title>
</cp:coreProperties>
</file>