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1BF1-B66F-453F-A324-8EDBD4C0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774A-CAF4-438D-9D35-2825D15D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F659-5E38-4F85-BB6B-5C1DEB7D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602E-9B14-46C7-87F9-18882B8A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B3A-5BF0-466F-9816-FC7A953C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305-4108-448E-B0ED-CF0D94E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AF84-5E5C-4BF5-86D0-4A824DB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EEE-7D89-47BB-BF62-D29519D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C8B4-D4C2-4244-9087-56CAE847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FDF-36CB-42BB-A9E4-FA3E3D3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02E6-AE0A-4DA9-8605-DE69803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7928-6582-4AD8-8D8A-6E83F630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452B-DCFB-4F57-92A4-DDFD5F8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7F90-DE50-4749-ABF2-3873166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FE2-14DE-4349-833C-59376739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B67C-E4B8-4B91-B23E-9EA9BC0D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6FE6-6478-4541-BC1D-ABDD620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A938-1134-4F7D-BA02-08017BF1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3BEC-4AF8-47EF-A5A7-0FB89995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C58A-561D-4397-8F7D-26EEC6C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8C4E-54BF-4817-AAB6-007F7D1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C3D7-90C2-454A-BE64-2DA5540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19C0-1329-4C49-9BEF-77F15CC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37BD-3DAB-4F9D-B31D-7A30F52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716-2F50-4086-BE71-2240F1B58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1C6-53FA-4384-93E0-C887916E9A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Воспитательные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результаты и эффекты внеурочной деятельности школьн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81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167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68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69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1052640"/>
          <a:ext cx="8497800" cy="5600520"/>
        </p:xfrm>
        <a:graphic>
          <a:graphicData uri="http://schemas.openxmlformats.org/drawingml/2006/table">
            <a:tbl>
              <a:tblPr/>
              <a:tblGrid>
                <a:gridCol w="2122560"/>
                <a:gridCol w="2124000"/>
                <a:gridCol w="2125440"/>
                <a:gridCol w="2125800"/>
              </a:tblGrid>
              <a:tr h="20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484280"/>
          <a:ext cx="8353440" cy="451008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Line 88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89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Line 90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413000"/>
          <a:ext cx="8282160" cy="506088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70000"/>
                <a:gridCol w="2071800"/>
              </a:tblGrid>
              <a:tr h="203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91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92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93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13000"/>
          <a:ext cx="8569080" cy="457488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94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95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197000"/>
          <a:ext cx="8353440" cy="53276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89440"/>
                <a:gridCol w="208908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Line 97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Line 98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Line 99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9280" y="1125360"/>
          <a:ext cx="8785440" cy="5161320"/>
        </p:xfrm>
        <a:graphic>
          <a:graphicData uri="http://schemas.openxmlformats.org/drawingml/2006/table">
            <a:tbl>
              <a:tblPr/>
              <a:tblGrid>
                <a:gridCol w="2376720"/>
                <a:gridCol w="2197080"/>
                <a:gridCol w="2014560"/>
                <a:gridCol w="219708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Line 100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Line 101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Line 102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1268280"/>
          <a:ext cx="8280360" cy="522612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1800"/>
                <a:gridCol w="2070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4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103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Line 104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Line 105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95280" y="1268280"/>
          <a:ext cx="8353440" cy="5167440"/>
        </p:xfrm>
        <a:graphic>
          <a:graphicData uri="http://schemas.openxmlformats.org/drawingml/2006/table">
            <a:tbl>
              <a:tblPr/>
              <a:tblGrid>
                <a:gridCol w="2085840"/>
                <a:gridCol w="2089440"/>
                <a:gridCol w="2089080"/>
                <a:gridCol w="2089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 Туристско-краеведче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мплексные образовательные програм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ематические образовательные програм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бразовательная программа, обеспечивающая 1-й уровень результатов; образовательная программа, обеспечивающая 1-й и 2-й уровни результатов; образовательная программа, обеспечивающая 2-й и 3-й уровни результатов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1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2 – 3-го класса – образовательная программа, формирующая ценностное отношение к социальной реальност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иды внеурочной деятельност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а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блемно-ценностное общени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озрастные образовательные программы 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 образовательные программы для учащих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Результаты и эффект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зульта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это то, что стало непосредственным итогом участия школьника в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, школьник, пройдя туристический маршрут, не только переместился в пространстве из одной географической точки в другую, преодолел сложности пути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фактический результат)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о и приобрел некое знание о себе и окружающих, пережил и прочувствовал нечто как ценность, приобрел опыт самостоятельного действия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воспитательный результат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Эффект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это последствие результата; то, к чему привело достижение результа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спитательные результаты и эффект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388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риобретение школьником социальных знани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б общественных нормах, об устройстве общества, о социально одобряемых и неодобряемых формах поведения в обществе и т.п.)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ервичного понимания социальной реальности и повседневной жиз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4897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38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3645000" y="1628640"/>
            <a:ext cx="5319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15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11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1"/>
          <p:cNvSpPr/>
          <p:nvPr/>
        </p:nvSpPr>
        <p:spPr>
          <a:xfrm>
            <a:off x="2195640" y="2852640"/>
            <a:ext cx="4475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3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2700360" y="4292640"/>
            <a:ext cx="4619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1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556000" y="3573360"/>
            <a:ext cx="447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2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Line 132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33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134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8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218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219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220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1268280"/>
          <a:ext cx="8208720" cy="5040360"/>
        </p:xfrm>
        <a:graphic>
          <a:graphicData uri="http://schemas.openxmlformats.org/drawingml/2006/table">
            <a:tbl>
              <a:tblPr/>
              <a:tblGrid>
                <a:gridCol w="2050920"/>
                <a:gridCol w="2052720"/>
                <a:gridCol w="2052720"/>
                <a:gridCol w="2052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Игр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гра с ролевой акцентуац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гра с деловой акцентуац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7:00:22Z</dcterms:created>
  <dc:creator>M&amp;Ms</dc:creator>
  <dc:description/>
  <dc:language>en-US</dc:language>
  <cp:lastModifiedBy>12</cp:lastModifiedBy>
  <dcterms:modified xsi:type="dcterms:W3CDTF">2015-01-30T15:54:20Z</dcterms:modified>
  <cp:revision>48</cp:revision>
  <dc:subject/>
  <dc:title>Слайд 1</dc:title>
</cp:coreProperties>
</file>