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FE6A-7656-4ADE-B94E-539E5C3A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514C9-D90F-46AC-854C-A5967C55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A9D1F-BD59-4039-AF98-6A3F8EF5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ABC4B-B741-4DA2-A216-749CCE4C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EB5E-7939-4CD2-AF89-3AD2AD27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AE79-BDC9-470E-92FE-C255D85C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5E4F-9258-48BA-BD6F-8C71AE54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BFE9-FF47-4C90-A7F9-A4DFA51C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94C4-8D22-4D2F-BFC4-79590E8E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8B36-0754-417B-811E-874CE178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DE93-8376-42E5-82A0-50DA5AE1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D05D8-C453-4723-B07F-E66B6DEC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9B44-8F0B-4842-AEDC-5E047C1E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71E3-AD50-4CF7-956E-54433579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D9BE-2BF7-49B7-A276-7901D729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CD5F-2E84-40E5-89C3-CBD4E396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A0F5-05DD-4CB8-87B1-E10F75AE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2EE1B-40F4-4507-9B87-1B8A4A3D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E5F57-BF88-4D87-BF0C-E45DB6A9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47917-4AB4-43CB-BFEA-09CDE330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5F7C8-639D-491C-B769-F75B0040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FA4D-0ED8-460C-B8A9-1D4837E3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8772-38CA-466C-B92D-83837ABF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0EC35-9005-4C56-84F2-434859AF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745E-2C3A-4B37-B347-6D3BF778C8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87DC-0DFD-4C8F-829E-634792B3FE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Воспитательные 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результаты и эффекты внеурочной деятельности школьник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4581360"/>
            <a:ext cx="822960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етодический конструктор внеурочной деятельност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81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167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168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169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50920" y="1052640"/>
          <a:ext cx="8497800" cy="5600520"/>
        </p:xfrm>
        <a:graphic>
          <a:graphicData uri="http://schemas.openxmlformats.org/drawingml/2006/table">
            <a:tbl>
              <a:tblPr/>
              <a:tblGrid>
                <a:gridCol w="2122560"/>
                <a:gridCol w="2124000"/>
                <a:gridCol w="2125440"/>
                <a:gridCol w="2125800"/>
              </a:tblGrid>
              <a:tr h="202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9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Познаватель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Познавательные беседы, предметные факультативы, олимпиа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Дидактический театр, общественный смотр знаний, интеллектуальный клуб «Что? Где? Когда?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Детские исследовательские проекты, внешкольные акции познавательной направленности (конференции учащихся, интеллектуальные марафоны и т.п.), школьный музей-клу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етодический конструктор внеурочной деятельност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85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86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Line 87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68360" y="1484280"/>
          <a:ext cx="8353440" cy="4510080"/>
        </p:xfrm>
        <a:graphic>
          <a:graphicData uri="http://schemas.openxmlformats.org/drawingml/2006/table">
            <a:tbl>
              <a:tblPr/>
              <a:tblGrid>
                <a:gridCol w="2085840"/>
                <a:gridCol w="2089080"/>
                <a:gridCol w="2090880"/>
                <a:gridCol w="2087640"/>
              </a:tblGrid>
              <a:tr h="24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9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Проблемно-ценностное общ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Этическая бесе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Дебаты, тематический диспу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Проблемно-ценностная дискуссия с участием внешних экспер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етодический конструктор внеурочной деятельност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Line 88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Line 89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Line 90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95280" y="1413000"/>
          <a:ext cx="8282160" cy="5060880"/>
        </p:xfrm>
        <a:graphic>
          <a:graphicData uri="http://schemas.openxmlformats.org/drawingml/2006/table">
            <a:tbl>
              <a:tblPr/>
              <a:tblGrid>
                <a:gridCol w="2068560"/>
                <a:gridCol w="2071800"/>
                <a:gridCol w="2070000"/>
                <a:gridCol w="2071800"/>
              </a:tblGrid>
              <a:tr h="203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Досугово-развлекательная деятельность (досуговое общени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Культпоходы в театры, музеи, концертные залы, выстав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Концерты, инсценировки, праздничные «огоньки» на уровне класса и шко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Досугово-развлекательные акции школьников в окружающем школу социуме (благотворительные концерты, гастроли школьной самодеятельности и т.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етодический конструктор внеурочной деятельност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Line 91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Line 92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Line 93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4000" y="1413000"/>
          <a:ext cx="8569080" cy="4574880"/>
        </p:xfrm>
        <a:graphic>
          <a:graphicData uri="http://schemas.openxmlformats.org/drawingml/2006/table">
            <a:tbl>
              <a:tblPr/>
              <a:tblGrid>
                <a:gridCol w="2141280"/>
                <a:gridCol w="2140200"/>
                <a:gridCol w="2143080"/>
                <a:gridCol w="2144520"/>
              </a:tblGrid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Художественное творч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Кружки художествен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3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Художественные выставки, фестивали искусств, спектакли в классе, шко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Художественные акции школьников в окружающем школу социу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етодический конструктор внеурочной деятельност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Line 94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Line 95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Line 96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68360" y="1197000"/>
          <a:ext cx="8353440" cy="5327640"/>
        </p:xfrm>
        <a:graphic>
          <a:graphicData uri="http://schemas.openxmlformats.org/drawingml/2006/table">
            <a:tbl>
              <a:tblPr/>
              <a:tblGrid>
                <a:gridCol w="2085840"/>
                <a:gridCol w="2089080"/>
                <a:gridCol w="2089440"/>
                <a:gridCol w="2089080"/>
              </a:tblGrid>
              <a:tr h="180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Социальное творчество (социально преобразующая добровольческая деятельнос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оциальные пробы (инициативное участие ребенка в социальных акциях, организованных взрослым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КТД (коллективное творческое дело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оциально-образовательный прое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етодический конструктор внеурочной деятельност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Line 97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Line 98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Line 99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9280" y="1125360"/>
          <a:ext cx="8785440" cy="5161320"/>
        </p:xfrm>
        <a:graphic>
          <a:graphicData uri="http://schemas.openxmlformats.org/drawingml/2006/table">
            <a:tbl>
              <a:tblPr/>
              <a:tblGrid>
                <a:gridCol w="2376720"/>
                <a:gridCol w="2197080"/>
                <a:gridCol w="2014560"/>
                <a:gridCol w="2197080"/>
              </a:tblGrid>
              <a:tr h="147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2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 Трудовая (производственная)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Занятия по конструированию, кружки технического творчества, домашних ремес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Трудовые десанты, сюжетно-ролевые продуктивные игры («Почта», «Город мастеров», «Фабрика»), детская производственная бригада под руководством взросл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Детско-взрослое образовательное производ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етодический конструктор внеурочной деятельност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Line 23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Line 24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Line 26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Line 27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Line 28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Line 100"/>
          <p:cNvSpPr/>
          <p:nvPr/>
        </p:nvSpPr>
        <p:spPr>
          <a:xfrm>
            <a:off x="4572000" y="312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Line 101"/>
          <p:cNvSpPr/>
          <p:nvPr/>
        </p:nvSpPr>
        <p:spPr>
          <a:xfrm>
            <a:off x="457200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Line 102"/>
          <p:cNvSpPr/>
          <p:nvPr/>
        </p:nvSpPr>
        <p:spPr>
          <a:xfrm>
            <a:off x="604692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95280" y="1268280"/>
          <a:ext cx="8280360" cy="5226120"/>
        </p:xfrm>
        <a:graphic>
          <a:graphicData uri="http://schemas.openxmlformats.org/drawingml/2006/table">
            <a:tbl>
              <a:tblPr/>
              <a:tblGrid>
                <a:gridCol w="2068560"/>
                <a:gridCol w="2070000"/>
                <a:gridCol w="2071800"/>
                <a:gridCol w="207000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14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 Спортивно-оздоровительн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Занятия спортивных секций, беседы о ЗОЖ, участие в оздоровительных процедур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Школьные спортивные турниры и оздоровительные ак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портивные и оздоровительные акции школьников в окружающем школу социу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етодический конструктор внеурочной деятельност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Line 23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Line 26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Line 27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Line 28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4572000" y="312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Line 30"/>
          <p:cNvSpPr/>
          <p:nvPr/>
        </p:nvSpPr>
        <p:spPr>
          <a:xfrm>
            <a:off x="457200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604692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Line 103"/>
          <p:cNvSpPr/>
          <p:nvPr/>
        </p:nvSpPr>
        <p:spPr>
          <a:xfrm>
            <a:off x="4572000" y="3035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Line 104"/>
          <p:cNvSpPr/>
          <p:nvPr/>
        </p:nvSpPr>
        <p:spPr>
          <a:xfrm>
            <a:off x="4572000" y="330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Line 105"/>
          <p:cNvSpPr/>
          <p:nvPr/>
        </p:nvSpPr>
        <p:spPr>
          <a:xfrm>
            <a:off x="6046920" y="330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95280" y="1268280"/>
          <a:ext cx="8353440" cy="5167440"/>
        </p:xfrm>
        <a:graphic>
          <a:graphicData uri="http://schemas.openxmlformats.org/drawingml/2006/table">
            <a:tbl>
              <a:tblPr/>
              <a:tblGrid>
                <a:gridCol w="2085840"/>
                <a:gridCol w="2089440"/>
                <a:gridCol w="2089080"/>
                <a:gridCol w="208908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 Туристско-краеведческ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Образовательная экскурсия, туристическая поездка, краеведческий круж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Туристский поход, краеведческий клу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Туристско-краеведческая экспеди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Поисково-краеведческая экспеди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Школьный краеведческий муз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Типы образовательных программ внеурочной деятельност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омплексные образовательные программ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редполагающие последовательный переход от воспитательных результатов первого к результатам третьего уровня в различных видах внеурочной деятельност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тематические образовательные программ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направленные на получение воспитательных результатов в определенном проблемном поле и использующие при этом возможности различных видов внеурочной деятельности (например, образовательная программа патриотического воспитания, образовательная программа воспитания толерантности и т.п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Типы образовательных программ внеурочной деятельност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бразовательные программы, ориентированные на достижение результатов определенного уровн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образовательная программа, обеспечивающая 1-й уровень результатов; образовательная программа, обеспечивающая 1-й и 2-й уровни результатов; образовательная программа, обеспечивающая 2-й и 3-й уровни результатов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е программы могут иметь возрастную привязку, например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1-го класса – образовательная программа, ориентированная на приобретение школьником социальных знаний в различных видах деятельности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2 – 3-го класса – образовательная программа, формирующая ценностное отношение к социальной реальности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4-го класса – образовательная программа, дающая ребенку опыт самостоятельного общественного действ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иды внеурочной деятельност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грова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знавательна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блемно-ценностное общени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угово-развлекательная деятельность (досуговое общение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ое творчество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циальное творчество (социально преобразующая добровольческая деятельность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овая (производственная) деятельность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ортивно-оздоровительная деятельность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уристско-краеведческая деятельнос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Типы образовательных программ внеурочной деятельност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80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бразовательные программы по конкретным видам внеурочной деятельност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озрастные образовательные программы (образовательная программа внеурочной деятельности младших школьников; образовательная программа внеурочной деятельности подростков; образовательная программа внеурочной деятельности старшеклассников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индивидуальные образовательные программы для учащих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Результаты и эффекты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зультат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это то, что стало непосредственным итогом участия школьника в деятель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имер, школьник, пройдя туристический маршрут, не только переместился в пространстве из одной географической точки в другую, преодолел сложности пути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(фактический результат)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но и приобрел некое знание о себе и окружающих, пережил и прочувствовал нечто как ценность, приобрел опыт самостоятельного действия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(воспитательный результат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Эффект</a:t>
            </a: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это последствие результата; то, к чему привело достижение результат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имер, приобретенное знание, пережитые чувства и отношения, совершённые действия развили человека как личность, способствовали формированию его компетентности, идентич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оспитательные результаты и эффекты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оспитательный результат внеурочной деятельност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непосредственное духовно-нравственное приобретение ребенка благодаря его участию в том или ином виде внеурочной деятель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оспитательный эффект внеурочной деятельност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влияние (последствие) того или иного духовно-нравственного приобретения  на весь процесс развития личности ребен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Уровни воспитательных результатов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3889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ервый уровень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приобретение школьником социальных знаний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об общественных нормах, об устройстве общества, о социально одобряемых и неодобряемых формах поведения в обществе и т.п.)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ервичного понимания социальной реальности и повседневной жизн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572000" y="1557360"/>
            <a:ext cx="3394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067280" y="1700280"/>
            <a:ext cx="4897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Уровни воспитательных результатов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338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торой уровень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получение школьником опыта переживания и  позитивного отношения к базовым ценностям общества, ценностного отношения к социальной реальности в цел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427640" y="1628640"/>
            <a:ext cx="360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3645000" y="1628640"/>
            <a:ext cx="5319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Уровни воспитательных результато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30243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ретий уровень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получение школьником опыта самостоятельного общественного действ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57150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Уровни воспитательных результато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5111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1"/>
          <p:cNvSpPr/>
          <p:nvPr/>
        </p:nvSpPr>
        <p:spPr>
          <a:xfrm>
            <a:off x="2195640" y="2852640"/>
            <a:ext cx="4475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Garamond"/>
              </a:rPr>
              <a:t>3-й уровень результа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2700360" y="4292640"/>
            <a:ext cx="4619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Garamond"/>
              </a:rPr>
              <a:t>1-й уровень результа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Rectangle 23"/>
          <p:cNvSpPr/>
          <p:nvPr/>
        </p:nvSpPr>
        <p:spPr>
          <a:xfrm>
            <a:off x="2556000" y="3573360"/>
            <a:ext cx="447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Garamond"/>
              </a:rPr>
              <a:t>2-й уровень результа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Методический конструктор внеурочной деятельност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Line 132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Line 133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Line 134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168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Line 218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Line 219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220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11280" y="1268280"/>
          <a:ext cx="8208720" cy="5040360"/>
        </p:xfrm>
        <a:graphic>
          <a:graphicData uri="http://schemas.openxmlformats.org/drawingml/2006/table">
            <a:tbl>
              <a:tblPr/>
              <a:tblGrid>
                <a:gridCol w="2050920"/>
                <a:gridCol w="2052720"/>
                <a:gridCol w="2052720"/>
                <a:gridCol w="2052360"/>
              </a:tblGrid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1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Игро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гра с ролевой акцентуац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гра с деловой акцентуац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оциально моделирующая иг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07:00:22Z</dcterms:created>
  <dc:creator>M&amp;Ms</dc:creator>
  <dc:description/>
  <dc:language>en-US</dc:language>
  <cp:lastModifiedBy>12</cp:lastModifiedBy>
  <dcterms:modified xsi:type="dcterms:W3CDTF">2015-01-30T15:54:20Z</dcterms:modified>
  <cp:revision>48</cp:revision>
  <dc:subject/>
  <dc:title>Слайд 1</dc:title>
</cp:coreProperties>
</file>