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C87A-9C01-4896-930E-1BC5136F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74AC-38D0-48C7-AD16-4C1B68F8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AF24-2439-4A90-822E-5AA4C2A5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619A-0E50-4420-A8C3-DFBC6A3A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85E2-668A-4F8D-B115-30106947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FD48-4D9B-40BD-B2CC-D13BA78A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6420-25A7-4F1C-A00D-3BD3A38F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C43E-54B2-4CA9-A53C-76F2B366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3335-6C6F-4498-B701-5B7DD88E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7210-55C2-4AAE-BF01-030FF68F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2745-191E-4D4A-B635-46C92C20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BC4-3C5D-47FC-8D61-19417E94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4B4B-8BEE-4FCF-AC9D-C394533D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68F1-BA39-4FDD-BAC7-73110E9D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948B-63B4-4BDF-B801-4ED6346B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8E53-38F1-4E5B-BE49-6E2CD643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FEC5-E736-4FBC-A399-32D16CEE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35AF-0068-4F06-902D-7FF68E53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FE7-1647-4D4A-9F74-11176BC5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B926-7FDB-4EC7-9BF8-11624172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272F-C550-4F3C-84F9-70C20C33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3B16-DDE9-4069-8666-66076F84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FE2D-10ED-4681-9AA1-705352BA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4A8-7FDD-40E4-8392-1E2B66F5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91E0-DEC1-46EE-8AB1-FE9044CEEAD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E209-1447-4F5B-B8EF-37DBC28E12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666520"/>
            <a:ext cx="7086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Методика написания сочинения ГИА  части С</a:t>
            </a:r>
            <a:br>
              <a:rPr sz="4400"/>
            </a:b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по теме «Выразительные возможности </a:t>
            </a:r>
            <a:br>
              <a:rPr sz="4400"/>
            </a:b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русской речи»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495680" y="5486400"/>
            <a:ext cx="36576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Средства выразительности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рфологические средства: использование определенных частей речи (А.П. Чехов. Моя «она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ловообразовательные средства: см. оттенки значения морфем, окказионализ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нетические средства: аллитерация, ассонан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Строим аргумент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Языковое явление (термин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имер (контекст, номер предложения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щеязыковая рол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Роль в конкретном текст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Аргумент 1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Описывая кобылу Машку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над которой издевался конюх Мирон, рассказчик использует прилагательное 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«смиренная» (предложение 14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значении «кроткая, не способная к сопротивлению, безобидная». Этот 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эпитет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уется, чтобы обратить внимание читателя на то, как 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легко привыкнуть ко злу, не замечать, считать его частью повседневной жизн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Аргумент 2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канчивая рассказ рядом </a:t>
            </a:r>
            <a:r>
              <a:rPr b="0" lang="ru-RU" sz="2600" spc="-1" strike="noStrike">
                <a:solidFill>
                  <a:srgbClr val="cc0000"/>
                </a:solidFill>
                <a:latin typeface="Arial"/>
              </a:rPr>
              <a:t>риторических обращений и восклицани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0" lang="ru-RU" sz="2600" spc="-1" strike="noStrike">
                <a:solidFill>
                  <a:srgbClr val="cc0000"/>
                </a:solidFill>
                <a:latin typeface="Arial"/>
              </a:rPr>
              <a:t>Ах, дядька Мирон! (43)Пожалел бы ты кого! (44)Может, в этом было твоё спасение!» (предложения 42-44)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cc0000"/>
                </a:solidFill>
                <a:latin typeface="Arial"/>
              </a:rPr>
              <a:t>автор подчеркивает свою мысл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о том,  что конюх сам виноват в своей гибели, так как </a:t>
            </a:r>
            <a:r>
              <a:rPr b="0" lang="ru-RU" sz="2600" spc="-1" strike="noStrike">
                <a:solidFill>
                  <a:srgbClr val="cc0000"/>
                </a:solidFill>
                <a:latin typeface="Arial"/>
              </a:rPr>
              <a:t>жестокость порождает жестокос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Если бы человек не был так безжалостен по отношению к животному, его судьба не сложилась бы так трагич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Делаем вывод: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ким образом, можно сделать вывод, что писатель – мастер использует разнообразные художественные средства (тропы и фигуры речи), чтобы создать образы персонажей и рассказчика и донести до читателя идею произвед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абурская Людмила Ивановн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9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5 804 63 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БОУ СОШ №4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urskaya65@mail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Выделяем ключевые слова высказывания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Язык </a:t>
            </a:r>
            <a:r>
              <a:rPr b="0" lang="ru-RU" sz="3900" spc="-1" strike="noStrike" u="sng">
                <a:solidFill>
                  <a:srgbClr val="cc0000"/>
                </a:solidFill>
                <a:uFillTx/>
                <a:latin typeface="Arial"/>
              </a:rPr>
              <a:t>не есть только говор, речь</a:t>
            </a: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: язык есть </a:t>
            </a:r>
            <a:r>
              <a:rPr b="0" lang="ru-RU" sz="3900" spc="-1" strike="noStrike" u="sng">
                <a:solidFill>
                  <a:srgbClr val="cc0000"/>
                </a:solidFill>
                <a:uFillTx/>
                <a:latin typeface="Arial"/>
              </a:rPr>
              <a:t>образ</a:t>
            </a:r>
            <a:r>
              <a:rPr b="0" lang="ru-RU" sz="39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всего </a:t>
            </a:r>
            <a:r>
              <a:rPr b="0" lang="ru-RU" sz="3900" spc="-1" strike="noStrike" u="sng">
                <a:solidFill>
                  <a:srgbClr val="cc0000"/>
                </a:solidFill>
                <a:uFillTx/>
                <a:latin typeface="Arial"/>
              </a:rPr>
              <a:t>внутреннего человека</a:t>
            </a: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, всех сил, умственных и нравственных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И. А.Гончаров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Строим тезис. Объясняем смысл высказывания (подбираем синонимичные выражения)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 согласен (согласна) с мнением автора высказывания и считаю, что писатель с помощью </a:t>
            </a:r>
            <a:r>
              <a:rPr b="0" lang="ru-RU" sz="3000" spc="-1" strike="noStrike" u="sng">
                <a:solidFill>
                  <a:srgbClr val="cc0000"/>
                </a:solidFill>
                <a:uFillTx/>
                <a:latin typeface="Arial"/>
              </a:rPr>
              <a:t>различных речевых средст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ожет создать </a:t>
            </a:r>
            <a:r>
              <a:rPr b="0" lang="ru-RU" sz="3000" spc="-1" strike="noStrike" u="sng">
                <a:solidFill>
                  <a:srgbClr val="cc0000"/>
                </a:solidFill>
                <a:uFillTx/>
                <a:latin typeface="Arial"/>
              </a:rPr>
              <a:t>художественный обра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воем произведении, а также раскрыть </a:t>
            </a:r>
            <a:r>
              <a:rPr b="0" lang="ru-RU" sz="3000" spc="-1" strike="noStrike" u="sng">
                <a:solidFill>
                  <a:srgbClr val="cc0000"/>
                </a:solidFill>
                <a:uFillTx/>
                <a:latin typeface="Arial"/>
              </a:rPr>
              <a:t>характеры (внутренний мир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воих герое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Строим тезис. Даем лингвистический комментарий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усский язык обладает не только  лексическими и синтаксическими, но и грамматическими (морфологическими), словообразовательными и фонетическими средствами создания выразительности реч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Строим тезис. Задаем вопрос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ие же художественные средства использует в своем тексте (рассказе) А. Лиханов, для того чтобы создать образ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000" spc="-1" strike="noStrike">
                <a:solidFill>
                  <a:srgbClr val="008000"/>
                </a:solidFill>
                <a:latin typeface="Arial"/>
              </a:rPr>
              <a:t>рассказчи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00"/>
                </a:solidFill>
                <a:latin typeface="Arial"/>
              </a:rPr>
              <a:t>…</a:t>
            </a:r>
            <a:r>
              <a:rPr b="0" lang="ru-RU" sz="3000" spc="-1" strike="noStrike">
                <a:solidFill>
                  <a:srgbClr val="008000"/>
                </a:solidFill>
                <a:latin typeface="Arial"/>
              </a:rPr>
              <a:t>и раскрыть авторскую пози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00"/>
                </a:solidFill>
                <a:latin typeface="Arial"/>
              </a:rPr>
              <a:t>… </a:t>
            </a:r>
            <a:r>
              <a:rPr b="0" lang="ru-RU" sz="3000" spc="-1" strike="noStrike">
                <a:solidFill>
                  <a:srgbClr val="008000"/>
                </a:solidFill>
                <a:latin typeface="Arial"/>
              </a:rPr>
              <a:t>донести до читателя идею (главную мысль)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00"/>
                </a:solidFill>
                <a:latin typeface="Arial"/>
              </a:rPr>
              <a:t>!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уточняем вопрос после чтения текст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Знакомимся с текстом для анализа: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ова тема текста? О чем рассказываетс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ова авторская позиция? Ради какой главной мысли написан текс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йдите ключевые слова (сильные позиции текста), в которых отражена авторская позиция (главная мысль)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формулируйте авторскую позици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382320"/>
            <a:ext cx="740556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одбираем материалы для аргументов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йдите в тексте художественные средства, без которых невозможно передать главную мысль автор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297800" y="3962520"/>
            <a:ext cx="235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кс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троп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804200" y="3962520"/>
            <a:ext cx="293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нтакс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фигуры реч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 rot="2186400">
            <a:off x="2590560" y="3200040"/>
            <a:ext cx="533160" cy="762120"/>
          </a:xfrm>
          <a:prstGeom prst="downArrow">
            <a:avLst>
              <a:gd name="adj1" fmla="val 50000"/>
              <a:gd name="adj2" fmla="val 35736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2"/>
          <p:cNvSpPr/>
          <p:nvPr/>
        </p:nvSpPr>
        <p:spPr>
          <a:xfrm rot="19358400">
            <a:off x="5715000" y="3200400"/>
            <a:ext cx="533520" cy="762120"/>
          </a:xfrm>
          <a:prstGeom prst="downArrow">
            <a:avLst>
              <a:gd name="adj1" fmla="val 50000"/>
              <a:gd name="adj2" fmla="val 3571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Тропы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4920" y="914400"/>
          <a:ext cx="8686800" cy="5529240"/>
        </p:xfrm>
        <a:graphic>
          <a:graphicData uri="http://schemas.openxmlformats.org/drawingml/2006/table">
            <a:tbl>
              <a:tblPr/>
              <a:tblGrid>
                <a:gridCol w="3286080"/>
                <a:gridCol w="540072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МЕТАФО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Создание оригинального словесного образа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СРАВН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Позволяет более ярко представить предметы или явления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ЭПИТ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Позволяет одним  словом   выразительно охарактеризовать предмет и подчеркнуть его свойства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МЕТОНИМ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Прием   краткой,   емкой,   выразительной реч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ГИПЕРБОЛ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Подчеркивает     высокую,     предельную степень развития    какого-либо признака, яв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545454"/>
                          </a:solidFill>
                          <a:latin typeface="Times New Roman"/>
                          <a:ea typeface="Times New Roman"/>
                        </a:rPr>
                        <a:t>ЛИТО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Одновременное употребление гиперболы и литоты   резко   и   сильно   подчеркивает создаваемый контраст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ИРО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Непрямая, скрытая, косвенная насмешка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АЛЛЕГОР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В конкретном художественном образе выражается отвлеченное понятие или иде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ОЛИЦЕТВОР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Позволяет создать яркие, выразительные, рельефные образы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ПЕРИФРАЗ(А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Позволяет разнообразить речь, избегать повторений, в то же время придает тексту различные стилистические оттенки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СИНЕКДОХ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еркивает одну их частей предмет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543800" cy="4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Фигуры реч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28600" y="990720"/>
          <a:ext cx="8763120" cy="5653080"/>
        </p:xfrm>
        <a:graphic>
          <a:graphicData uri="http://schemas.openxmlformats.org/drawingml/2006/table">
            <a:tbl>
              <a:tblPr/>
              <a:tblGrid>
                <a:gridCol w="3538440"/>
                <a:gridCol w="52246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ВЕРС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о, занимающее необычное место, резко выделяется, привлекая к себе вниман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ТАКСИЧЕСКИЙПАРАЛЛЕЛИЗ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иливается сравнение, резко выделяется содержание сопоставляемых частей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ФО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Повторяемое слово получает значительную эмоциональную нагрузку, усиливает параллелизм строения отрывка и его выразитель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ПИФО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Повторяемое слово получает значительную эмоциональную нагрузку, усиливает параллелизм строения отрывка и его выразительность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ИТЕЗ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Выражение контраста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ДА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Выражает нарастание общего впечатления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ЦЕЛЛЯ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Придает речи интонационную экспрессию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ЛИПСИ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Придает высказыванию динамизм, живость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ОЛЧ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Передает эмоциональность, взволнованность речи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ТОРИЧЕСКОЕ ОБРАЩ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Выражает отношение автора к тому или иному предмету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ТОРИЧЕСКИЙ ВОПРО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Привлекает внимание к явлению, проблеме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СОЮЗИЕ, БЕССОЮЗ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Логическое и интонационное подчеркивание соединяемых союзами членов предложения. Придает тексту динамизм, стремитель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ректор</cp:lastModifiedBy>
  <dcterms:modified xsi:type="dcterms:W3CDTF">2015-01-30T11:35:2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