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7BFF-754C-456E-BA07-44A7EECF0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E019-9CB7-4C41-B218-F4529E96E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762F-7187-46F3-87ED-909732DDF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5BC8-AE53-4890-A1AA-62DF0C3EB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DC15C-175B-4D56-9496-ED90513C1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E9444-8680-431A-BE60-5660B9E81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2B680-1BAA-42FA-A544-B3CC3A7BB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6198F-7905-4C2F-B7B0-663B4E4B2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0E556-1A4E-4152-9313-909FFED25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5F647-8FE9-44EB-9C7E-A54C35A88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CCDE5-AA6F-4A2D-AC47-24A7CF46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49D1-495B-491D-9183-DCDB1136E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F2035-31FF-413D-B9B8-067B977D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5B666-0640-4E91-B26E-69682E8F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D3156-2B19-4F0C-9B0D-0B187BEBC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0C6DC-CD16-48F9-9E24-6963650C3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E4DB6-187A-4DE7-B7D5-1B8190879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A3CC-5592-45DA-A828-A6C2318B8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3369-2BC7-4299-8223-24119A53B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0407-E2B9-4A57-B0C2-96C868869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340E-F231-4AAB-BAA9-B442EAA48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052A-4455-41DE-9463-17EBF1F0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084B-2DBD-4A52-A5A0-0C4FAC28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A3C5-366E-46C8-A01A-A1339FF0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EF14B-207F-4337-B394-91CF50F357F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4B8C7-8E20-42D2-96FF-26B40B631BA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666520"/>
            <a:ext cx="708660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66"/>
                </a:solidFill>
                <a:latin typeface="Arial"/>
              </a:rPr>
              <a:t>Методика написания сочинения ГИА  части С</a:t>
            </a:r>
            <a:br>
              <a:rPr sz="4400"/>
            </a:br>
            <a:r>
              <a:rPr b="1" lang="ru-RU" sz="4400" spc="-1" strike="noStrike">
                <a:solidFill>
                  <a:srgbClr val="330066"/>
                </a:solidFill>
                <a:latin typeface="Arial"/>
              </a:rPr>
              <a:t>по теме «Выразительные возможности </a:t>
            </a:r>
            <a:br>
              <a:rPr sz="4400"/>
            </a:br>
            <a:r>
              <a:rPr b="1" lang="ru-RU" sz="4400" spc="-1" strike="noStrike">
                <a:solidFill>
                  <a:srgbClr val="330066"/>
                </a:solidFill>
                <a:latin typeface="Arial"/>
              </a:rPr>
              <a:t>русской речи» 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495680" y="5486400"/>
            <a:ext cx="3657600" cy="92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Средства выразительности: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рфологические средства: использование определенных частей речи (А.П. Чехов. Моя «она»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ловообразовательные средства: см. оттенки значения морфем, окказионализ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онетические средства: аллитерация, ассонан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Строим аргумент: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Языковое явление (термин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Пример (контекст, номер предложения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бщеязыковая роль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Роль в конкретном текст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Аргумент 1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0000"/>
                </a:solidFill>
                <a:latin typeface="Arial"/>
              </a:rPr>
              <a:t>Описывая кобылу Машку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над которой издевался конюх Мирон, рассказчик использует прилагательное </a:t>
            </a:r>
            <a:r>
              <a:rPr b="0" lang="ru-RU" sz="3000" spc="-1" strike="noStrike">
                <a:solidFill>
                  <a:srgbClr val="cc0000"/>
                </a:solidFill>
                <a:latin typeface="Arial"/>
              </a:rPr>
              <a:t>«смиренная» (предложение 14)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в значении «кроткая, не способная к сопротивлению, безобидная». Этот </a:t>
            </a:r>
            <a:r>
              <a:rPr b="0" lang="ru-RU" sz="3000" spc="-1" strike="noStrike">
                <a:solidFill>
                  <a:srgbClr val="cc0000"/>
                </a:solidFill>
                <a:latin typeface="Arial"/>
              </a:rPr>
              <a:t>эпитет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спользуется, чтобы обратить внимание читателя на то, как </a:t>
            </a:r>
            <a:r>
              <a:rPr b="0" lang="ru-RU" sz="3000" spc="-1" strike="noStrike">
                <a:solidFill>
                  <a:srgbClr val="cc0000"/>
                </a:solidFill>
                <a:latin typeface="Arial"/>
              </a:rPr>
              <a:t>легко привыкнуть ко злу, не замечать, считать его частью повседневной жизн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Аргумент 2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канчивая рассказ рядом </a:t>
            </a:r>
            <a:r>
              <a:rPr b="0" lang="ru-RU" sz="2600" spc="-1" strike="noStrike">
                <a:solidFill>
                  <a:srgbClr val="cc0000"/>
                </a:solidFill>
                <a:latin typeface="Arial"/>
              </a:rPr>
              <a:t>риторических обращений и восклицаний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«</a:t>
            </a:r>
            <a:r>
              <a:rPr b="0" lang="ru-RU" sz="2600" spc="-1" strike="noStrike">
                <a:solidFill>
                  <a:srgbClr val="cc0000"/>
                </a:solidFill>
                <a:latin typeface="Arial"/>
              </a:rPr>
              <a:t>Ах, дядька Мирон! (43)Пожалел бы ты кого! (44)Может, в этом было твоё спасение!» (предложения 42-44),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600" spc="-1" strike="noStrike">
                <a:solidFill>
                  <a:srgbClr val="cc0000"/>
                </a:solidFill>
                <a:latin typeface="Arial"/>
              </a:rPr>
              <a:t>автор подчеркивает свою мысль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о том,  что конюх сам виноват в своей гибели, так как </a:t>
            </a:r>
            <a:r>
              <a:rPr b="0" lang="ru-RU" sz="2600" spc="-1" strike="noStrike">
                <a:solidFill>
                  <a:srgbClr val="cc0000"/>
                </a:solidFill>
                <a:latin typeface="Arial"/>
              </a:rPr>
              <a:t>жестокость порождает жестокость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 Если бы человек не был так безжалостен по отношению к животному, его судьба не сложилась бы так трагичн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Делаем вывод: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аким образом, можно сделать вывод, что писатель – мастер использует разнообразные художественные средства (тропы и фигуры речи), чтобы создать образы персонажей и рассказчика и донести до читателя идею произвед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Лабурская Людмила Ивановн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8 9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65 804 63 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БОУ СОШ №4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burskaya65@mail.r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Выделяем ключевые слова высказывания: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Язык </a:t>
            </a:r>
            <a:r>
              <a:rPr b="0" lang="ru-RU" sz="3900" spc="-1" strike="noStrike" u="sng">
                <a:solidFill>
                  <a:srgbClr val="cc0000"/>
                </a:solidFill>
                <a:uFillTx/>
                <a:latin typeface="Arial"/>
              </a:rPr>
              <a:t>не есть только говор, речь</a:t>
            </a: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: язык есть </a:t>
            </a:r>
            <a:r>
              <a:rPr b="0" lang="ru-RU" sz="3900" spc="-1" strike="noStrike" u="sng">
                <a:solidFill>
                  <a:srgbClr val="cc0000"/>
                </a:solidFill>
                <a:uFillTx/>
                <a:latin typeface="Arial"/>
              </a:rPr>
              <a:t>образ</a:t>
            </a:r>
            <a:r>
              <a:rPr b="0" lang="ru-RU" sz="39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всего </a:t>
            </a:r>
            <a:r>
              <a:rPr b="0" lang="ru-RU" sz="3900" spc="-1" strike="noStrike" u="sng">
                <a:solidFill>
                  <a:srgbClr val="cc0000"/>
                </a:solidFill>
                <a:uFillTx/>
                <a:latin typeface="Arial"/>
              </a:rPr>
              <a:t>внутреннего человека</a:t>
            </a: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, всех сил, умственных и нравственных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И. А.Гончаров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Строим тезис. Объясняем смысл высказывания (подбираем синонимичные выражения):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2514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Я согласен (согласна) с мнением автора высказывания и считаю, что писатель с помощью </a:t>
            </a:r>
            <a:r>
              <a:rPr b="0" lang="ru-RU" sz="3000" spc="-1" strike="noStrike" u="sng">
                <a:solidFill>
                  <a:srgbClr val="cc0000"/>
                </a:solidFill>
                <a:uFillTx/>
                <a:latin typeface="Arial"/>
              </a:rPr>
              <a:t>различных речевых средств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может создать </a:t>
            </a:r>
            <a:r>
              <a:rPr b="0" lang="ru-RU" sz="3000" spc="-1" strike="noStrike" u="sng">
                <a:solidFill>
                  <a:srgbClr val="cc0000"/>
                </a:solidFill>
                <a:uFillTx/>
                <a:latin typeface="Arial"/>
              </a:rPr>
              <a:t>художественный образ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в своем произведении, а также раскрыть </a:t>
            </a:r>
            <a:r>
              <a:rPr b="0" lang="ru-RU" sz="3000" spc="-1" strike="noStrike" u="sng">
                <a:solidFill>
                  <a:srgbClr val="cc0000"/>
                </a:solidFill>
                <a:uFillTx/>
                <a:latin typeface="Arial"/>
              </a:rPr>
              <a:t>характеры (внутренний мир)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своих герое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Строим тезис. Даем лингвистический комментарий: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усский язык обладает не только  лексическими и синтаксическими, но и грамматическими (морфологическими), словообразовательными и фонетическими средствами создания выразительности реч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Строим тезис. Задаем вопрос: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кие же художественные средства использует в своем тексте (рассказе) А. Лиханов, для того чтобы создать образ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3000" spc="-1" strike="noStrike">
                <a:solidFill>
                  <a:srgbClr val="008000"/>
                </a:solidFill>
                <a:latin typeface="Arial"/>
              </a:rPr>
              <a:t>рассказчик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8000"/>
                </a:solidFill>
                <a:latin typeface="Arial"/>
              </a:rPr>
              <a:t>…</a:t>
            </a:r>
            <a:r>
              <a:rPr b="0" lang="ru-RU" sz="3000" spc="-1" strike="noStrike">
                <a:solidFill>
                  <a:srgbClr val="008000"/>
                </a:solidFill>
                <a:latin typeface="Arial"/>
              </a:rPr>
              <a:t>и раскрыть авторскую позицию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8000"/>
                </a:solidFill>
                <a:latin typeface="Arial"/>
              </a:rPr>
              <a:t>… </a:t>
            </a:r>
            <a:r>
              <a:rPr b="0" lang="ru-RU" sz="3000" spc="-1" strike="noStrike">
                <a:solidFill>
                  <a:srgbClr val="008000"/>
                </a:solidFill>
                <a:latin typeface="Arial"/>
              </a:rPr>
              <a:t>донести до читателя идею (главную мысль)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8000"/>
                </a:solidFill>
                <a:latin typeface="Arial"/>
              </a:rPr>
              <a:t>!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уточняем вопрос после чтения текст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Знакомимся с текстом для анализа: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кова тема текста? О чем рассказываетс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кова авторская позиция? Ради какой главной мысли написан текст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йдите ключевые слова (сильные позиции текста), в которых отражена авторская позиция (главная мысль)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формулируйте авторскую позицию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382320"/>
            <a:ext cx="7405560" cy="103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Подбираем материалы для аргументов: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йдите в тексте художественные средства, без которых невозможно передать главную мысль автор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1297800" y="3962520"/>
            <a:ext cx="235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ксическ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ед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троп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4804200" y="3962520"/>
            <a:ext cx="2936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нтаксическ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ед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фигуры реч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8"/>
          <p:cNvSpPr/>
          <p:nvPr/>
        </p:nvSpPr>
        <p:spPr>
          <a:xfrm rot="2186400">
            <a:off x="2590560" y="3200040"/>
            <a:ext cx="533160" cy="762120"/>
          </a:xfrm>
          <a:prstGeom prst="downArrow">
            <a:avLst>
              <a:gd name="adj1" fmla="val 50000"/>
              <a:gd name="adj2" fmla="val 35736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2"/>
          <p:cNvSpPr/>
          <p:nvPr/>
        </p:nvSpPr>
        <p:spPr>
          <a:xfrm rot="19358400">
            <a:off x="5715000" y="3200400"/>
            <a:ext cx="533520" cy="762120"/>
          </a:xfrm>
          <a:prstGeom prst="downArrow">
            <a:avLst>
              <a:gd name="adj1" fmla="val 50000"/>
              <a:gd name="adj2" fmla="val 35712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63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Тропы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4920" y="914400"/>
          <a:ext cx="8686800" cy="5529240"/>
        </p:xfrm>
        <a:graphic>
          <a:graphicData uri="http://schemas.openxmlformats.org/drawingml/2006/table">
            <a:tbl>
              <a:tblPr/>
              <a:tblGrid>
                <a:gridCol w="3286080"/>
                <a:gridCol w="5400720"/>
              </a:tblGrid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3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МЕТАФОР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Создание оригинального словесного образа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СРАВНЕН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Позволяет более ярко представить предметы или явления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ЭПИТЕ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Позволяет одним  словом   выразительно охарактеризовать предмет и подчеркнуть его свойства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МЕТОНИМ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Прием   краткой,   емкой,   выразительной реч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ГИПЕРБОЛ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Подчеркивает     высокую,     предельную степень развития    какого-либо признака, явле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545454"/>
                          </a:solidFill>
                          <a:latin typeface="Times New Roman"/>
                          <a:ea typeface="Times New Roman"/>
                        </a:rPr>
                        <a:t>ЛИТО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Одновременное употребление гиперболы и литоты   резко   и   сильно   подчеркивает создаваемый контраст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ИРО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Непрямая, скрытая, косвенная насмешка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АЛЛЕГОР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В конкретном художественном образе выражается отвлеченное понятие или идею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ОЛИЦЕТВОРЕН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Позволяет создать яркие, выразительные, рельефные образы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ПЕРИФРАЗ(А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Позволяет разнообразить речь, избегать повторений, в то же время придает тексту различные стилистические оттенки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СИНЕКДОХ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еркивает одну их частей предмета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7543800" cy="4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Фигуры речи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28600" y="990720"/>
          <a:ext cx="8763120" cy="5653080"/>
        </p:xfrm>
        <a:graphic>
          <a:graphicData uri="http://schemas.openxmlformats.org/drawingml/2006/table">
            <a:tbl>
              <a:tblPr/>
              <a:tblGrid>
                <a:gridCol w="3538440"/>
                <a:gridCol w="522468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ВЕРС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ово, занимающее необычное место, резко выделяется, привлекая к себе внимани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ТАКСИЧЕСКИЙПАРАЛЛЕЛИЗ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иливается сравнение, резко выделяется содержание сопоставляемых частей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ФОР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Повторяемое слово получает значительную эмоциональную нагрузку, усиливает параллелизм строения отрывка и его выразительност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ПИФОР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Повторяемое слово получает значительную эмоциональную нагрузку, усиливает параллелизм строения отрывка и его выразительность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ТИТЕЗ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Выражение контраста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ДАЦ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Выражает нарастание общего впечатления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РЦЕЛЛЯЦ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Придает речи интонационную экспрессию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ЛИПСИС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Придает высказыванию динамизм, живость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ОЛЧАН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Передает эмоциональность, взволнованность речи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ТОРИЧЕСКОЕ ОБРАЩЕН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Выражает отношение автора к тому или иному предмету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ТОРИЧЕСКИЙ ВОПРОС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Привлекает внимание к явлению, проблеме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ОГОСОЮЗИЕ, БЕССОЮЗ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Логическое и интонационное подчеркивание соединяемых союзами членов предложения. Придает тексту динамизм, стремительност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иректор</cp:lastModifiedBy>
  <dcterms:modified xsi:type="dcterms:W3CDTF">2015-01-30T11:35:20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