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63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9.jpeg" ContentType="image/jpeg"/>
  <Override PartName="/ppt/media/image20.jpeg" ContentType="image/jpeg"/>
  <Override PartName="/ppt/media/image25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16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2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93C7-1510-406A-8664-7111CEF6C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704-C6BA-4F82-9D1B-DF92B29615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E62-17BF-4A02-A4D5-8D294080F5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E3A-E7BC-41A7-9CA9-370A2B627C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B4A-4C03-4E6C-BFFF-D075801DC5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8950-2513-432E-88F5-38F2331D40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FFC-D05A-4AF9-B257-0F7A72A41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D68-364C-4A6C-B190-C115FF77C9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C5E2-68D7-4C3E-A163-0B2AC77C46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1A5-A0D0-426D-9388-D69A3190EE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50E-E63B-4830-B62F-9FB4D68C5C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0C2-0E5B-4CDB-B494-A4DB6D23DF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7E2-A5CD-4039-9EDA-F294CDBB91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BAF3-3DDF-4A5A-A630-41AD6EB744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EA43-D864-4ADE-8582-425643A727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275F-23AD-4CDC-A881-BF09F5E014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F99E-A814-4E35-ADD0-1FDBBB1CCD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636B-E853-416D-9865-715BFA94D2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05F7-7EE6-4976-A33C-981232EA0D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7E4-8EA6-4C24-9A6D-3519E11FAD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B43-C3F1-40C8-ABCE-F17B89805D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695-28BB-4EAE-AADD-62D218D5DC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7BD-7FB1-461E-8843-7E14C9C05D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90C-3A66-441F-9EF3-E1A3A70D1F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B8C7-68F2-4678-B04C-732CB520E0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52B9-B7C6-47A1-BF19-8AD6261961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816-A485-4A6E-87F0-9564C891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795-D5C7-4DEB-ADC5-8C677CDD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4B1-CC3A-444A-9070-85FE1ACD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E0C-A711-4B80-9335-25F6DED4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5E4F3-F845-4E4A-9A0D-AB8251E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6F40-DFC5-45FD-9A15-D85C9BB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6B142-56D2-4639-BBE2-80F911D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4C4E0-C802-41FB-8ED7-A9E8A53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DFA44-FC06-4C2E-8DFA-9BFCCDC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2AF28-79D8-430B-BDAD-BBA27F3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3B827-28F8-4255-B158-2CD172D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707-01B5-4581-B37A-AF2B0D1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F375C-F680-40D6-8A46-9E47093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8D411-EB95-4F4F-935E-9839A11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06D2-D8E0-4A73-A4E9-F5664F6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32B1C-4531-4B91-BA9F-AB63FCB7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E8566-C9FD-4260-B0E7-0863A79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075-FCC3-4BB2-B5D5-4F21377B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AF0-7F36-4227-B84D-7A9A835D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B83-8277-42DC-B92D-EA536DF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4E5-A64B-44CE-80D2-C4DA6A1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FC-5BC9-4C51-BEA5-36CBB67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930-AA7C-490D-8E45-8F0E58C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193-2246-46A5-A9C5-388EC93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67CB-985E-4020-B4B2-0AE502DC7D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4A7-8358-4618-99ED-17F626D7C6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90720"/>
            <a:ext cx="7772400" cy="22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ЖИЗНЬ ДРЕВНИХ </a:t>
            </a:r>
            <a:br>
              <a:rPr sz="4800"/>
            </a:b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СЛАВЯ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0920" y="5409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ила: Егорова Е.А. учитель МБОУ «СОШ № 151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Г. Красноярс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0812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болов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емле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иратель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оргов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р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мес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38480" y="6476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озяйство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img308"/>
          <p:cNvPicPr/>
          <p:nvPr/>
        </p:nvPicPr>
        <p:blipFill>
          <a:blip r:embed="rId2"/>
          <a:stretch/>
        </p:blipFill>
        <p:spPr>
          <a:xfrm>
            <a:off x="380880" y="1550880"/>
            <a:ext cx="4343400" cy="2871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25" name="Picture 19" descr="img313"/>
          <p:cNvPicPr/>
          <p:nvPr/>
        </p:nvPicPr>
        <p:blipFill>
          <a:blip r:embed="rId3"/>
          <a:stretch/>
        </p:blipFill>
        <p:spPr>
          <a:xfrm>
            <a:off x="4648320" y="2895480"/>
            <a:ext cx="4190760" cy="2925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ужие и орудия труда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img307"/>
          <p:cNvPicPr/>
          <p:nvPr/>
        </p:nvPicPr>
        <p:blipFill>
          <a:blip r:embed="rId2"/>
          <a:stretch/>
        </p:blipFill>
        <p:spPr>
          <a:xfrm>
            <a:off x="5410080" y="3733920"/>
            <a:ext cx="1656000" cy="3011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mg312"/>
          <p:cNvPicPr/>
          <p:nvPr/>
        </p:nvPicPr>
        <p:blipFill>
          <a:blip r:embed="rId3"/>
          <a:stretch/>
        </p:blipFill>
        <p:spPr>
          <a:xfrm>
            <a:off x="4800600" y="1600200"/>
            <a:ext cx="3902040" cy="1987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29" name="Picture 10" descr="орудия труда и быта"/>
          <p:cNvPicPr/>
          <p:nvPr/>
        </p:nvPicPr>
        <p:blipFill>
          <a:blip r:embed="rId4"/>
          <a:stretch/>
        </p:blipFill>
        <p:spPr>
          <a:xfrm>
            <a:off x="533520" y="1295280"/>
            <a:ext cx="26668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ем могли заниматься женщины славянки?  (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абота в группе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086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дно из женских занятий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IMG_2373"/>
          <p:cNvPicPr/>
          <p:nvPr/>
        </p:nvPicPr>
        <p:blipFill>
          <a:blip r:embed="rId2"/>
          <a:stretch/>
        </p:blipFill>
        <p:spPr>
          <a:xfrm>
            <a:off x="304920" y="914400"/>
            <a:ext cx="4038480" cy="275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5" name="Picture 9" descr="вышитые узоры небо вода жизнь"/>
          <p:cNvPicPr/>
          <p:nvPr/>
        </p:nvPicPr>
        <p:blipFill>
          <a:blip r:embed="rId3"/>
          <a:stretch/>
        </p:blipFill>
        <p:spPr>
          <a:xfrm>
            <a:off x="380880" y="4038480"/>
            <a:ext cx="2874960" cy="198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6" name="Picture 10" descr="славянская вышивка"/>
          <p:cNvPicPr/>
          <p:nvPr/>
        </p:nvPicPr>
        <p:blipFill>
          <a:blip r:embed="rId4"/>
          <a:stretch/>
        </p:blipFill>
        <p:spPr>
          <a:xfrm>
            <a:off x="3581280" y="4343400"/>
            <a:ext cx="2233800" cy="176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095880" y="838080"/>
            <a:ext cx="238140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делия из льна украшались вышивк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0" descr="вышивка1"/>
          <p:cNvPicPr/>
          <p:nvPr/>
        </p:nvPicPr>
        <p:blipFill>
          <a:blip r:embed="rId2"/>
          <a:stretch/>
        </p:blipFill>
        <p:spPr>
          <a:xfrm>
            <a:off x="1057320" y="1979640"/>
            <a:ext cx="2838240" cy="183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40" name="Picture 12" descr="узоры и символы"/>
          <p:cNvPicPr/>
          <p:nvPr/>
        </p:nvPicPr>
        <p:blipFill>
          <a:blip r:embed="rId3"/>
          <a:stretch/>
        </p:blipFill>
        <p:spPr>
          <a:xfrm>
            <a:off x="6012000" y="1341360"/>
            <a:ext cx="1871640" cy="252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Picture 17" descr="рушник3"/>
          <p:cNvPicPr/>
          <p:nvPr/>
        </p:nvPicPr>
        <p:blipFill>
          <a:blip r:embed="rId4"/>
          <a:stretch/>
        </p:blipFill>
        <p:spPr>
          <a:xfrm>
            <a:off x="179280" y="4076640"/>
            <a:ext cx="2159280" cy="218772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42" name="Picture 18" descr="рушник5"/>
          <p:cNvPicPr/>
          <p:nvPr/>
        </p:nvPicPr>
        <p:blipFill>
          <a:blip r:embed="rId5"/>
          <a:stretch/>
        </p:blipFill>
        <p:spPr>
          <a:xfrm>
            <a:off x="2843280" y="4222800"/>
            <a:ext cx="2652480" cy="176364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43" name="Picture 19" descr="рушник6"/>
          <p:cNvPicPr/>
          <p:nvPr/>
        </p:nvPicPr>
        <p:blipFill>
          <a:blip r:embed="rId6"/>
          <a:stretch/>
        </p:blipFill>
        <p:spPr>
          <a:xfrm>
            <a:off x="5940360" y="4149720"/>
            <a:ext cx="2087640" cy="204480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sp>
        <p:nvSpPr>
          <p:cNvPr id="144" name="AutoShape 20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696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ЕДМЕТЫ БЫТА ДРЕВНИХ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9" descr="img310"/>
          <p:cNvPicPr/>
          <p:nvPr/>
        </p:nvPicPr>
        <p:blipFill>
          <a:blip r:embed="rId2"/>
          <a:stretch/>
        </p:blipFill>
        <p:spPr>
          <a:xfrm>
            <a:off x="3348000" y="1484280"/>
            <a:ext cx="2471760" cy="25178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48" name="Picture 10" descr="img317"/>
          <p:cNvPicPr/>
          <p:nvPr/>
        </p:nvPicPr>
        <p:blipFill>
          <a:blip r:embed="rId3"/>
          <a:stretch/>
        </p:blipFill>
        <p:spPr>
          <a:xfrm>
            <a:off x="6659640" y="2978280"/>
            <a:ext cx="1465200" cy="25160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49" name="Picture 11" descr="img318"/>
          <p:cNvPicPr/>
          <p:nvPr/>
        </p:nvPicPr>
        <p:blipFill>
          <a:blip r:embed="rId4"/>
          <a:stretch/>
        </p:blipFill>
        <p:spPr>
          <a:xfrm>
            <a:off x="3924360" y="4149720"/>
            <a:ext cx="1312920" cy="25621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50" name="Picture 12" descr="img303"/>
          <p:cNvPicPr/>
          <p:nvPr/>
        </p:nvPicPr>
        <p:blipFill>
          <a:blip r:embed="rId5"/>
          <a:stretch/>
        </p:blipFill>
        <p:spPr>
          <a:xfrm>
            <a:off x="468360" y="3108240"/>
            <a:ext cx="1724040" cy="21765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рования древних слав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19480" cy="431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5360" y="59770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ун – Бог Громоверж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192480" cy="5181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84560" y="62056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рог – Бог неба, Бог ог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рования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15" descr="slav09"/>
          <p:cNvPicPr/>
          <p:nvPr/>
        </p:nvPicPr>
        <p:blipFill>
          <a:blip r:embed="rId2"/>
          <a:stretch/>
        </p:blipFill>
        <p:spPr>
          <a:xfrm>
            <a:off x="5257800" y="1219320"/>
            <a:ext cx="3094200" cy="44193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2998800" cy="4476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14960" y="59007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ес –Бог плодоро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6053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рило – Бог Солн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309"/>
          <p:cNvPicPr/>
          <p:nvPr/>
        </p:nvPicPr>
        <p:blipFill>
          <a:blip r:embed="rId2"/>
          <a:stretch/>
        </p:blipFill>
        <p:spPr>
          <a:xfrm>
            <a:off x="2050920" y="404640"/>
            <a:ext cx="4567320" cy="6075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AutoShape 5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лонения славян языческим идол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slav231"/>
          <p:cNvPicPr/>
          <p:nvPr/>
        </p:nvPicPr>
        <p:blipFill>
          <a:blip r:embed="rId2"/>
          <a:stretch/>
        </p:blipFill>
        <p:spPr>
          <a:xfrm>
            <a:off x="0" y="1752480"/>
            <a:ext cx="3762360" cy="3160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66" name="Picture 10" descr="мифология славян"/>
          <p:cNvPicPr/>
          <p:nvPr/>
        </p:nvPicPr>
        <p:blipFill>
          <a:blip r:embed="rId3"/>
          <a:stretch/>
        </p:blipFill>
        <p:spPr>
          <a:xfrm>
            <a:off x="4419720" y="1143000"/>
            <a:ext cx="1616040" cy="1987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67" name="Picture 11" descr="img304"/>
          <p:cNvPicPr/>
          <p:nvPr/>
        </p:nvPicPr>
        <p:blipFill>
          <a:blip r:embed="rId4"/>
          <a:stretch/>
        </p:blipFill>
        <p:spPr>
          <a:xfrm>
            <a:off x="7391520" y="533520"/>
            <a:ext cx="1377720" cy="24987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ухи, божества природ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9280" y="4549320"/>
            <a:ext cx="32464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Славянские водяные дух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420920" cy="1990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1400040" cy="2138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3" name="Picture 7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1328760" cy="210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Rectangle 9"/>
          <p:cNvSpPr/>
          <p:nvPr/>
        </p:nvSpPr>
        <p:spPr>
          <a:xfrm>
            <a:off x="5219640" y="1628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Славянские домашние ду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219640" y="3284640"/>
            <a:ext cx="32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лавянские лесные ду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ОВ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9" descr="домовик"/>
          <p:cNvPicPr/>
          <p:nvPr/>
        </p:nvPicPr>
        <p:blipFill>
          <a:blip r:embed="rId2"/>
          <a:stretch/>
        </p:blipFill>
        <p:spPr>
          <a:xfrm>
            <a:off x="324000" y="1484280"/>
            <a:ext cx="3246120" cy="4046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78" name="Picture 11" descr="4"/>
          <p:cNvPicPr/>
          <p:nvPr/>
        </p:nvPicPr>
        <p:blipFill>
          <a:blip r:embed="rId3"/>
          <a:stretch/>
        </p:blipFill>
        <p:spPr>
          <a:xfrm>
            <a:off x="6804000" y="2133720"/>
            <a:ext cx="2048040" cy="2730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16" descr="0_25ea5_523a1aff_L[1]"/>
          <p:cNvPicPr/>
          <p:nvPr/>
        </p:nvPicPr>
        <p:blipFill>
          <a:blip r:embed="rId4"/>
          <a:stretch/>
        </p:blipFill>
        <p:spPr>
          <a:xfrm>
            <a:off x="3851280" y="2062080"/>
            <a:ext cx="2579760" cy="3022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брые домашние дух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р – древний бог очага, охранитель границ земельных вла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ровый – покровитель двора, помощник домо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нник – голый старичок, который обитает в неотопленной бане, но исчезает, когда начинают пари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ёма – вечерний и ночной дух в образе доброй старушки с ласковыми ру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1879560" cy="2185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3" name="Picture 15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1874880" cy="22082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4" name="Picture 16" descr=""/>
          <p:cNvPicPr/>
          <p:nvPr/>
        </p:nvPicPr>
        <p:blipFill>
          <a:blip r:embed="rId4"/>
          <a:stretch/>
        </p:blipFill>
        <p:spPr>
          <a:xfrm>
            <a:off x="4932360" y="1484280"/>
            <a:ext cx="1752480" cy="22827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5" name="Picture 17" descr=""/>
          <p:cNvPicPr/>
          <p:nvPr/>
        </p:nvPicPr>
        <p:blipFill>
          <a:blip r:embed="rId5"/>
          <a:stretch/>
        </p:blipFill>
        <p:spPr>
          <a:xfrm>
            <a:off x="7164360" y="1484280"/>
            <a:ext cx="1584360" cy="23036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лые домашние дух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кимора – злой и вредный дух, враг домового. Путает пряжу, бьёт посуду, стрижёт ов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рстнатый – ночной демон, давящий спящего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ш – нечистая сила, которая мучает пьяниц, допившихся до белой горяч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ыдни – существа, которые губят урожай, наводят болезни на домашний скот, ссорят домашн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152440" cy="2185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89" name="Picture 8" descr=""/>
          <p:cNvPicPr/>
          <p:nvPr/>
        </p:nvPicPr>
        <p:blipFill>
          <a:blip r:embed="rId3"/>
          <a:stretch/>
        </p:blipFill>
        <p:spPr>
          <a:xfrm>
            <a:off x="2556000" y="1700280"/>
            <a:ext cx="2274840" cy="12319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0" name="Picture 9" descr=""/>
          <p:cNvPicPr/>
          <p:nvPr/>
        </p:nvPicPr>
        <p:blipFill>
          <a:blip r:embed="rId4"/>
          <a:stretch/>
        </p:blipFill>
        <p:spPr>
          <a:xfrm>
            <a:off x="5003640" y="2133720"/>
            <a:ext cx="1652760" cy="12985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1" name="Picture 10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94040" cy="147636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ЕШ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8" descr="лешак"/>
          <p:cNvPicPr/>
          <p:nvPr/>
        </p:nvPicPr>
        <p:blipFill>
          <a:blip r:embed="rId2"/>
          <a:stretch/>
        </p:blipFill>
        <p:spPr>
          <a:xfrm>
            <a:off x="324000" y="1700280"/>
            <a:ext cx="2089080" cy="3816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94" name="Picture 9" descr="0_262d4_7c1cbb40_L[1]"/>
          <p:cNvPicPr/>
          <p:nvPr/>
        </p:nvPicPr>
        <p:blipFill>
          <a:blip r:embed="rId3"/>
          <a:stretch/>
        </p:blipFill>
        <p:spPr>
          <a:xfrm>
            <a:off x="2843280" y="2716200"/>
            <a:ext cx="2816280" cy="1987560"/>
          </a:xfrm>
          <a:prstGeom prst="rect">
            <a:avLst/>
          </a:prstGeom>
          <a:ln w="57240">
            <a:solidFill>
              <a:srgbClr val="010199"/>
            </a:solidFill>
            <a:miter/>
          </a:ln>
        </p:spPr>
      </p:pic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6156360" y="1700280"/>
            <a:ext cx="2519280" cy="384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лавянские лесные и полевые дух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03056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ба-Яга – лесная старушка, ведьма, которой подчиняются лесные зве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евой – дух, охраняющий хлебные по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сиглавцы – грозные оборотни, воинственные, свирепые и жесток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анетники – демоны облаков. Посылают на землю дожди или сдерживают их, наказывают градом за грех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017440" cy="190008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1579320" cy="19447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2484360" y="1700280"/>
            <a:ext cx="1771560" cy="194472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01" name="Picture 11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2764080" cy="103968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авянские праздни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Коля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Маслени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Иван Куп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4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аздник Коляд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8" descr="коляда"/>
          <p:cNvPicPr/>
          <p:nvPr/>
        </p:nvPicPr>
        <p:blipFill>
          <a:blip r:embed="rId2"/>
          <a:stretch/>
        </p:blipFill>
        <p:spPr>
          <a:xfrm>
            <a:off x="755640" y="2127240"/>
            <a:ext cx="2428920" cy="3238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07" name="Picture 9" descr="55[1]"/>
          <p:cNvPicPr/>
          <p:nvPr/>
        </p:nvPicPr>
        <p:blipFill>
          <a:blip r:embed="rId3"/>
          <a:stretch/>
        </p:blipFill>
        <p:spPr>
          <a:xfrm>
            <a:off x="5076720" y="1557360"/>
            <a:ext cx="3183120" cy="2185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08" name="Picture 10" descr="4442222[1]"/>
          <p:cNvPicPr/>
          <p:nvPr/>
        </p:nvPicPr>
        <p:blipFill>
          <a:blip r:embed="rId4"/>
          <a:stretch/>
        </p:blipFill>
        <p:spPr>
          <a:xfrm>
            <a:off x="5076720" y="4005360"/>
            <a:ext cx="3111480" cy="2187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аслениц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9" descr="0_29c9c_3f8fd679_L"/>
          <p:cNvPicPr/>
          <p:nvPr/>
        </p:nvPicPr>
        <p:blipFill>
          <a:blip r:embed="rId2"/>
          <a:stretch/>
        </p:blipFill>
        <p:spPr>
          <a:xfrm>
            <a:off x="539640" y="1197000"/>
            <a:ext cx="2408400" cy="283860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1" name="Picture 10" descr="92da5860ee48"/>
          <p:cNvPicPr/>
          <p:nvPr/>
        </p:nvPicPr>
        <p:blipFill>
          <a:blip r:embed="rId3"/>
          <a:stretch/>
        </p:blipFill>
        <p:spPr>
          <a:xfrm>
            <a:off x="3995640" y="1557360"/>
            <a:ext cx="4570560" cy="242100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2" name="Picture 12" descr="56755"/>
          <p:cNvPicPr/>
          <p:nvPr/>
        </p:nvPicPr>
        <p:blipFill>
          <a:blip r:embed="rId4"/>
          <a:stretch/>
        </p:blipFill>
        <p:spPr>
          <a:xfrm>
            <a:off x="5003640" y="4437000"/>
            <a:ext cx="2656080" cy="21668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  <p:pic>
        <p:nvPicPr>
          <p:cNvPr id="213" name="Picture 16" descr="др сл пр масленица"/>
          <p:cNvPicPr/>
          <p:nvPr/>
        </p:nvPicPr>
        <p:blipFill>
          <a:blip r:embed="rId5"/>
          <a:stretch/>
        </p:blipFill>
        <p:spPr>
          <a:xfrm>
            <a:off x="468360" y="4365720"/>
            <a:ext cx="3011400" cy="2327040"/>
          </a:xfrm>
          <a:prstGeom prst="rect">
            <a:avLst/>
          </a:prstGeom>
          <a:ln w="38160">
            <a:solidFill>
              <a:srgbClr val="00c6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95cf4e5d84fe"/>
          <p:cNvPicPr/>
          <p:nvPr/>
        </p:nvPicPr>
        <p:blipFill>
          <a:blip r:embed="rId2"/>
          <a:stretch/>
        </p:blipFill>
        <p:spPr>
          <a:xfrm>
            <a:off x="304920" y="762120"/>
            <a:ext cx="8227800" cy="5438520"/>
          </a:xfrm>
          <a:prstGeom prst="rect">
            <a:avLst/>
          </a:prstGeom>
          <a:ln w="57240">
            <a:solidFill>
              <a:srgbClr val="00c600"/>
            </a:solidFill>
            <a:miter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знь древних славя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ванов ден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9" descr="img324"/>
          <p:cNvPicPr/>
          <p:nvPr/>
        </p:nvPicPr>
        <p:blipFill>
          <a:blip r:embed="rId2"/>
          <a:stretch/>
        </p:blipFill>
        <p:spPr>
          <a:xfrm>
            <a:off x="2627280" y="1341360"/>
            <a:ext cx="4008600" cy="2301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6" name="Picture 10" descr="папоротник"/>
          <p:cNvPicPr/>
          <p:nvPr/>
        </p:nvPicPr>
        <p:blipFill>
          <a:blip r:embed="rId3"/>
          <a:stretch/>
        </p:blipFill>
        <p:spPr>
          <a:xfrm>
            <a:off x="324000" y="1341360"/>
            <a:ext cx="2166840" cy="1955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7" name="Picture 11" descr="s0166115"/>
          <p:cNvPicPr/>
          <p:nvPr/>
        </p:nvPicPr>
        <p:blipFill>
          <a:blip r:embed="rId4"/>
          <a:stretch/>
        </p:blipFill>
        <p:spPr>
          <a:xfrm>
            <a:off x="179280" y="3933720"/>
            <a:ext cx="2664000" cy="19922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8" name="Picture 12" descr="3a730825ecbf"/>
          <p:cNvPicPr/>
          <p:nvPr/>
        </p:nvPicPr>
        <p:blipFill>
          <a:blip r:embed="rId5"/>
          <a:stretch/>
        </p:blipFill>
        <p:spPr>
          <a:xfrm>
            <a:off x="3059280" y="3960720"/>
            <a:ext cx="2844720" cy="1987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19" name="Picture 14" descr="s1044528"/>
          <p:cNvPicPr/>
          <p:nvPr/>
        </p:nvPicPr>
        <p:blipFill>
          <a:blip r:embed="rId6"/>
          <a:stretch/>
        </p:blipFill>
        <p:spPr>
          <a:xfrm>
            <a:off x="6084720" y="4005360"/>
            <a:ext cx="2857680" cy="1757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Picture 15" descr=""/>
          <p:cNvPicPr/>
          <p:nvPr/>
        </p:nvPicPr>
        <p:blipFill>
          <a:blip r:embed="rId7"/>
          <a:stretch/>
        </p:blipFill>
        <p:spPr>
          <a:xfrm>
            <a:off x="6877080" y="692280"/>
            <a:ext cx="1925640" cy="313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се праздники древних славян были посвящены Солнц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7" descr="img320"/>
          <p:cNvPicPr/>
          <p:nvPr/>
        </p:nvPicPr>
        <p:blipFill>
          <a:blip r:embed="rId2"/>
          <a:stretch/>
        </p:blipFill>
        <p:spPr>
          <a:xfrm>
            <a:off x="4356000" y="2060640"/>
            <a:ext cx="4572000" cy="3384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223" name="Picture 8" descr="масленица - комоедица в день весен равнод"/>
          <p:cNvPicPr/>
          <p:nvPr/>
        </p:nvPicPr>
        <p:blipFill>
          <a:blip r:embed="rId3"/>
          <a:stretch/>
        </p:blipFill>
        <p:spPr>
          <a:xfrm>
            <a:off x="250920" y="2060640"/>
            <a:ext cx="4038480" cy="3419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ой вывод можно сделать о жизни древних славя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5064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1911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: Егорова Е.А. учитель МБОУ «СОШ № 151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. Краснояр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ройство дом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-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4030560"/>
            <a:ext cx="728352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380960"/>
            <a:ext cx="670536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531280" cy="60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13840" y="559584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 чего могли строить славяне свои до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Mus-praz"/>
          <p:cNvPicPr/>
          <p:nvPr/>
        </p:nvPicPr>
        <p:blipFill>
          <a:blip r:embed="rId2"/>
          <a:stretch/>
        </p:blipFill>
        <p:spPr>
          <a:xfrm>
            <a:off x="611280" y="1557360"/>
            <a:ext cx="2108160" cy="252720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дежда древних слав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Mus-voin"/>
          <p:cNvPicPr/>
          <p:nvPr/>
        </p:nvPicPr>
        <p:blipFill>
          <a:blip r:embed="rId3"/>
          <a:stretch/>
        </p:blipFill>
        <p:spPr>
          <a:xfrm>
            <a:off x="7093080" y="1413000"/>
            <a:ext cx="1449360" cy="218592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08" name="Picture 11" descr="Fem-dev"/>
          <p:cNvPicPr/>
          <p:nvPr/>
        </p:nvPicPr>
        <p:blipFill>
          <a:blip r:embed="rId4"/>
          <a:stretch/>
        </p:blipFill>
        <p:spPr>
          <a:xfrm>
            <a:off x="1835280" y="4437000"/>
            <a:ext cx="1136520" cy="218772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09" name="Picture 12" descr="Fem-praz"/>
          <p:cNvPicPr/>
          <p:nvPr/>
        </p:nvPicPr>
        <p:blipFill>
          <a:blip r:embed="rId5"/>
          <a:stretch/>
        </p:blipFill>
        <p:spPr>
          <a:xfrm>
            <a:off x="6948360" y="4437000"/>
            <a:ext cx="1270080" cy="210816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pic>
        <p:nvPicPr>
          <p:cNvPr id="110" name="Picture 13" descr="Det"/>
          <p:cNvPicPr/>
          <p:nvPr/>
        </p:nvPicPr>
        <p:blipFill>
          <a:blip r:embed="rId6"/>
          <a:stretch/>
        </p:blipFill>
        <p:spPr>
          <a:xfrm>
            <a:off x="3851280" y="2276640"/>
            <a:ext cx="2413080" cy="2984400"/>
          </a:xfrm>
          <a:prstGeom prst="rect">
            <a:avLst/>
          </a:prstGeom>
          <a:ln w="28440">
            <a:solidFill>
              <a:srgbClr val="00c600"/>
            </a:solidFill>
            <a:miter/>
          </a:ln>
        </p:spPr>
      </p:pic>
      <p:sp>
        <p:nvSpPr>
          <p:cNvPr id="111" name="AutoShape 14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048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Grup"/>
          <p:cNvPicPr/>
          <p:nvPr/>
        </p:nvPicPr>
        <p:blipFill>
          <a:blip r:embed="rId2"/>
          <a:stretch/>
        </p:blipFill>
        <p:spPr>
          <a:xfrm>
            <a:off x="1143000" y="228600"/>
            <a:ext cx="3608280" cy="2806560"/>
          </a:xfrm>
          <a:prstGeom prst="rect">
            <a:avLst/>
          </a:prstGeom>
          <a:ln w="38160">
            <a:solidFill>
              <a:srgbClr val="010199"/>
            </a:solidFill>
            <a:miter/>
          </a:ln>
        </p:spPr>
      </p:pic>
      <p:pic>
        <p:nvPicPr>
          <p:cNvPr id="115" name="Picture 11" descr="костюмы"/>
          <p:cNvPicPr/>
          <p:nvPr/>
        </p:nvPicPr>
        <p:blipFill>
          <a:blip r:embed="rId3"/>
          <a:stretch/>
        </p:blipFill>
        <p:spPr>
          <a:xfrm>
            <a:off x="685800" y="3505320"/>
            <a:ext cx="1962000" cy="2666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352680" y="2971800"/>
            <a:ext cx="5639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Чем занимались древние славяне мужчины?  Работа в групп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1147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18:18Z</dcterms:created>
  <dc:creator>Елена</dc:creator>
  <dc:description/>
  <dc:language>en-US</dc:language>
  <cp:lastModifiedBy>Елена</cp:lastModifiedBy>
  <dcterms:modified xsi:type="dcterms:W3CDTF">2015-01-30T09:01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