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a1apo" initials="r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5-01-17T23:00:22.756000000" idx="1">
    <p:pos x="10" y="10"/>
    <p:text/>
  </p:cm>
  <p:cm authorId="0" dt="2015-01-17T23:00:25.320000000" idx="2">
    <p:pos x="146" y="14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3B5-36C4-4A42-A045-119F89ECB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! Я Осипенко Анна ученица 9 А класса школы №3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моей работы: изучение поведенческих адаптаций рака в условиях не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итель биологии Набатова А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то и видео материалы, представленные в моей работе выполнены 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F5F-BA35-45E2-8962-7AA989CB1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одержу раков в своем аквариуме уже несколько лет и поэтому мне интересна любая информация о них. В книге Александра Маркова «Эволюция человека», мы нашли интересные данные о том, что рак – перспективный объект нейробиологических исслед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ки и человек имеют сходные нейрологические механизмы принятия 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 раков в осуществлении некоторых поведенческих реакций участвуют немногочисленные нейроны и эти нейроны очень круп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лектрическую активность крупных нейронов рака можно регистрировать неинвазивными методами – помещая электороды в воду рядом с раком и не нанося вреда живот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и интегрируют информацию, поступающую из разных органов чувств, «взвешивают» значимость этих сигналов и принимают решения на основе результатов взвешивания, что может быть моделью для изучения простейших мыслительных процессо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2F16-B187-492B-B1F4-40685069A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данной работы: Изучить поведенческие реакции мраморного рака на предполагаемого хищ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D46-D51F-43FC-8FF7-6F068400E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задачей исследования стало конечно же изучение литературных источников (нажимаем на гиперссылку в вид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практической задачей будет подобрать пищевой стимул, который заставит двигаться животное в нужном нам напр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альше мы сможем провести серию экспериментов, предлагая голодному раку интересную ему пищу и при этом создавая эффект приближения хищника, что позволит проанализировать его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жатие на гиперссылку р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9B0E-18CE-4EB6-826F-8015791EB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т вид был обнаружен в Германии, однако о родине этого беспозвоночного доподлинно ничего неизвестно. Размножается партеногенезом. Это, пожалуй, самая интересная особенность данного вида. Самки не нуждаются в оплодотворении самцом, они сами способны дать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реакции напрямую связаны с особенностями строения раков. Двигаются раки по дну на ходильных ногах головой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169-D1FA-41B8-8C51-D35199A9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56C-D7FC-45E2-B949-5A5ADF5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4F5-CEA6-464A-AC80-A2FA2457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727-B872-44E8-8A20-FA62C916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964-3FF2-409F-A46E-418CB273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637-0086-41A5-B87C-41F7EFBC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031-57B4-49D3-852D-6FE4C7A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C4C-3C02-4800-9423-10CF533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A56-FA88-4411-8E8A-FD7F2A0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31E-B968-4A9D-8326-4E24D93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C5B-03FC-438B-880A-17C40A7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2D5-89B5-4905-8D38-CF97BE88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CA1D-57E9-42C7-8D32-2CC2406FF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gif"/><Relationship Id="rId3" Type="http://schemas.openxmlformats.org/officeDocument/2006/relationships/slide" Target="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4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63128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</a:rPr>
              <a:t>Изучение поведенческих адаптаций мраморного рака в условиях нев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9280" y="4365720"/>
            <a:ext cx="5176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Работу выполнила  Осипенко Ан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Ученица 9А класса средней школы </a:t>
            </a:r>
            <a:r>
              <a:rPr b="0" lang="en-US" sz="2400" spc="-1" strike="noStrike">
                <a:solidFill>
                  <a:srgbClr val="632523"/>
                </a:solidFill>
                <a:latin typeface="Monotype Corsiva"/>
              </a:rPr>
              <a:t>N 3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Monotype Corsiva"/>
              </a:rPr>
              <a:t>Руководитель: Набатова А.В</a:t>
            </a:r>
            <a:r>
              <a:rPr b="0" lang="ru-RU" sz="2400" spc="-1" strike="noStrike">
                <a:solidFill>
                  <a:srgbClr val="66003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17560" y="198900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раморный рак – перспективный объект нейробиологических исследова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жет быть моделью для изучения простейших мыслительных процессов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836640"/>
            <a:ext cx="5759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349360"/>
            <a:ext cx="73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учить поведенческие реакции мраморного рака на предполагаемого хищ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</a:rPr>
              <a:t>Зада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5000" y="1685520"/>
            <a:ext cx="7942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зучить литературные источники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добрать пищевой стиму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овести серию экспериментов по выяснению поведенческой реакции рака на приближение возможного хищн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делать 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6120" y="620640"/>
            <a:ext cx="1648080" cy="112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3640" y="4941720"/>
            <a:ext cx="11527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Monotype Corsiva"/>
                <a:ea typeface="Times New Roman"/>
              </a:rPr>
              <a:t>Объект исследования: Мраморный ра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DSC_0220.JPG"/>
          <p:cNvPicPr/>
          <p:nvPr/>
        </p:nvPicPr>
        <p:blipFill>
          <a:blip r:embed="rId1"/>
          <a:stretch/>
        </p:blipFill>
        <p:spPr>
          <a:xfrm>
            <a:off x="-201600" y="2193840"/>
            <a:ext cx="67975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2:18:06Z</dcterms:created>
  <dc:creator>Пользователь</dc:creator>
  <dc:description/>
  <dc:language>en-US</dc:language>
  <cp:lastModifiedBy>ra1apo</cp:lastModifiedBy>
  <dcterms:modified xsi:type="dcterms:W3CDTF">2015-01-31T11:55:28Z</dcterms:modified>
  <cp:revision>106</cp:revision>
  <dc:subject/>
  <dc:title>Слайд 1</dc:title>
</cp:coreProperties>
</file>