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a1apo" initials="r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5-01-17T23:00:22.756000000" idx="1">
    <p:pos x="10" y="10"/>
    <p:text/>
  </p:cm>
  <p:cm authorId="0" dt="2015-01-17T23:00:25.320000000" idx="2">
    <p:pos x="146" y="14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5D1E-F09E-4BA3-8588-B4CDC735C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! Я Осипенко Анна ученица 9 А класса школы №3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моей работы: изучение поведенческих адаптаций рака в условиях не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итель биологии Набатова А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то и видео материалы, представленные в моей работе выполнены 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E76-88B7-4C4A-90E5-BB064F385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одержу раков в своем аквариуме уже несколько лет и поэтому мне интересна любая информация о них. В книге Александра Маркова «Эволюция человека», мы нашли интересные данные о том, что рак – перспективный объект нейробиологических исслед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ки и человек имеют сходные нейрологические механизмы принятия 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 раков в осуществлении некоторых поведенческих реакций участвуют немногочисленные нейроны и эти нейроны очень круп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лектрическую активность крупных нейронов рака можно регистрировать неинвазивными методами – помещая электороды в воду рядом с раком и не нанося вреда живот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и интегрируют информацию, поступающую из разных органов чувств, «взвешивают» значимость этих сигналов и принимают решения на основе результатов взвешивания, что может быть моделью для изучения простейших мыслительных процессо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B2F-9CAA-44C1-90F8-7C732B21B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анной работы: Изучить поведенческие реакции мраморного рака на предполагаемого хищ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F19-A734-4497-B09A-C87FD6A99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задачей исследования стало конечно же изучение литературных источников (нажимаем на гиперссылку в вид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практической задачей будет подобрать пищевой стимул, который заставит двигаться животное в нужном нам напр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альше мы сможем провести серию экспериментов, предлагая голодному раку интересную ему пищу и при этом создавая эффект приближения хищника, что позволит проанализировать его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жатие на гиперссылку р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26E2-563D-4DBA-8873-F9EB92372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т вид был обнаружен в Германии, однако о родине этого беспозвоночного доподлинно ничего неизвестно. Размножается партеногенезом. Это, пожалуй, самая интересная особенность данного вида. Самки не нуждаются в оплодотворении самцом, они сами способны дать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реакции напрямую связаны с особенностями строения раков. Двигаются раки по дну на ходильных ногах головой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FB6-75D5-4E8D-9A7F-3D539C4C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D7A-B64B-431A-BB1A-848C69C6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119-E500-4377-B90A-E59B8FA2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F13-08BA-460B-B179-88ED5826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484-C3BB-44F5-A49E-9E368F2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D1E-E444-43F8-8E63-D595B878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C80-598D-438B-8656-503284E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D4D-79AC-424D-AFA8-E3D2050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871-542B-48E1-98F3-B72F8D16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EC6-9B02-477C-8010-EF8A4B4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AD4-3DE1-4BBC-A74F-A7451CB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BD0-AE3E-4B1F-9A01-456B43F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DAE-79B0-48FD-8FB3-882A62EFC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gif"/><Relationship Id="rId3" Type="http://schemas.openxmlformats.org/officeDocument/2006/relationships/slide" Target="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4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63128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</a:rPr>
              <a:t>Изучение поведенческих адаптаций мраморного рака в условиях нев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4365720"/>
            <a:ext cx="5176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Работу выполнила  Осипенко Ан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Ученица 9А класса средней школы </a:t>
            </a:r>
            <a:r>
              <a:rPr b="0" lang="en-US" sz="2400" spc="-1" strike="noStrike">
                <a:solidFill>
                  <a:srgbClr val="632523"/>
                </a:solidFill>
                <a:latin typeface="Monotype Corsiva"/>
              </a:rPr>
              <a:t>N 3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Руководитель: Набатова А.В</a:t>
            </a:r>
            <a:r>
              <a:rPr b="0" lang="ru-RU" sz="2400" spc="-1" strike="noStrike">
                <a:solidFill>
                  <a:srgbClr val="66003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17560" y="198900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раморный рак – перспективный объект нейробиологических исследова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жет быть моделью для изучения простейших мыслительных процессов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836640"/>
            <a:ext cx="575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349360"/>
            <a:ext cx="73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учить поведенческие реакции мраморного рака на предполагаемого хищ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5000" y="1685520"/>
            <a:ext cx="7942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учить литературные источники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добрать пищевой стиму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овести серию экспериментов по выяснению поведенческой реакции рака на приближение возможного хищн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делать 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6120" y="620640"/>
            <a:ext cx="1648080" cy="112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3640" y="4941720"/>
            <a:ext cx="11527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Объект исследования: Мраморный ра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DSC_0220.JPG"/>
          <p:cNvPicPr/>
          <p:nvPr/>
        </p:nvPicPr>
        <p:blipFill>
          <a:blip r:embed="rId1"/>
          <a:stretch/>
        </p:blipFill>
        <p:spPr>
          <a:xfrm>
            <a:off x="-201600" y="2193840"/>
            <a:ext cx="67975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2:18:06Z</dcterms:created>
  <dc:creator>Пользователь</dc:creator>
  <dc:description/>
  <dc:language>en-US</dc:language>
  <cp:lastModifiedBy>ra1apo</cp:lastModifiedBy>
  <dcterms:modified xsi:type="dcterms:W3CDTF">2015-01-31T11:55:28Z</dcterms:modified>
  <cp:revision>106</cp:revision>
  <dc:subject/>
  <dc:title>Слайд 1</dc:title>
</cp:coreProperties>
</file>