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4CD5-5B22-42F4-AD63-38CD8A71E4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6DF4-ADFA-4E25-B081-7B9A647E8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EF68-7EAB-457C-9819-2D53EDFB2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1B1-CE17-42FB-8A49-A1A89A1B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6D8-098C-4CE7-9E62-B50F611B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30E-29A5-4F37-B424-84A73A495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CD16-CE64-4080-BB2F-714CF6F3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1C2BB-38AA-46C8-BF97-B9C037951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897-1CEF-48F7-A55F-8951F85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ABA2-CE8F-4EBF-A6BA-279F92E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C69E-17F1-497B-A62B-896E320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405A-C470-4CD7-AA6D-26A81E189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53F1-F290-44B4-9EF0-137027AB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50E6-B3A3-43F9-8476-7391C6FF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7367-5F52-4897-AB31-4B523E49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6AF4-4DA3-448F-BECA-0C85FE3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0364-EE38-442A-9CD5-B683674B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6FF-CE9C-4CFC-8112-3F161DB2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B51C-87DC-4496-AA0E-D50F0969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73AB-E57D-4853-A9B6-5BB2EEED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8A9A8-5F6E-4257-8F0F-BA588E5B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356A-8545-4051-A22A-CA7AAAC8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9C67-9377-40A4-A48D-70A2D482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650D7-9320-4958-BF86-291D3582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E07-C554-4106-8410-73CAF43E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E1FAB-6FB4-4E8A-8A7D-EBDEF417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5339C-D1FC-4DD7-9EA4-630E8E6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11243-DA29-474C-8653-6C2E895C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968FA-9721-4CD3-B52A-2306A64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AEB4-32C3-4719-8967-2AA029471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8A16-84B0-47D2-8100-102CDF95F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2DEA-A6C2-4790-BCBC-0D4A5F64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4A7DE-F31E-4543-AC52-838C69EDA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3B98-723B-416B-8893-FEC01B3D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871E-299A-430D-AE0C-0C8F966D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A038-9523-4051-B7BC-CBDE4254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58D9-92FD-41B2-AACE-BD4BF0C9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990E1-B1FB-4C28-9BB2-30BA0A75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5F7B5-D60D-4336-AD3E-6FE868BD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2857-2594-4E6A-B28C-E50CE557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7F344-F01F-4923-8B42-55796A49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D339-D852-43BE-8D41-82EDBE20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AD376-1921-4A5A-A830-CE4E063E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B48FB-B9BE-4A24-A692-81CDF32F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17DF2-50E1-4B04-BC00-8393B826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1C9-7861-4C08-A6BB-4EED8C15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92E-BB8A-475A-A7B4-BF50ADA9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299-40D0-4B65-BD0D-5F0B9F39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FB4-30F2-4347-9320-D50D9E9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8F4-5FC2-4CD6-AFD4-FC6971FF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0F28-046E-4E56-82EA-396B85660D8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003C-10A6-4978-99C8-FC2BD3E0D4A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663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4C5-8279-4426-B885-9889BD3FF65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7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F4CF-4976-4888-81CB-443DB46FD48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6"/>
          <p:cNvSpPr/>
          <p:nvPr/>
        </p:nvSpPr>
        <p:spPr>
          <a:xfrm>
            <a:off x="468360" y="112536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Психологические советы родителям при подготовке старшеклассников к экзаменам</a:t>
            </a: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D:\temp\Тома\Тома Стефани\здоровье учителя и ученика\7.jpg"/>
          <p:cNvPicPr/>
          <p:nvPr/>
        </p:nvPicPr>
        <p:blipFill>
          <a:blip r:embed="rId1"/>
          <a:stretch/>
        </p:blipFill>
        <p:spPr>
          <a:xfrm>
            <a:off x="826920" y="3549600"/>
            <a:ext cx="2881440" cy="228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огите детям распределить темы подготовки по дням. Очень полезно делать краткие схематические выписки и таблицы, упорядочивая изучаемый материал по плану. Основные формулы и определения можно выписать на листочках и повесить над письменным ст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знакомьте ребёнка с методикой подготовки к экзаменам. Подготовьте различные варианты тестовых заданий по предмету и потренируйте ребёнка, ведь тестирование отличается от привычных ему письменных и устны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85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дбадривайте детей, хвалите их за то , что они делают хорош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9900"/>
                </a:solidFill>
                <a:latin typeface="Arial"/>
              </a:rPr>
              <a:t>Контролируйте режим подготовки ребёнка к экзаменам, не допускайте перегрузо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 д. стимулируют работу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акануне экзамена обеспечьте ребёнку полноценный отдых, он должен отдохнуть и как следует высп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критикуете ребёнка после экза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омните: главное – снизить напряжение и тревожность ребёнка и обеспечить ему подходящие условия дл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99ff"/>
                </a:solidFill>
                <a:latin typeface="Arial"/>
              </a:rPr>
              <a:t>Посоветуйте детям во время экзамена обратить внимание на следующее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пробежать  глазами весь тест, чтобы увидеть, какого типа задания в нем содержаться (это поможет настроиться на работу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- не дочитав до конца, по первым словам уже предполагают ответ и торопятся его вписать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ru-RU" sz="1900" spc="-1" strike="noStrike" u="sng">
                <a:solidFill>
                  <a:srgbClr val="0099ff"/>
                </a:solidFill>
                <a:uFillTx/>
                <a:latin typeface="Arial"/>
              </a:rPr>
              <a:t>И помните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1700" spc="-1" strike="noStrike">
                <a:solidFill>
                  <a:srgbClr val="009900"/>
                </a:solidFill>
                <a:latin typeface="Arial"/>
              </a:rPr>
              <a:t>самое главное- это снизить напряжение и тревожность ребенка и обеспечить подходящие условия для занят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4"/>
          <p:cNvSpPr txBox="1"/>
          <p:nvPr/>
        </p:nvSpPr>
        <p:spPr>
          <a:xfrm rot="20525400">
            <a:off x="684000" y="1557000"/>
            <a:ext cx="733428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100000">
                      <a:srgbClr val="ceadbd"/>
                    </a:gs>
                  </a:gsLst>
                  <a:lin ang="6474000"/>
                </a:gradFill>
                <a:latin typeface="Monotype Corsiva"/>
              </a:rPr>
              <a:t>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100000">
                    <a:srgbClr val="ceadbd"/>
                  </a:gs>
                </a:gsLst>
                <a:lin ang="6474000"/>
              </a:gradFill>
              <a:latin typeface="Monotype Corsiva"/>
              <a:ea typeface="Monotype Corsiva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7020000" y="3933720"/>
            <a:ext cx="1725480" cy="20671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 rot="20488200">
            <a:off x="999000" y="1857240"/>
            <a:ext cx="728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Что такое стресс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9900"/>
                </a:solidFill>
                <a:uFillTx/>
                <a:latin typeface="Arial"/>
              </a:rPr>
              <a:t>Стресс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 — состояние психического напряжения, возникающее у человека под влиянием сильных воздействий. Может оказывать как положительное, так и отрицательное влияние на жизнедеятельность, вплоть до ее полной дезорган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физиологическая реакция организма, выражающаяся в состоянии напряжения, подавленности, с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632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ФИЗИОЛОГИЧЕСКИ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силение кожной сып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головные бо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ошно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«медвежья болезнь» (диарея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мышечное напряж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глубление и учащение дых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учащённый пульс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ерепады артериального давл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812f"/>
                </a:solidFill>
                <a:latin typeface="Arial"/>
              </a:rPr>
              <a:t>ЭМОЦИОНАЛЬНЫЕ СИМПТОМЫ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чувство общего недомог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стеря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аник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стра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неувер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тревог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депресс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подавлен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раздражительнос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b812f"/>
                </a:solidFill>
                <a:latin typeface="Arial"/>
              </a:rPr>
              <a:t>КОГНИТИВНЫЕ (ИНТЕЛЛЕКТУАЛЬНЫЕ) СИМПТОМ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чрезмерная самокритика, сравнение своей подготовленности с другими в невыгодном для себя свет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неприятные воспоминания о провалах на экзаменах в прошлом (своих или чуж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воображение отрицательных последствий неудачи на экзамене (исключение из вуза, лишение стипендии и т.п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кошмарные сновиде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ухудшение памя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663300"/>
                </a:solidFill>
                <a:latin typeface="Arial"/>
              </a:rPr>
              <a:t>снижение способности к концентрации внимания, рассеянность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663300"/>
                </a:solidFill>
                <a:latin typeface="Garamond"/>
              </a:rPr>
              <a:t>Симптомы экзаменационного стресс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b812f"/>
                </a:solidFill>
                <a:latin typeface="Arial"/>
              </a:rPr>
              <a:t>ПОВЕДЕНЧЕСКИЕ СИМПТОМЫ:</a:t>
            </a:r>
            <a:r>
              <a:rPr b="0" lang="ru-RU" sz="2100" spc="-1" strike="noStrike">
                <a:solidFill>
                  <a:srgbClr val="3b812f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стремление заниматься любым другим делом, лишь бы не готовиться к экзамену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избегание любых напоминаний об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меньшение эффективности в учёбе в экзаменационный период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вовлечение других людей в тревожные разговоры о предстоящих экзаменах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величение употребления кофеина и алкогол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с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663300"/>
                </a:solidFill>
                <a:latin typeface="Arial"/>
              </a:rPr>
              <a:t>ухудшение аппети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Стрессоустойчивос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569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663300"/>
                </a:solidFill>
                <a:latin typeface="Arial"/>
              </a:rPr>
              <a:t>определяется совокупностью личностных качеств, позволяющих человеку переносить значительные интеллектуальные, волевые и эмоциональные нагрузки, обусловленные особенностями профессиональной деятельности, без особых вредных последствий для деятельности, окружающих и своего здоровь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D:\temp\Тома\Тома Стефани\ЕГЭ 2\9.gif"/>
          <p:cNvPicPr/>
          <p:nvPr/>
        </p:nvPicPr>
        <p:blipFill>
          <a:blip r:embed="rId1"/>
          <a:stretch/>
        </p:blipFill>
        <p:spPr>
          <a:xfrm>
            <a:off x="7020000" y="5013360"/>
            <a:ext cx="16351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63300"/>
                </a:solidFill>
                <a:latin typeface="Garamond"/>
              </a:rPr>
              <a:t>Экзаменационный стрес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6633"/>
                </a:solidFill>
                <a:latin typeface="Arial"/>
              </a:rPr>
              <a:t>Причин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интенсивная умственная деятельность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грузка на одни и те же мышцы и органы из-за длительного сидения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арушение режима сна и отдых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63300"/>
                </a:solidFill>
                <a:latin typeface="Arial"/>
              </a:rPr>
              <a:t>негативные пережив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8" descr="D:\temp\Тома\Тома Стефани\здоровье учителя и ученика\6.jpg"/>
          <p:cNvPicPr/>
          <p:nvPr/>
        </p:nvPicPr>
        <p:blipFill>
          <a:blip r:embed="rId1"/>
          <a:stretch/>
        </p:blipFill>
        <p:spPr>
          <a:xfrm>
            <a:off x="6443640" y="4437000"/>
            <a:ext cx="2152800" cy="1557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3300"/>
                </a:solidFill>
                <a:latin typeface="Garamond"/>
              </a:rPr>
              <a:t>Памятки родителя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нушайте ребёнку мысль, что количество баллов не является совершенным измерением его возмо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 повышайте тревожность ребёнка накануне экзаменов. Ребенку всегда передается волнение родителей, и если взрослые в ответственный момент могут справиться со своими эмоциями, то ребёнок в силу возрастных особенностей может не справиться со своими эмоциями и «сорватьс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7:04Z</dcterms:created>
  <dc:creator>Katunina</dc:creator>
  <dc:description/>
  <cp:keywords/>
  <dc:language>en-US</dc:language>
  <cp:lastModifiedBy>Admin</cp:lastModifiedBy>
  <dcterms:modified xsi:type="dcterms:W3CDTF">2012-10-15T17:37:14Z</dcterms:modified>
  <cp:revision>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