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0851-CCB3-4A08-A90B-BE82D0B61B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4EEB-70D6-4E27-8EB8-0CA1D190A8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C3E-70F0-4C7A-A218-295604F0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5C8-1CF1-45CD-BF98-749F00FA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F172-4FAE-4BAF-8BC9-EED76A9D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5C8-421D-43F8-93FD-B1E687E4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95A2-90DE-4AF6-990E-258B8ADD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F2A1-E677-4B53-9E3B-36BD69F8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054C-4A06-4C61-BEF2-1680F9D2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7E39-910D-4E17-A6D5-D4076A28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A8A4-4991-4095-A9C1-F440C147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03D1-210E-4D45-92BD-1D0C760D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663A-52B7-4CCC-A3B8-D934AB33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0CD-0738-4541-8628-DD390123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2DFA-BCDE-43C0-85DC-66BA7F79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768E-2A48-43ED-BA55-4AD80002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0840-0B02-4550-BFCB-8F9D4E14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F8FD-E6FE-4E6D-9552-DDEE9628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BC28-3D12-4F06-A403-CDDC197F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AA08B-312E-4421-B71A-1072C5EA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670E5-1D3F-4CD7-A5A7-0F593DDF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85269-4BC3-47D9-8539-D2E9A73D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8165B-6712-4335-A08D-4F733365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C99B-4737-4B6F-9948-36DE6952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962-7F60-4A15-976A-1AE41002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E5328-9A7F-4F12-8461-5E83C007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A7D76-B986-4687-A95C-573CF932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00288-128E-4B1E-97AC-65D34999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97093-533D-4C43-9A71-33AC2081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D659E-3ABB-4CD3-BE4D-6111DC92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F3B7C-215F-4436-9E84-4D476245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15D00-E42D-423E-AE40-CDE07798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AA94B-308D-4568-B71A-8101F935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F4F91-A44F-43F0-AE92-75208F84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0DD6D-39D3-4600-9973-3A8BE56C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A8E-6455-483E-A033-817D486B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C48BF-6AC5-4F7C-8731-11827061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FBA7C-9311-46FD-8980-94CDD6E2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4C60D-D96E-4BD8-B7C6-2E5C3E12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AD18D-FDDB-4B7D-8AA1-37B9EBDE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E31A9-BE98-4BDC-86C8-903A8125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B4585-F42F-427E-89CC-81DF10A0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D8DD0-65A3-4E48-A8FF-5052773B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7EF64-907F-4FA1-9D28-6A973B11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62F9F-91C7-4F03-AA06-4459C766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BEA-9A0D-470D-B74A-B731D0F4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28F-8686-4003-A864-A9F0D669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FE4-5275-4993-9540-2F0F1185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AD7-A75A-4A8A-ACC1-414FD3B6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61C-3DB8-4E29-8EC3-8942F92A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169A-F36D-4D48-B548-024F9CA64A5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7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EB0E-EF0E-478C-8258-AC87634DA23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4451-0E43-4DAD-8035-C876AFE948C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7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0CE9-2A51-43C0-A61E-3119C3623BD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6"/>
          <p:cNvSpPr/>
          <p:nvPr/>
        </p:nvSpPr>
        <p:spPr>
          <a:xfrm>
            <a:off x="468360" y="112536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Психологические советы родителям при подготовке старшеклассников к экзаменам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D:\temp\Тома\Тома Стефани\здоровье учителя и ученика\7.jpg"/>
          <p:cNvPicPr/>
          <p:nvPr/>
        </p:nvPicPr>
        <p:blipFill>
          <a:blip r:embed="rId1"/>
          <a:stretch/>
        </p:blipFill>
        <p:spPr>
          <a:xfrm>
            <a:off x="826920" y="3549600"/>
            <a:ext cx="2881440" cy="2287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омогите детям распределить темы подготовки по дням. Очень полезно делать краткие схематические выписки и таблицы, упорядочивая изучаемый материал по плану. Основные формулы и определения можно выписать на листочках и повесить над письменным ст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85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Подбадривайте детей, хвалите их за то , что они делают хорош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Повышайте их уверенность в себе, так как чем больше ребенок боится неудачи, тем более вероятности допущения ошиб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Контролируйте режим подготовки ребёнка к экзаменам, не допускайте перегруз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 д. стимулируют работу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акануне экзамена обеспечьте ребёнку полноценный отдых, он должен отдохнуть и как следует высп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е критикуете ребёнка после экза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омните: главное – снизить напряжение и тревожность ребёнка и обеспечить ему подходящие условия для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99ff"/>
                </a:solidFill>
                <a:latin typeface="Arial"/>
              </a:rPr>
              <a:t>Посоветуйте детям во время экзамена обратить внимание на следующее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пробежать  глазами весь тест, чтобы увидеть, какого типа задания в нем содержаться (это поможет настроиться на работу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внимательно прочитать вопрос до конца и понять его смысл (характерная ошибка во время тестирования- не дочитав до конца, по первым словам уже предполагают ответ и торопятся его вписать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если не знаешь ответа на вопрос или не уверен, пропусти его и отметь, чтобы потом к нему вернутьс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если не смог в течение отведенного времени ответить на вопрос, есть смысл положиться на свою интуицию и указать наиболее вероятный вариан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ru-RU" sz="1900" spc="-1" strike="noStrike" u="sng">
                <a:solidFill>
                  <a:srgbClr val="0099ff"/>
                </a:solidFill>
                <a:uFillTx/>
                <a:latin typeface="Arial"/>
              </a:rPr>
              <a:t>И помнит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самое главное- это снизить напряжение и тревожность ребенка и обеспечить подходящие условия для занят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 rot="20525400">
            <a:off x="684000" y="1557000"/>
            <a:ext cx="73342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100000">
                      <a:srgbClr val="ceadbd"/>
                    </a:gs>
                  </a:gsLst>
                  <a:lin ang="6474000"/>
                </a:gradFill>
                <a:latin typeface="Monotype Corsiva"/>
              </a:rPr>
              <a:t>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100000">
                    <a:srgbClr val="ceadbd"/>
                  </a:gs>
                </a:gsLst>
                <a:lin ang="6474000"/>
              </a:gradFill>
              <a:latin typeface="Monotype Corsiva"/>
              <a:ea typeface="Monotype Corsiva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7020000" y="3933720"/>
            <a:ext cx="1725480" cy="20671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 rot="20488200">
            <a:off x="999000" y="185724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Garamond"/>
              </a:rPr>
              <a:t>Что такое стресс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9900"/>
                </a:solidFill>
                <a:uFillTx/>
                <a:latin typeface="Arial"/>
              </a:rPr>
              <a:t>Стресс</a:t>
            </a: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 — состояние психического напряжения, возникающее у человека под влиянием сильных воздействий. Может оказывать как положительное, так и отрицательное влияние на жизнедеятельность, вплоть до ее полной дезорган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физиологическая реакция организма, выражающаяся в состоянии напряжения, подавленности, спа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3300"/>
                </a:solidFill>
                <a:latin typeface="Garamond"/>
              </a:rPr>
              <a:t>Симптомы экзаменационного стрес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32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b812f"/>
                </a:solidFill>
                <a:latin typeface="Arial"/>
              </a:rPr>
              <a:t>ФИЗИОЛОГИЧЕСКИЕ СИМПТОМЫ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усиление кожной сып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головные бол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тошно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«медвежья болезнь» (диарея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мышечное напряже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углубление и учащение дых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учащённый пуль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перепады артериального давл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3300"/>
                </a:solidFill>
                <a:latin typeface="Garamond"/>
              </a:rPr>
              <a:t>Симптомы экзаменационного стрес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b812f"/>
                </a:solidFill>
                <a:latin typeface="Arial"/>
              </a:rPr>
              <a:t>ЭМОЦИОНАЛЬНЫЕ СИМПТОМЫ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чувство общего недомог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растерян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пани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стра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неуверен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тревог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депресс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подавлен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раздражитель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3300"/>
                </a:solidFill>
                <a:latin typeface="Garamond"/>
              </a:rPr>
              <a:t>Симптомы экзаменационного стрес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b812f"/>
                </a:solidFill>
                <a:latin typeface="Arial"/>
              </a:rPr>
              <a:t>КОГНИТИВНЫЕ (ИНТЕЛЛЕКТУАЛЬНЫЕ) СИМПТОМЫ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чрезмерная самокритика, сравнение своей подготовленности с другими в невыгодном для себя свет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неприятные воспоминания о провалах на экзаменах в прошлом (своих или чужи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воображение отрицательных последствий неудачи на экзамене (исключение из вуза, лишение стипендии и т.п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кошмарные сновид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ухудшение памя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снижение способности к концентрации внимания, рассеянно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3300"/>
                </a:solidFill>
                <a:latin typeface="Garamond"/>
              </a:rPr>
              <a:t>Симптомы экзаменационного стрес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b812f"/>
                </a:solidFill>
                <a:latin typeface="Arial"/>
              </a:rPr>
              <a:t>ПОВЕДЕНЧЕСКИЕ СИМПТОМЫ:</a:t>
            </a:r>
            <a:r>
              <a:rPr b="0" lang="ru-RU" sz="21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стремление заниматься любым другим делом, лишь бы не готовиться к экзамену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избегание любых напоминаний об экзаменах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уменьшение эффективности в учёбе в экзаменационный период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вовлечение других людей в тревожные разговоры о предстоящих экзаменах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увеличение употребления кофеина и алкогол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ухудшение сн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ухудшение аппети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663300"/>
                </a:solidFill>
                <a:latin typeface="Garamond"/>
              </a:rPr>
              <a:t>Стрессоустойчивос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569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определяется совокупностью личностных качеств, позволяющих человеку переносить значительные интеллектуальные, волевые и эмоциональные нагрузки, обусловленные особенностями профессиональной деятельности, без особых вредных последствий для деятельности, окружающих и своего здоровь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D:\temp\Тома\Тома Стефани\ЕГЭ 2\9.gif"/>
          <p:cNvPicPr/>
          <p:nvPr/>
        </p:nvPicPr>
        <p:blipFill>
          <a:blip r:embed="rId1"/>
          <a:stretch/>
        </p:blipFill>
        <p:spPr>
          <a:xfrm>
            <a:off x="7020000" y="5013360"/>
            <a:ext cx="163512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663300"/>
                </a:solidFill>
                <a:latin typeface="Garamond"/>
              </a:rPr>
              <a:t>Экзаменационный стрес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Причи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интенсивная умственная деятель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нагрузка на одни и те же мышцы и органы из-за длительного сидения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нарушение режима сна и отдыха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негативные пережи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D:\temp\Тома\Тома Стефани\здоровье учителя и ученика\6.jpg"/>
          <p:cNvPicPr/>
          <p:nvPr/>
        </p:nvPicPr>
        <p:blipFill>
          <a:blip r:embed="rId1"/>
          <a:stretch/>
        </p:blipFill>
        <p:spPr>
          <a:xfrm>
            <a:off x="6443640" y="4437000"/>
            <a:ext cx="2152800" cy="155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нушайте ребёнку мысль, что количество баллов не является совершенным измерением его возмож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е повышайте тревожность ребёнка накануне экзаменов. Ребенку всегда передается волнение родителей, и если взрослые в ответственный момент могут справиться со своими эмоциями, то ребёнок в силу возрастных особенностей может не справиться со своими эмоциями и «сорвать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7:04Z</dcterms:created>
  <dc:creator>Katunina</dc:creator>
  <dc:description/>
  <cp:keywords/>
  <dc:language>en-US</dc:language>
  <cp:lastModifiedBy>Admin</cp:lastModifiedBy>
  <dcterms:modified xsi:type="dcterms:W3CDTF">2012-10-15T17:37:14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