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B38-F844-4AF7-B80C-80F56620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780-D35A-4ADF-968A-5D5F2607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57D-B031-4A2F-AC92-D332D448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77B-D686-4754-BC12-6A1BE162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2F59F-3C47-4886-AD50-7BE25C55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2AE6D-68E2-495E-953C-2DE4EFCA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F0F3B-A01E-4FA2-AA54-CCF21EF6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4ECA8-5B49-40D2-BF64-B9011FE1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F3D54-2910-4807-B3BB-6CA56B8C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F3AD7-6F5B-42F1-95C6-C71EFF06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B4015-3D94-43A3-B2E2-94A19491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49D-98E8-42C8-867F-58FE654E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56B76-764C-46C3-9102-C917F8DC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08C6D-836C-40BB-9C2B-29A37F71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4FE0B-E5FF-4CB5-8FF8-C8091B63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C7A88-84BA-4050-88D8-33289911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6FCF7-75D9-4CBA-A587-DF23BC0E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DAB-3E8D-4A33-8615-E08CBE72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F86-B478-4A3E-AC3E-5C853838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8BD-3616-4C60-91A5-B45D1142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377E-D918-48F4-B1B1-323C4D5B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0BD-C956-4438-BDD3-06EFDFD0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050-7CE7-4253-9B1F-77AD9022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EAD-09E4-4B18-8BC4-DA11C652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1611-1E91-451D-B053-7677B0A9A9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52E4-192D-4072-9BD5-A01E6CA558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71280" y="404280"/>
            <a:ext cx="6048360" cy="2737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Психологическая поддержка старшеклассников в ситуации социально-интеллектуальной ответств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2016000" cy="2376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1187280" y="3645000"/>
            <a:ext cx="2376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Times New Roman"/>
              </a:rPr>
              <a:t>Мульт-герои и экзаме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Times New Roman"/>
              </a:rPr>
              <a:t>Цель: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способствовать анализу личностных качеств старшеклассников посредством ассоциаций с индивидуальными качествами мульт-геро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Times New Roman"/>
              </a:rPr>
              <a:t>Оснащение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карточки с именами мульт-геро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Times New Roman"/>
              </a:rPr>
              <a:t>Инструкция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«Назовите качества мульт-героев, по вашему мнению, которые помогут вам при сдаче ЕГЭ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6202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Винни-Пух                                               Белоснеж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ова                                                          Чудовищ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Шапокляк                                                 Золу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ятачок                                                     Незнай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Красная шапочка                         Винтик и Шпунтик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ортняжка                                                Кот в сапог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Ослик Иа                                                   Аллад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ерый волк                                                Дж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Лиса                                                           Бурати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Мальчик с пальчик                                   Колоб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Заяц                                                            Мауг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Чебурашка                                                 Баги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Кот Матроскин                                         Удав Ка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очтальон Печкин                                    Король Ле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3" descr="медведь"/>
          <p:cNvPicPr/>
          <p:nvPr/>
        </p:nvPicPr>
        <p:blipFill>
          <a:blip r:embed="rId1"/>
          <a:stretch/>
        </p:blipFill>
        <p:spPr>
          <a:xfrm>
            <a:off x="6804000" y="1484280"/>
            <a:ext cx="969840" cy="1308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ослик"/>
          <p:cNvPicPr/>
          <p:nvPr/>
        </p:nvPicPr>
        <p:blipFill>
          <a:blip r:embed="rId2"/>
          <a:stretch/>
        </p:blipFill>
        <p:spPr>
          <a:xfrm>
            <a:off x="6659640" y="4149720"/>
            <a:ext cx="828720" cy="1262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заяц"/>
          <p:cNvPicPr/>
          <p:nvPr/>
        </p:nvPicPr>
        <p:blipFill>
          <a:blip r:embed="rId3"/>
          <a:stretch/>
        </p:blipFill>
        <p:spPr>
          <a:xfrm>
            <a:off x="8172360" y="836640"/>
            <a:ext cx="795600" cy="14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волк"/>
          <p:cNvPicPr/>
          <p:nvPr/>
        </p:nvPicPr>
        <p:blipFill>
          <a:blip r:embed="rId4"/>
          <a:stretch/>
        </p:blipFill>
        <p:spPr>
          <a:xfrm>
            <a:off x="8028000" y="3213000"/>
            <a:ext cx="825480" cy="1046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буратино"/>
          <p:cNvPicPr/>
          <p:nvPr/>
        </p:nvPicPr>
        <p:blipFill>
          <a:blip r:embed="rId5"/>
          <a:stretch/>
        </p:blipFill>
        <p:spPr>
          <a:xfrm>
            <a:off x="4716360" y="5516640"/>
            <a:ext cx="1152720" cy="10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лиса"/>
          <p:cNvPicPr/>
          <p:nvPr/>
        </p:nvPicPr>
        <p:blipFill>
          <a:blip r:embed="rId6"/>
          <a:stretch/>
        </p:blipFill>
        <p:spPr>
          <a:xfrm>
            <a:off x="7885080" y="5084640"/>
            <a:ext cx="897120" cy="1130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сова"/>
          <p:cNvPicPr/>
          <p:nvPr/>
        </p:nvPicPr>
        <p:blipFill>
          <a:blip r:embed="rId7"/>
          <a:stretch/>
        </p:blipFill>
        <p:spPr>
          <a:xfrm>
            <a:off x="1979640" y="5516640"/>
            <a:ext cx="139860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«Слова-перевертыш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развитие гибкости мышления на материале работы с эмоционально окрашенной лекс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Оснащение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10 словосочетаний, написанных на карточ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Инструкция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«Вам предстоит заменить предлагаемые словосочетания на противоположные по смыслу. Например, "трудный экзамен" можно заменить на противоположное ему по смыслу словосочетание "простой урок" или еще более противоположное - "приятный отдых"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Стрессовое состоян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Напряжение всех сил (физических и душевных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Страх не справиться с заданиям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Бессонные ноч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Нервный сры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Отчаян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Недовольство родителе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Выпало из памят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Забыл формулу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Неудовлетворительная оценк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Несоответствие ожида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Неправильно заполненный бланк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Крах надежд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Боязнь незнакомой обстанов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Большой объем информации для запомина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«Конференц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осознание способов совладания с повышенной ситуативной тревожностью, развитие умения выступать перед публ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Инструкция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: «Сейчас каждый (или в группе с другими участниками) составит рекомендации для старшеклассников, сдающих экзамены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 дальнейшем рекомендации зачитываются и обсуждается их целесообраз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фотографии0005"/>
          <p:cNvPicPr/>
          <p:nvPr/>
        </p:nvPicPr>
        <p:blipFill>
          <a:blip r:embed="rId1"/>
          <a:stretch/>
        </p:blipFill>
        <p:spPr>
          <a:xfrm>
            <a:off x="4211640" y="4508640"/>
            <a:ext cx="263520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фотографии0006"/>
          <p:cNvPicPr/>
          <p:nvPr/>
        </p:nvPicPr>
        <p:blipFill>
          <a:blip r:embed="rId2"/>
          <a:stretch/>
        </p:blipFill>
        <p:spPr>
          <a:xfrm>
            <a:off x="1187280" y="3860640"/>
            <a:ext cx="23702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Будь внимателен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облюдай правила поведения на экзамене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осредоточьс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Не бойся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Начни с легкого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ропускай!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Надо научиться пропускать трудные или непонятные зад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Читай задание до конца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Думай только о текущем задании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Исключай!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Многие задания можно быстрее решить, ес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оследовательно исключать те, которые явно не подходя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Запланируй два круг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Угадывай!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Интуиции следует доверять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роверяй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Не огорчайся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Удачи тебе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Имеешь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раво на подачу апелляции по процедур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Имеешь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раво подать апелляцию после объявления результата экзаме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Как вести себя во время сдачи экзаменов в форме ЕГЭ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Times New Roman"/>
              </a:rPr>
              <a:t>Раскрой секреты своих </a:t>
            </a:r>
            <a:br>
              <a:rPr sz="3600"/>
            </a:br>
            <a:r>
              <a:rPr b="0" lang="ru-RU" sz="3600" spc="-1" strike="noStrike">
                <a:solidFill>
                  <a:srgbClr val="9900cc"/>
                </a:solidFill>
                <a:latin typeface="Times New Roman"/>
              </a:rPr>
              <a:t>познавательных способност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Цели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выработка и развитие способов работы с материалами информационного характ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- рассмотреть способы запоминания, способствующие усвоению большого объёма информации в ситуации интеллектуальной напряж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- осознание возможностей своей памя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- развитие представлений старшеклассников о свойствах и особенностях внимания, способов его разви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- развитие у учащихся представлений о мышлении как отражении существенных связей и закономернос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- тренировка навыков подачи и приема обратной свя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cc00cc"/>
                </a:solidFill>
                <a:latin typeface="Times New Roman"/>
              </a:rPr>
              <a:t>«Я лучше запоминаю, когда...»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2.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cc00cc"/>
                </a:solidFill>
                <a:latin typeface="Times New Roman"/>
              </a:rPr>
              <a:t>«Рисуем образы»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Для того, чтобы запомнить эти пары слов можно делать любые пометки и рисунки, но нельзя записывать сами словосочетания. После необходимо воспроизвести эти пары слов. Например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ький пьяница, главная мысль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3.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cc00cc"/>
                </a:solidFill>
                <a:latin typeface="Times New Roman"/>
              </a:rPr>
              <a:t>«Образы в паре»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Запоминая слова, следует увязывать их в один образ. Например: «Чтобы запомнить пару слов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лащ - кролик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я</a:t>
            </a: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едставлю факира в цирке, извлекающего кролика из-под плаща». После прослушивания пар слов запишите их и сравните с оригиналом.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4.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cc00cc"/>
                </a:solidFill>
                <a:latin typeface="Times New Roman"/>
              </a:rPr>
              <a:t>«Запоминание словосочетаний».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Участники прочитывают словосочетания. Например: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в, нападающий на антилопу; собака, виляющая хвостом.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«После каждой строки сосредоточьтесь, представьте соответствующую картину... Теперь на листе для записи, не перечитывая списка, попробуйте записать, что вспомнили. Когда закончите, попытайтесь проанализировать вызываемые данными словосочетаниями эмоции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Times New Roman"/>
              </a:rPr>
              <a:t>«Правила обращения с памятью».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Заучивай с желанием знать и помни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Ставь цель запомнить надолг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Пользуйся смысловыми опорами, смысловым соотношением и смысловой группировкой - кто хорошо осмысливает, хорошо запоминает и долго помни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Начинай повторять до того, как материал стал забыватьс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Times New Roman"/>
              </a:rPr>
              <a:t>Заучивай и повторяй небольшими доз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Times New Roman"/>
              </a:rPr>
              <a:t>Лучше учить по одному часу семь дней, чем семь часов в один ден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6600"/>
                </a:solidFill>
                <a:latin typeface="Times New Roman"/>
              </a:rPr>
              <a:t>После математики учи историю, после физики - литературу! память любит разнообрази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Чтобы лучше запомнить, выбирай вариации по контрасту: повторяй громко и тихо, нараспев и скороговоркой сопрано и басом, сопровождая постукиванием, с необычным акцентом, представляя написанным на официальной бумаге и произносимым вслух, с приятною улыбкой приятному знакомому или знакомой. Это не только тренирует память, но и создает богатство связей и 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acco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циа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imes New Roman"/>
              </a:rPr>
              <a:t>Когда учишь - записывай, рисуй схемы, диаграммы, черти графики, изображай карикатуры, сравнивай с тем, что знал раньше.  Действуй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Ты учишь стихи по столбикам? Короткие заучивай целиком, длинные разбивай на части. Как можно быстрее, не дожидаясь заучивания, пытайся воспроизвести, закрыв книгу. Не сверяй с текстом, если что-нибудь забыл, а старайся вспомнить са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6600"/>
                </a:solidFill>
                <a:latin typeface="Times New Roman"/>
              </a:rPr>
              <a:t>Если получил задание во вторник, а отвечать надо в пятницу, не жди до четверга: выучи сразу, а накануне только повтор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Изредка используй мнемотехнику - искусственные приемы, облегчающие запомина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Установка на успех.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Стабилизация эмоционального состояни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Цели: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оценка собственных эмоциональных ресурсов старшеклассников и разработка критериев успешного преодоления ситуаций социально-интеллектуальной ответств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Задачи: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- расширение представлений о себе и своих эмоциональных ресурс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- обучение методам нервно-мышечной релаксации, приемам расслабления и дыхательной гимнаст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развитие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у учащихся умения управлять своим психофизическим состоя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- правила поведения во время сдачи экзаменов в форме ЕГ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рограмма работы по обеспечению успешности старшеклассников в преодолении ситуаций интеллектуальной напряженности (необходимость усвоения больших объемов информации в ограниченные сроки) и интеллектуальной конкуренции (экзамен, ЕГЭ, конкурсный отбор, профориентационное собеседование, публичная презентация работы и т.д.) состоит из трех блок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1. Встреча с собой и с другими: тревога и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2. Раскрой секреты своих познавательных способнос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3. Установка на успех. Стабилизация эмоционального состоя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ПРИЕМЫ, МОБИЛИЗУЮЩИЕ ИНТЕЛЛЕКТУАЛЬНЫЕ ВОЗМОЖНОСТИ  ШКОЛЬНИКОВ  ПРИ  ПОДГОТОВКЕ И  СДАЧЕ ЭКЗАМЕН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Во время стресса происходит сильное обезвоживание организма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Следовательно, перед экзаменом или во время него целесообразно выпить несколько глотков воды.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 антистрессовых целях воду пьют за 20 минут до или через 30 минут после е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Лучше всего подходит минеральная вода, просто чистую воду или зеленый чай. Чай и кофе лишь создают иллюзию работоспособ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Вторая проблема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, с которой сталкиваются школьники, попавшие в стрессовую ситуацию, - это </a:t>
            </a: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нарушение гармоничной работы левого и правого полушар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Физическое упражнение, влияющее на гармонизацию работы левого и правого полушарий, называется </a:t>
            </a: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«перекрестный шаг»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 проводится следующим образ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митируем ходьбу на месте, поднимая колено чуть выше, чем обычно. Можно сделать это сидя, приподнимая ногу на носок, навстречу руке. Каждый раз, когда колено находится в наивысшей точке, кладем на него противоположную руку. Если нет возможности сделать упражнение,  можно нарисовать на чистом листе бумаги косой крест, похожий на букву «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», и несколько минут созерцать его. Эффект будет слабее, но поможет согласованности полушари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Следующее упражнение уменьшает кислородное голодание, усиливающее негативное влияние стресса. Для борьбы с кислородным голоданием существует прием под названием </a:t>
            </a:r>
            <a:r>
              <a:rPr b="1" lang="ru-RU" sz="1800" spc="-1" strike="noStrike">
                <a:solidFill>
                  <a:srgbClr val="800080"/>
                </a:solidFill>
                <a:latin typeface="Times New Roman"/>
              </a:rPr>
              <a:t>«энергетическое зевание».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Систематическая десенситизация.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Этот метод разработан Йозефом Вульпе и заключается в следующем: воображая и переживая ситуацию, вызывающую тревожность, человек должен выработать реакцию, несовместимую с чувством тревоги (например, расслабиться). Чтобы использовать эту технику применительно к предстоящему экзамену, школьнику можно составить «лесенку» ситуаций, вызывающих стр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ажным резервом в стабилизации своего эмоционального состояния у любого человека является совершенствование дыхания. Как ни странно это звучит, но далеко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не все люди, даже умудренные жизненным опытом, умеют правильно дыша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          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дыхательной гимнастике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существуют понятия 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успокаивающего и мобилизующего дыхания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Успокаивающим будет такое дыхание, при котором выдох почти в два раза длиннее вдоха. При мобилизующем — после вдоха задерживается дых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Упражнение </a:t>
            </a: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«Контраст»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основано на «законе маятника»: непроизвольное расслабление той или иной группы мышц всегда следует за ее напряжени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«Массируем руки»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Цель: стимуляция познавательных способнос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Организация режима занятий и отдых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6600"/>
                </a:solidFill>
                <a:latin typeface="Times New Roman"/>
              </a:rPr>
              <a:t>За учебники и конспекты лучше садиться в дневные часы, когда работоспособность наиболее высокая. Перерывы для отдыха на 10—15 минут каждый час. Отдых должен быть активным: встать, походить, сделать несколько физических упражнений, несложную работу по дому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осле 2,5—3 часов работы нужно сделать более продолжительный (20—30 минут) перерыв для приема пищи, после чего можно позаниматься еще часа три. Потом обед и отдых — прогулка на свежем воздухе не меньше двух часов или сон. А потом можно продолжать работу еще в течение двух-трех часов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c6600"/>
                </a:solidFill>
                <a:latin typeface="Times New Roman"/>
              </a:rPr>
              <a:t>Некоторые считают, что музыка, шум, разговоры не мешают им во время занятий. Но это не так. Утомление в данном случае наступает значительно быстрее. Продуктивная умственная деятельность возможна только в условиях тишины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Желательно избегать просмотра видеофильмов и телепередач, игры в шахматы, чтения художественной литературы, потому что они увеличивают и без того большую умственную нагрузку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800080"/>
                </a:solidFill>
                <a:latin typeface="Times New Roman"/>
              </a:rPr>
              <a:t>Во время экзаменов нужно спать не менее 9 часов. Ночные занятия неэффективны, истощают нервную систему и приводят к сонливому состоянию. После бессонной ночи трудно будет продолжать работу, придется сначала выспаться, а значит, потерять время, когда работоспособность высокая. Спать нужно при открытой форточке или окне. Это обеспечит полноценный отдых и восстановит трудоспособность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Для сохранения сил и повышения работоспособности нужно организовать правильное питание. Нельзя садиться заниматься на голодный желудок. Важное значение имеют овощи и фрукты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6600"/>
                </a:solidFill>
                <a:latin typeface="Times New Roman"/>
              </a:rPr>
              <a:t>Некоторые школьники, чтобы не волноваться, принимают перед экзаменами транквилизаторы. Напрасно! Таблетка может очень подвести, потому что снижает внимание и память.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акануне экзамена лучше прекратить занятия в середине дня.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0000"/>
                </a:solidFill>
                <a:latin typeface="Times New Roman"/>
              </a:rPr>
              <a:t>На экзамен нужно прийти точно в назначенное время, не надо приходить заранее, потому что ожидание более утомительно для нервной системы, чем сам экзамен. После сдачи одного экзамена не следует сразу же начинать подготовку к следующему. Остаток экзаменационного дня — время для разрядки, для снятия напряжения, обновления сниженной трудоспособности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Меню из продуктов, которые помогут вам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Times New Roman"/>
              </a:rPr>
              <a:t>... 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улучшить памя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Морковь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особенно облегчает заучивание чего-либо наизусть за счет того, что стимулирует обмен веществ в мозгу. Наш совет: перед зубрежкой съесть тарелку тертой моркови с растительным масл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Ананас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— любимый фрукт театральных и музыкальных звезд. Тот, кому необходимо удерживать в памяти большой объем текста или нотных знаков, нуждается в витамине С, который в достаточном количестве содержится в этом фрукте. Кроме того, в ананасах очень мало калорий (в 100 г всего 56). Достаточно выпивать 1 стакан ананасового сока в де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Авокадо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— источник энергии для кратковременной памяти (например, при составлении планов, расписаний, списков покупок и т.д.) за счет высокого содержания жирных кислот. Достаточно половины пл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Times New Roman"/>
              </a:rPr>
              <a:t>... 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сконцентрировать вним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Креветки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— деликатес для мозга: снабжает его важнейшими жирными кислотами, которые не дадут вашему вниманию ослабнуть. Достаточно 100 грамм в день. Но обратите внимание: солить их следует только после кулинарной обработки (варки или жаренья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Репчатый лук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помогает при умственном переутомлении или психической усталости. Способствует разжижению крови, улучшает снабжение мозга кислородом. Доза: минимум половина луковицы ежеднев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Орехи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особенно хороши, если вам предстоит умственный «марафон» (доклад, конференция, концерт) или долгая поездка за рулем. Укрепляют нервную систему, стимулируют деятельность моз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56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...достичь творческого озар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Инжир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освобождает голову для новых идей. Содержащееся в нем вещество по химическому составу близко к аспирину, эфирные масла разжижают кровь, мозг лучше снабжается кислородом. Лучший «корм» для журналистов и других творческих професс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Тмин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может спровоцировать рождение гениальных идей. Эфирные масла, содержащиеся в нем, стимулируют всю нервную систему. Тот, кто нуждается в творческой активности мозга, должен пить чай из тмина: две чайные ложки измельченных семян на чаш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…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успешно грызть гранит нау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Капуста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снимает нервозность, так как снижает активность щитовидной железы. Чтобы прошел «мандраж», съешьте салат из капусты перед экзаменами, и вы спокойно к ним подготовитес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Лимон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освежает мысли и облегчает восприятие информации за счет ударной дозы витамина С. Перед занятиями иностранным языком неплохо «принять на грудь» стаканчик лимонного со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Черника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— идеальный «промежуточный корм» для студентов. Способствует кровообращению мозга. Лучше всего есть свежие ягоды или варень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Что происходит в душ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На положительные и отрицательные эмоции тоже можно повлиять при помощи пищи. Поэтому следующие наши советы для тех, кто хочет поддержать хорошее настро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Паприка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— чем острее, тем лучше. Ароматические вещества способствуют выделению «гормона счастья» — эндорф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Бананы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содержат серотонин — вещество, необходимое мозгу, чтобы тот просигнализировал: «Вы счастливы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Встреча с собой и с другими: </a:t>
            </a:r>
            <a:br>
              <a:rPr sz="3200"/>
            </a:b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тревога и ответственность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Цели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роанализировать трудности взаимодействия в ситуациях повышенной социально-интеллектуальной ответств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- снизить эмоциональное состояние старшекласс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- проанализировать личностные трудности, проявляющиеся в ситуациях социально-интеллектуальной ответств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«Что такое экзамен?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выявление различного восприятия ситуации экзамена участниками и отреагирования негативных пережив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Инструкция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«Сейчас каждый из нас по очереди скажет, что для него значит экзамен. Например, экзамен для меня — это барьер, который нужно преодолеть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Ход рабо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се участники по очереди заканчивают предложение «Экзамен для меня - это...». Учащиеся записывают на листочках окончания предложения. Далее листочки передаются по кругу, где каждый участник отмечает свое согласие (плюсом) или несогласие (минусом) с мыслями других старшеклассников. После того, как к каждому возвратится его листок с предложением, подсчитываются и обсуждаются тексты, получившие наибольшее количество плюсов и минусов, предлагается интерпретация полученной карт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«Экзамен для меня - это..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фотографии0004"/>
          <p:cNvPicPr/>
          <p:nvPr/>
        </p:nvPicPr>
        <p:blipFill>
          <a:blip r:embed="rId1"/>
          <a:stretch/>
        </p:blipFill>
        <p:spPr>
          <a:xfrm>
            <a:off x="539640" y="3068640"/>
            <a:ext cx="3672000" cy="2665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фотографии0007"/>
          <p:cNvPicPr/>
          <p:nvPr/>
        </p:nvPicPr>
        <p:blipFill>
          <a:blip r:embed="rId2"/>
          <a:stretch/>
        </p:blipFill>
        <p:spPr>
          <a:xfrm>
            <a:off x="4716360" y="155736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147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</a:rPr>
              <a:t>«Я перед экзаменом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99"/>
                </a:solidFill>
                <a:latin typeface="Times New Roman"/>
              </a:rPr>
              <a:t>Цель: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осознание особенностей предэкзаменационной ситуации и возможностей совладания с не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99"/>
                </a:solidFill>
                <a:latin typeface="Times New Roman"/>
              </a:rPr>
              <a:t>Инструкция: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«Нарисуйте и представьте рисунок для коллективного обсуждения "Я перед экзаменом"»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Обсуждение рисунков может быть различным может быть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- спонтанным, если участники активны и рефлексивн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- структурированным, когда говорят по очереди, что каждый видит на рисунк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В конце или по ходу обсуждения проективного материала угадывается его авто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3" descr="фотографии0003"/>
          <p:cNvPicPr/>
          <p:nvPr/>
        </p:nvPicPr>
        <p:blipFill>
          <a:blip r:embed="rId1"/>
          <a:stretch/>
        </p:blipFill>
        <p:spPr>
          <a:xfrm>
            <a:off x="5364000" y="4149720"/>
            <a:ext cx="31068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8497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99"/>
                </a:solidFill>
                <a:latin typeface="Times New Roman"/>
              </a:rPr>
              <a:t>«Препятствие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99"/>
                </a:solidFill>
                <a:latin typeface="Times New Roman"/>
              </a:rPr>
              <a:t>Цель: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анализ способов преодоления препятствий на жизненном пути посредством метода предметной проекции ситуаций, расширение репертуара конструктивных моделей и образцов поведени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99"/>
                </a:solidFill>
                <a:latin typeface="Times New Roman"/>
              </a:rPr>
              <a:t>Оснащение: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1-2 картонные коробки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99"/>
                </a:solidFill>
                <a:latin typeface="Times New Roman"/>
              </a:rPr>
              <a:t>Инструкция: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«У каждого человека на жизненном пути встречаются препятствия, которые он преодолевает. Пусть такое препятствие у нас символизирует картонная коробка. Давайте представим, что линия жизненного пути (условно или мелом на полу обозначить линию), на которой в какой-то ее части нас ожидает встреча с препятствием. Сейчас каждый покажет, как он справляется с встречающимися жизненными трудностями. Каждый будет вести себя по отношению к коробке так, как он бы действовал в ситуации преодоления жизненной трудносте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Перед демонстрацией способов преодоления трудностей в ситуациях повышенной ответственности участнику нужно описать дорогу и препятствие. Следует также сказать, как бы ассоциативно воспринималось оно на ощупь (большое, мягкое, вязкое, липкое, втягивающее в себя), какого оно было бы размера, цвета, конфигурации»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епятствие?!      ЕГЭ?!    Нужно преодолеть ситуацию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фотографии0001"/>
          <p:cNvPicPr/>
          <p:nvPr/>
        </p:nvPicPr>
        <p:blipFill>
          <a:blip r:embed="rId1"/>
          <a:stretch/>
        </p:blipFill>
        <p:spPr>
          <a:xfrm>
            <a:off x="539640" y="2060640"/>
            <a:ext cx="4038840" cy="2738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фотографии0002"/>
          <p:cNvPicPr/>
          <p:nvPr/>
        </p:nvPicPr>
        <p:blipFill>
          <a:blip r:embed="rId2"/>
          <a:stretch/>
        </p:blipFill>
        <p:spPr>
          <a:xfrm>
            <a:off x="5076720" y="3789360"/>
            <a:ext cx="36720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«Портрет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расширение вариантов выражения беспокойства и тревоги, составление перечня примет уверенного пове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Оснащение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: бумага, карандаши, лист ватмана, марке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Инструкция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«Мы будем составлять портреты двух разных людей — уверенного и неуверенного. Каждый на листках составляет словесное описание уверенного и неуверенного человека. Желательно описывать по существенным признакам, минимально используя слова с приставкой и частицей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«не»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Например, вместо не боится, следует говорить смело себя веде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66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5:51:05Z</dcterms:created>
  <dc:creator>TECHNICS</dc:creator>
  <dc:description/>
  <dc:language>en-US</dc:language>
  <cp:lastModifiedBy>Юлия</cp:lastModifiedBy>
  <dcterms:modified xsi:type="dcterms:W3CDTF">2013-10-14T17:38:33Z</dcterms:modified>
  <cp:revision>16</cp:revision>
  <dc:subject/>
  <dc:title>Психологическая поддержка старшеклассников в ситуации социально-интеллектуальной ответственности</dc:title>
</cp:coreProperties>
</file>