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E45-990E-4B18-A68F-EB760C22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363-D138-4DEF-84D3-9E6C0C76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4B6-7DDC-4340-AE73-939A286A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0AC-01DA-476E-944E-D50B48D02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7BB-0486-44DF-BF16-FD2F0561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3FC7-3A42-4301-8BE5-024390B6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FF63-F558-4944-838C-9C7767F1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FD6F-DDC7-4DC0-9B70-9451D030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CFC3-079A-45F8-AD44-323319D5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AC0B-2155-420B-8726-A7280064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309B-C324-40F3-8EFC-250C0F07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DE49-4ED1-4E1E-9FEE-55F01E23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797F-E44F-4118-BFC2-33D76CA4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290A-1883-4DB9-8083-ABACFD5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9167-BDD7-4FB8-9976-1291AD26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50AF-72AB-4DFE-BEBF-E7579A9E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4DB1-5A62-4420-81FB-D4F47190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9E5C-9F55-4565-8951-D7D8C6E7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9E7E-CC4C-474B-8F6A-5EFA49CF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212-98E5-4F43-95E0-98D9D751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8E2-EB5B-493B-8D94-E299FF4A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FD2-AF57-430B-B705-06D5217A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BE0E-F17D-4609-A329-93B8D8058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CD23-DBCF-4384-B478-9A41ABFB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1959-8ECE-461E-B502-65C8A9D1E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7E92-6B09-459E-9D15-1FF4F2DEC3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691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Здоровьесберегающие технологии в педагогическом процессе ДОУ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спитатель МБДОУ детский сад №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Хрустальный башмач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енкова М.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68440" y="192240"/>
          <a:ext cx="8007120" cy="6475320"/>
        </p:xfrm>
        <a:graphic>
          <a:graphicData uri="http://schemas.openxmlformats.org/drawingml/2006/table">
            <a:tbl>
              <a:tblPr/>
              <a:tblGrid>
                <a:gridCol w="2668320"/>
                <a:gridCol w="2670480"/>
                <a:gridCol w="26683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здоровьесберегающих технолог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проведения в режиме дн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и методики прове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тчин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ньше чем через 30 мин. после приема пищи, 2 раза в неделю со среднего возраста в физкультурном зал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детям с вялой осанкой и плоскостопием. Опасаться непропорциональной нагрузки на мыш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мопла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раньше чем через 30 мин после приема пищи, 2 раза в неделю по 30 мин со среднего возраста в физкультурном з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ить внимание на художественную ценность, величину физической нагрузки и ее соразмерность возрастным показателям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 и спортивные иг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часть физкультурного занятия, на прогулке. Ежедневно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 подбираются в соответствии с возрастом ребенка, местом и временем ее проведения. Используются элементы спортивных иг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лакс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от состояния детей и целей, педагог определяет интенсивность технологии. Для всех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жно использовать спокойную музыку, звуки прир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утрення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, утром,  перед завтраком во всех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упповой комнате, физкультурном зале, под музыку, с использованием подвижных игр и д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бодря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 после дневного сна, 5-10 мин во всех групп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варианты провед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Ф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 в коррекционных группах по показаниям вра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ы упражнений, коррегирующих осанку, свод сто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457200" y="244440"/>
          <a:ext cx="8388360" cy="6330960"/>
        </p:xfrm>
        <a:graphic>
          <a:graphicData uri="http://schemas.openxmlformats.org/drawingml/2006/table">
            <a:tbl>
              <a:tblPr/>
              <a:tblGrid>
                <a:gridCol w="2795760"/>
                <a:gridCol w="2796840"/>
                <a:gridCol w="27957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пальчик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младшего возраста 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всем детям, особенно с речевыми проблемами. Проводится в любой удобный отрезок врем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для гла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жедневно по 3-5 мин в любое свободное время, в разных формах физкультурно-оздоровительной работы в зависимости от интенсивности зрительной нагрузки с младше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уется использовать наглядный материал, показ педаго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дыхательн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еспечить проветривание помещения, педагогу дать детям инструкции об обязательной гигиене полости носа перед проведением процед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 корригирующ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зличных формах физкультурно-оздоровительной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а проведения зависит от поставленной задачи и контингента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культурное занят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 в спортивном за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ний возраст в групповой комнате – 10 мин, младший возраст – 15 – 20 мин, средний- 20-25 мин, старший возраст – 25-3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 проводится в соответствии с программой, по которой работает ДО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массаж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зависимости от поставленных целей, сеансами либо в различных формах физкультурно-оздоровительной работы С детьми старшего возрас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о объяснить ребенку серьезность процедуры и дать детям элементарные знания о том, как не нанести вред своему организм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я для детей по т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Здоровь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 время совместной деятельности в зависимости от поставленных зад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быть частью совместной деятельности   с целью познавательного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цинские здоровьесберегающие технологии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и профилактики заболе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убленный медицинский осмотр с участием узких специалистов, приходящих из поликлини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 возникающих функциональных отклоне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леживание характера течения хронической патологии (для детей, имеющих III-У группу здоровья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билитация соматического состояния здоров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оэпидемическая работа и медицинский контроль работы пищеблока в соответствии с действующими санитарно-гигиеническими правил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опрофилактика (отвар шиповника в осеннее – зимний период, витаминизация третьих блюд с использованием аскорбиновой кислоты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итарно-гигиеническая деятельность всех служб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сбережение в работе с педагогами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инары-тренинги «Психологическое здоровье педагог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ультации для педагогов «Признаки утомляемости ребёнка дошкольника», «Запрещённые физические упражнения для детей дошкольного возраста», «Как правильно провести гимнастику (различные виды) с дошкольниками», «Профилактика утомляемости дошкольников в ДОУ» «Работа воспитателя по разделам программы «Основы безопасности и жизнедеятельности детей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актикум для педагогов ДОУ «Приёмы релаксации, снятия напряжения в течение рабочего дн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суждение вопросов здоровьесбережения на педагогических советах и медико-педагогических совещаниях в группах раннего возраста и коррекционных групп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заимодействие ДОУ с семьей по вопросам охраны и укрепления здоровь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стенды для родителей в каждой возрастной группе работают рубрики, освещающие вопросы оздоровления без лекарств (комплексы упражнений для профилактики нарушений опорно-двигательного аппарата, органов зрения, для развития общей и мелкой моторики, пальчиков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ционные стенды медицинских работников о медицинской профилактической работе с детьми в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бщение родителей  к участию в физкультурно-массовых мероприятиях ДОУ (соревнования, спортивные праздники, дни открытых дверей, Дни и Недели здоровья, встречи детей ДОУ с родителями-спортсменами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тации, беседы с родителями по вопросам здоровье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внедрения здоровьесберегающих технологий в Д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7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ормированные навыки здорового образа жизни воспитанников, педагогов и родителей 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пециалистов ДОУ в организации физкультурно-оздоровительной работы с дошкольниками специализированных груп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ение толерантности всех участников внедрения здороваьесберегающих технологий в педагогический процесс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нормативно-правовой базы по вопросам оздоровления до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научно-методических подходов к организации работы по сохранению здоровья детей, к созданию здоровьесберегающего образовательного пространства в ДОУ и семь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учшение и сохранение соматических показателей здоровья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онятие «здоровье»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 – состояние физического и социального благополучия человека (по Уставу ВОЗ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оровьесберегающий педагогический процесс ДОУ - в широком смысле слова - процесс воспитания и развития детей дошкольного возраста в режиме здоровьесбережения и здоровьеобогащения; процесс, направленный на обеспечение физического, психического и социального благополучия ребе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 узком смысле слова - это специально организованное, развивающееся во времени и в рамках определенное образовательной системы взаимодействие детей и педагогов, направленное на достижение целей здоровьесбережения и здоровьеобогащения в ходе образования, развития и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9280" y="620640"/>
            <a:ext cx="820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туальными проблемами детского здоровья сегодня явля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подинамия (нарушение функций опорно-двигательного аппарата, кровообращения, дыхания, пищевар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тские стрессы (нервные расстройства вследствие отрицательной психологической обстановки в семье, излишнего шума и нервности в детском коллектив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ревожность (недостаток эмоциональной поддержки в детском саду и семье, недостаток информа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изическое и психологическое здоровье взрослых участников педагогического процесса в ДОУ также значительно ухудшилось в последнее врем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вязи с этим в ДОУ необходимо уделить особое внимание  воспитанию физически здорового и социально адаптированного ребенка, обеспечению его психического благополучия, а также формированию у дошкольника ответственности за свое здоров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оме того, важно способствовать развитию культуры здоровья педагогов ДОУ, в том числе культуры профессионального здоровья, развитию потребности к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Цель здоровьесберегающих технологий в ДО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ительно к ребенку – обеспечение высокого уровня реального здоровья воспитаннику детского сада и воспитание валеологической культуры как совокупности осознанного отношения ребенка к здоровью и жизни человека, знаний о здоровье и умений оберегать, поддерживать и охранять его, валеологической компетентности, позволяющей дошкольнику самостоятельно и эффективно решать задачи здорового образа жизни и безопасного поведения, задачи, связанные с оказанием элементарной медицинской, психологической самопомощи и помо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нительно к взрослым – содействие становлению культуры здоровья, в том числе культуры профессионального здоровья воспитателей ДОУ и валеологическому просвещению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ды здоровьесберегающих технологий в ДО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ко-профuлактическ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но-оздоровитель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обеспечения социально-психологического благополучия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и здоровьесбережения и здоровьеобогащения педагог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еологического просвещения родител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оровьесберегающие образовательные технологии в детском са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Этапы  внедрения здоровьесберегающих технолог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исходного состояния здоровья, физического развития и физической подготовленности дошкольников, их валеологических умений и навыков, а также здоровьесберегающей среды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здоровьесберегающего образовательного пространства в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ление контактов с социальными партнёрами ДОУ по вопросам здоровьесбере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воение педагогами ДОУ методик и приёмов здоровьесбережения детей и взрослых ДО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разнообразных форм работы по сохранению и укреплению здоровья для разных категорий детей и взросл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валеологической направленности в родителями ДО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Система здоровьесбережения в ДОУ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ные оздоровительные режимы (адаптационный, гибкий, щадящий, по сезонам, на время канику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закаливающих мероприятий (воздушное закаливание, хождение по “дорожкам здоровья”, профилактика плоскостопия; хождение босиком, “топтание” в тазах, полоскание горла и рта, максимальное пребывание детей на свежем воздухе, бодрящая гимнастик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культурные занятия всех тип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тимизация двигательного режима: традиционная двигательная деятельность детей (утренняя гимнастика, физкультурные занятия, проведение подвижных игр, прогулки)  и инновационные технологии оздоровления и профилактики (ритмопластика, логоритмика, сухой бассейн, массажёры, тактильные дорож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рганизация рационального пит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дико-профилактическая работа с детьми и родител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блюдение требований СанПиНа к организации педагогического процес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плекс мероприятий по сохранению физического и психологического здоровья педаг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правления работы по здоровьесбережению в ДОУ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задач физкультурно-оздоровительной работы в различные виды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дрение инновационных здоровьесберегающих технологий в воспитательно-образовательный процесс Г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ие форм физкультурно - досуговой деятельности с дошк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привычки к здоровому образу жизни у дошкольников, педагогов и 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физических качеств и обеспечение нормального уровня физической подготовленности в соответствии с возможностями и состоянием здоровья ребе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интересов, склонностей и способностей детей в двигательной деятельности и реализация их через систему спортивно-оздоровительной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ие физического и психического благополучия каждого ребёнка в ДО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физкультурно-оздоровительной работы в ДО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62040" y="751320"/>
            <a:ext cx="5697720" cy="5986440"/>
            <a:chOff x="1562040" y="751320"/>
            <a:chExt cx="5697720" cy="5986440"/>
          </a:xfrm>
        </p:grpSpPr>
        <p:sp>
          <p:nvSpPr>
            <p:cNvPr id="112" name="_s21528"/>
            <p:cNvSpPr/>
            <p:nvPr/>
          </p:nvSpPr>
          <p:spPr>
            <a:xfrm flipV="1">
              <a:off x="4411080" y="2247480"/>
              <a:ext cx="0" cy="750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1527"/>
            <p:cNvSpPr/>
            <p:nvPr/>
          </p:nvSpPr>
          <p:spPr>
            <a:xfrm>
              <a:off x="3699360" y="751320"/>
              <a:ext cx="1423080" cy="1496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огулки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оход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1532"/>
            <p:cNvSpPr/>
            <p:nvPr/>
          </p:nvSpPr>
          <p:spPr>
            <a:xfrm flipV="1">
              <a:off x="4912920" y="2685240"/>
              <a:ext cx="504360" cy="529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1531"/>
            <p:cNvSpPr/>
            <p:nvPr/>
          </p:nvSpPr>
          <p:spPr>
            <a:xfrm>
              <a:off x="5209920" y="1407240"/>
              <a:ext cx="1423080" cy="149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Спортивны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досу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1530"/>
            <p:cNvSpPr/>
            <p:nvPr/>
          </p:nvSpPr>
          <p:spPr>
            <a:xfrm>
              <a:off x="5122440" y="3743640"/>
              <a:ext cx="711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1529"/>
            <p:cNvSpPr/>
            <p:nvPr/>
          </p:nvSpPr>
          <p:spPr>
            <a:xfrm>
              <a:off x="5836320" y="2995200"/>
              <a:ext cx="1423440" cy="14958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ортив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звлеч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1534"/>
            <p:cNvSpPr/>
            <p:nvPr/>
          </p:nvSpPr>
          <p:spPr>
            <a:xfrm>
              <a:off x="4915440" y="4271040"/>
              <a:ext cx="501840" cy="530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1533"/>
            <p:cNvSpPr/>
            <p:nvPr/>
          </p:nvSpPr>
          <p:spPr>
            <a:xfrm>
              <a:off x="5209920" y="4583520"/>
              <a:ext cx="1423080" cy="149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Беседы по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алеолог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21526"/>
            <p:cNvSpPr/>
            <p:nvPr/>
          </p:nvSpPr>
          <p:spPr>
            <a:xfrm>
              <a:off x="4411080" y="4491360"/>
              <a:ext cx="1800" cy="748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1525"/>
            <p:cNvSpPr/>
            <p:nvPr/>
          </p:nvSpPr>
          <p:spPr>
            <a:xfrm>
              <a:off x="3699360" y="5241600"/>
              <a:ext cx="1423080" cy="149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кал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Г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1517"/>
            <p:cNvSpPr/>
            <p:nvPr/>
          </p:nvSpPr>
          <p:spPr>
            <a:xfrm flipH="1">
              <a:off x="3404160" y="4273200"/>
              <a:ext cx="503640" cy="527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1516"/>
            <p:cNvSpPr/>
            <p:nvPr/>
          </p:nvSpPr>
          <p:spPr>
            <a:xfrm>
              <a:off x="2188440" y="4583520"/>
              <a:ext cx="1423440" cy="14958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портив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ны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празд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21515"/>
            <p:cNvSpPr/>
            <p:nvPr/>
          </p:nvSpPr>
          <p:spPr>
            <a:xfrm flipH="1">
              <a:off x="2987640" y="3743640"/>
              <a:ext cx="711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1514"/>
            <p:cNvSpPr/>
            <p:nvPr/>
          </p:nvSpPr>
          <p:spPr>
            <a:xfrm>
              <a:off x="1562040" y="2995200"/>
              <a:ext cx="1423080" cy="14958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Недел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Здоровь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1513"/>
            <p:cNvSpPr/>
            <p:nvPr/>
          </p:nvSpPr>
          <p:spPr>
            <a:xfrm flipH="1" flipV="1">
              <a:off x="3404160" y="2685240"/>
              <a:ext cx="503640" cy="52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1512"/>
            <p:cNvSpPr/>
            <p:nvPr/>
          </p:nvSpPr>
          <p:spPr>
            <a:xfrm>
              <a:off x="2188440" y="1407240"/>
              <a:ext cx="1423440" cy="149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Соревно-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Arial"/>
                </a:rPr>
                <a:t>ва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1511"/>
            <p:cNvSpPr/>
            <p:nvPr/>
          </p:nvSpPr>
          <p:spPr>
            <a:xfrm>
              <a:off x="3699360" y="2998080"/>
              <a:ext cx="1423080" cy="149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7400" rIns="167400" tIns="83880" bIns="83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700" spc="-1" strike="noStrike">
                  <a:solidFill>
                    <a:srgbClr val="000000"/>
                  </a:solidFill>
                  <a:latin typeface="Arial"/>
                </a:rPr>
                <a:t>формы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0:11:55Z</dcterms:created>
  <dc:creator>1</dc:creator>
  <dc:description/>
  <dc:language>en-US</dc:language>
  <cp:lastModifiedBy>Admin</cp:lastModifiedBy>
  <dcterms:modified xsi:type="dcterms:W3CDTF">2015-01-31T17:49:11Z</dcterms:modified>
  <cp:revision>113</cp:revision>
  <dc:subject/>
  <dc:title>Конкурсная работа в номинации «Педагог ДОУ»</dc:title>
</cp:coreProperties>
</file>