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21FF-73C8-4EF5-9915-7E567829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5AF9-381D-43F5-A7BE-11A28E65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011D-A0D1-4A89-AEC0-6669E7A3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EF40-17A8-413E-81EC-B5869571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AED7-9B31-48DA-96B8-E793F58E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E114-2679-4896-8CDD-C5BD0477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AE70-0DE3-418B-AF91-D905E012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F900-2357-4486-9A96-CB13DF6E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F7D7-8B18-4FB5-8AD1-14B377D8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C6D1-67B9-4A94-A423-50A0F80A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378C-F2DB-44A6-B964-F158FD9A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A757-A591-49B9-9917-7887B66D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6D1D-EBFE-4B60-98A4-242BC667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F539-B255-44B1-B0A2-06854C7C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803F-E558-44F6-A091-D8277765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0FE6-D69F-4225-A64F-2669778E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B004-DC7C-476D-9206-3312F304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AA5A-3CC5-4F01-A3FF-A4600719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F605-D2E7-4568-B1E1-E96053C0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00AA-4984-4F4F-9941-67ADD467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CB5D-F7ED-495B-8C67-3CB55672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3EE-04C9-4B0F-8551-BCE8A210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C03F-A707-47AD-B1C5-F8656954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E04F-DF44-4A57-AE18-63890EDF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7945-5243-46E7-964F-EA9441340C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E674-6469-4C7A-BBA2-CF5055BEB5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69192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Здоровьесберегающие технологии в педагогическом процессе ДО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итатель МБДОУ детский сад №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Хрустальный башмач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сенкова М.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4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568440" y="192240"/>
          <a:ext cx="8007120" cy="6475320"/>
        </p:xfrm>
        <a:graphic>
          <a:graphicData uri="http://schemas.openxmlformats.org/drawingml/2006/table">
            <a:tbl>
              <a:tblPr/>
              <a:tblGrid>
                <a:gridCol w="2668320"/>
                <a:gridCol w="2670480"/>
                <a:gridCol w="26683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здоровьесберегающих технолог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проведения в режиме д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 методики прове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тчин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раньше чем через 30 мин. после приема пищи, 2 раза в неделю со среднего возраста в физкультурном зал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уется детям с вялой осанкой и плоскостопием. Опасаться непропорциональной нагрузки на мыш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тмоплас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раньше чем через 30 мин после приема пищи, 2 раза в неделю по 30 мин со среднего возраста в физкультурном з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ить внимание на художественную ценность, величину физической нагрузки и ее соразмерность возрастным показателям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вижные и спортивные иг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часть физкультурного занятия, на прогулке. Ежедневно для всех возрастны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ы подбираются в соответствии с возрастом ребенка, местом и временем ее проведения. Используются элементы спортивных иг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лакс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зависимости от состояния детей и целей, педагог определяет интенсивность технологии. Для всех возрастны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но использовать спокойную музыку, звуки прир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мнастика утрення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жедневно, утром,  перед завтраком во всех групп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рупповой комнате, физкультурном зале, под музыку, с использованием подвижных игр и д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мнастика бодрящ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жедневно после дневного сна, 5-10 мин во всех групп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варианты провед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Ф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 в неделю в коррекционных группах по показаниям врач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лексы упражнений, коррегирующих осанку, свод сто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457200" y="244440"/>
          <a:ext cx="8388360" cy="6330960"/>
        </p:xfrm>
        <a:graphic>
          <a:graphicData uri="http://schemas.openxmlformats.org/drawingml/2006/table">
            <a:tbl>
              <a:tblPr/>
              <a:tblGrid>
                <a:gridCol w="2795760"/>
                <a:gridCol w="2796840"/>
                <a:gridCol w="27957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мнастика пальчик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младшего возраста в различных формах физкультурно-оздоровитель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уется всем детям, особенно с речевыми проблемами. Проводится в любой удобный отрезок времен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мнастика для гл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жедневно по 3-5 мин в любое свободное время, в разных формах физкультурно-оздоровительной работы в зависимости от интенсивности зрительной нагрузки с младшего возра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уется использовать наглядный материал, показ педаго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мнастика дыхате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азличных формах физкультурно-оздоровитель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ить проветривание помещения, педагогу дать детям инструкции об обязательной гигиене полости носа перед проведением процеду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мнастика корригирующ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азличных формах физкультурно-оздоровитель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 проведения зависит от поставленной задачи и контингента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культурное зан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 в неделю в спортивном з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ний возраст в групповой комнате – 10 мин, младший возраст – 15 – 20 мин, средний- 20-25 мин, старший возраст – 25-30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ятия проводится в соответствии с программой, по которой работает ДО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масса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зависимости от поставленных целей, сеансами либо в различных формах физкультурно-оздоровительной работы С детьми старшего возра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 объяснить ребенку серьезность процедуры и дать детям элементарные знания о том, как не нанести вред своему организм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я для детей по т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доровь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 время совместной деятельности в зависимости от поставленных зада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т быть частью совместной деятельности   с целью познавательного 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цинские здоровьесберегающие технологии в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и профилактики заболева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убленный медицинский осмотр с участием узких специалистов, приходящих из поликлини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ция возникающих функциональных отклоне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леживание характера течения хронической патологии (для детей, имеющих III-У группу здоровья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билитация соматического состояния здоровь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ивоэпидемическая работа и медицинский контроль работы пищеблока в соответствии с действующими санитарно-гигиеническими правил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таминопрофилактика (отвар шиповника в осеннее – зимний период, витаминизация третьих блюд с использованием аскорбиновой кислоты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итарно-гигиеническая деятельность всех служб ДО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оровьесбережение в работе с педагогами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инары-тренинги «Психологическое здоровье педагог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ультации для педагогов «Признаки утомляемости ребёнка дошкольника», «Запрещённые физические упражнения для детей дошкольного возраста», «Как правильно провести гимнастику (различные виды) с дошкольниками», «Профилактика утомляемости дошкольников в ДОУ» «Работа воспитателя по разделам программы «Основы безопасности и жизнедеятельности детей»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ктикум для педагогов ДОУ «Приёмы релаксации, снятия напряжения в течение рабочего дн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уждение вопросов здоровьесбережения на педагогических советах и медико-педагогических совещаниях в группах раннего возраста и коррекционных групп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заимодействие ДОУ с семьей по вопросам охраны и укрепления здоровья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онные стенды для родителей в каждой возрастной группе работают рубрики, освещающие вопросы оздоровления без лекарств (комплексы упражнений для профилактики нарушений опорно-двигательного аппарата, органов зрения, для развития общей и мелкой моторики, пальчиковы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онные стенды медицинских работников о медицинской профилактической работе с детьми в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бщение родителей  к участию в физкультурно-массовых мероприятиях ДОУ (соревнования, спортивные праздники, дни открытых дверей, Дни и Недели здоровья, встречи детей ДОУ с родителями-спортсменами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ультации, беседы с родителями по вопросам здоровьесбере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внедрения здоровьесберегающих технологий в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80074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нные навыки здорового образа жизни воспитанников, педагогов и родителей  ДО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действие специалистов ДОУ в организации физкультурно-оздоровительной работы с дошкольниками специализированных гру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ение толерантности всех участников внедрения здороваьесберегающих технологий в педагогический процесс ДО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нормативно-правовой базы по вопросам оздоровления до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дрение научно-методических подходов к организации работы по сохранению здоровья детей, к созданию здоровьесберегающего образовательного пространства в ДОУ и семь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лучшение и сохранение соматических показателей здоровья дошколь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онятие «здоровье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ье – состояние физического и социального благополучия человека (по Уставу ВОЗ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ьесберегающий педагогический процесс ДОУ - в широком смысле слова - процесс воспитания и развития детей дошкольного возраста в режиме здоровьесбережения и здоровьеобогащения; процесс, направленный на обеспечение физического, психического и социального благополучия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олее узком смысле слова - это специально организованное, развивающееся во времени и в рамках определенное образовательной системы взаимодействие детей и педагогов, направленное на достижение целей здоровьесбережения и здоровьеобогащения в ходе образования, развития и вос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9280" y="620640"/>
            <a:ext cx="8209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уальными проблемами детского здоровья сегодня явля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подинамия (нарушение функций опорно-двигательного аппарата, кровообращения, дыхания, пищевар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тские стрессы (нервные расстройства вследствие отрицательной психологической обстановки в семье, излишнего шума и нервности в детском коллектив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евожность (недостаток эмоциональной поддержки в детском саду и семье, недостаток информа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зическое и психологическое здоровье взрослых участников педагогического процесса в ДОУ также значительно ухудшилось в последне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вязи с этим в ДОУ необходимо уделить особое внимание  воспитанию физически здорового и социально адаптированного ребенка, обеспечению его психического благополучия, а также формированию у дошкольника ответственности за свое здоровь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оме того, важно способствовать развитию культуры здоровья педагогов ДОУ, в том числе культуры профессионального здоровья, развитию потребности к здоровому образу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Цель здоровьесберегающих технологий в ДО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ительно к ребенку – обеспечение высокого уровня реального здоровья воспитаннику детского сада и воспитание валеологической культуры как совокупности осознанного отношения ребенка к здоровью и жизни человека, знаний о здоровье и умений оберегать, поддерживать и охранять его, валеологической компетентности, позволяющей дошкольнику самостоятельно и эффективно решать задачи здорового образа жизни и безопасного поведения, задачи, связанные с оказанием элементарной медицинской, психологической самопомощи и помо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ительно к взрослым – содействие становлению культуры здоровья, в том числе культуры профессионального здоровья воспитателей ДОУ и валеологическому просвещению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иды здоровьесберегающих технологий в ДО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ко-профuлактическ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культурно-оздоровитель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и обеспечения социально-психологического благополучия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и здоровьесбережения и здоровьеобогащения педагог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леологического просвещения родител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оровьесберегающие образовательные технологии в детском са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Этапы  внедрения здоровьесберегающих технолог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исходного состояния здоровья, физического развития и физической подготовленности дошкольников, их валеологических умений и навыков, а также здоровьесберегающей среды ДО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здоровьесберегающего образовательного пространства в ДО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ление контактов с социальными партнёрами ДОУ по вопросам здоровьесбере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воение педагогами ДОУ методик и приёмов здоровьесбережения детей и взрослых ДО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дрение разнообразных форм работы по сохранению и укреплению здоровья для разных категорий детей и взросл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алеологической направленности в родителями ДО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истема здоровьесбережения в ДОУ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личные оздоровительные режимы (адаптационный, гибкий, щадящий, по сезонам, на время каникул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 закаливающих мероприятий (воздушное закаливание, хождение по “дорожкам здоровья”, профилактика плоскостопия; хождение босиком, “топтание” в тазах, полоскание горла и рта, максимальное пребывание детей на свежем воздухе, бодрящая гимнастика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зкультурные занятия всех тип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тимизация двигательного режима: традиционная двигательная деятельность детей (утренняя гимнастика, физкультурные занятия, проведение подвижных игр, прогулки)  и инновационные технологии оздоровления и профилактики (ритмопластика, логоритмика, сухой бассейн, массажёры, тактильные дорожк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зация рационального пит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дико-профилактическая работа с детьми и родителя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блюдение требований СанПиНа к организации педагогического процес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 мероприятий по сохранению физического и психологического здоровья педагог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правления работы по здоровьесбережению в ДОУ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задач физкультурно-оздоровительной работы в различные виды совмест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дрение инновационных здоровьесберегающих технологий в воспитательно-образовательный процесс ГДО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образие форм физкультурно - досуговой деятельности с дошколь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привычки к здоровому образу жизни у дошкольников, педагогов и 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ствование физических качеств и обеспечение нормального уровня физической подготовленности в соответствии с возможностями и состоянием здоровья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вление интересов, склонностей и способностей детей в двигательной деятельности и реализация их через систему спортивно-оздоровительной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физического и психического благополучия каждого ребёнка в ДО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физкультурно-оздоровительной работы в ДО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562040" y="751320"/>
            <a:ext cx="5697720" cy="5986440"/>
            <a:chOff x="1562040" y="751320"/>
            <a:chExt cx="5697720" cy="5986440"/>
          </a:xfrm>
        </p:grpSpPr>
        <p:sp>
          <p:nvSpPr>
            <p:cNvPr id="112" name="_s21528"/>
            <p:cNvSpPr/>
            <p:nvPr/>
          </p:nvSpPr>
          <p:spPr>
            <a:xfrm flipV="1">
              <a:off x="4411080" y="2247480"/>
              <a:ext cx="0" cy="750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21527"/>
            <p:cNvSpPr/>
            <p:nvPr/>
          </p:nvSpPr>
          <p:spPr>
            <a:xfrm>
              <a:off x="3699360" y="751320"/>
              <a:ext cx="1423080" cy="14961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7400" rIns="167400" tIns="83880" bIns="83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огулки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ход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1532"/>
            <p:cNvSpPr/>
            <p:nvPr/>
          </p:nvSpPr>
          <p:spPr>
            <a:xfrm flipV="1">
              <a:off x="4912920" y="2685240"/>
              <a:ext cx="504360" cy="5295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1531"/>
            <p:cNvSpPr/>
            <p:nvPr/>
          </p:nvSpPr>
          <p:spPr>
            <a:xfrm>
              <a:off x="5209920" y="1407240"/>
              <a:ext cx="1423080" cy="1496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7400" rIns="167400" tIns="83880" bIns="83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портивн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осуг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21530"/>
            <p:cNvSpPr/>
            <p:nvPr/>
          </p:nvSpPr>
          <p:spPr>
            <a:xfrm>
              <a:off x="5122440" y="3743640"/>
              <a:ext cx="711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21529"/>
            <p:cNvSpPr/>
            <p:nvPr/>
          </p:nvSpPr>
          <p:spPr>
            <a:xfrm>
              <a:off x="5836320" y="2995200"/>
              <a:ext cx="1423440" cy="14958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7400" rIns="167400" tIns="83880" bIns="83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портив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азвлеч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1534"/>
            <p:cNvSpPr/>
            <p:nvPr/>
          </p:nvSpPr>
          <p:spPr>
            <a:xfrm>
              <a:off x="4915440" y="4271040"/>
              <a:ext cx="501840" cy="530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21533"/>
            <p:cNvSpPr/>
            <p:nvPr/>
          </p:nvSpPr>
          <p:spPr>
            <a:xfrm>
              <a:off x="5209920" y="4583520"/>
              <a:ext cx="1423080" cy="14958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7400" rIns="167400" tIns="83880" bIns="83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еседы по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алеолог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21526"/>
            <p:cNvSpPr/>
            <p:nvPr/>
          </p:nvSpPr>
          <p:spPr>
            <a:xfrm>
              <a:off x="4411080" y="4491360"/>
              <a:ext cx="1800" cy="748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1525"/>
            <p:cNvSpPr/>
            <p:nvPr/>
          </p:nvSpPr>
          <p:spPr>
            <a:xfrm>
              <a:off x="3699360" y="5241600"/>
              <a:ext cx="1423080" cy="1496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7400" rIns="167400" tIns="83880" bIns="83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акал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Г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1517"/>
            <p:cNvSpPr/>
            <p:nvPr/>
          </p:nvSpPr>
          <p:spPr>
            <a:xfrm flipH="1">
              <a:off x="3404160" y="4273200"/>
              <a:ext cx="503640" cy="527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1516"/>
            <p:cNvSpPr/>
            <p:nvPr/>
          </p:nvSpPr>
          <p:spPr>
            <a:xfrm>
              <a:off x="2188440" y="4583520"/>
              <a:ext cx="1423440" cy="14958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7400" rIns="167400" tIns="83880" bIns="83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Спортив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ны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праздни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1515"/>
            <p:cNvSpPr/>
            <p:nvPr/>
          </p:nvSpPr>
          <p:spPr>
            <a:xfrm flipH="1">
              <a:off x="2987640" y="3743640"/>
              <a:ext cx="711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1514"/>
            <p:cNvSpPr/>
            <p:nvPr/>
          </p:nvSpPr>
          <p:spPr>
            <a:xfrm>
              <a:off x="1562040" y="2995200"/>
              <a:ext cx="1423080" cy="14958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7400" rIns="167400" tIns="83880" bIns="83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Недел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Здоровь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1513"/>
            <p:cNvSpPr/>
            <p:nvPr/>
          </p:nvSpPr>
          <p:spPr>
            <a:xfrm flipH="1" flipV="1">
              <a:off x="3404160" y="2685240"/>
              <a:ext cx="503640" cy="527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1512"/>
            <p:cNvSpPr/>
            <p:nvPr/>
          </p:nvSpPr>
          <p:spPr>
            <a:xfrm>
              <a:off x="2188440" y="1407240"/>
              <a:ext cx="1423440" cy="14961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7400" rIns="167400" tIns="83880" bIns="83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Соревно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ва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1511"/>
            <p:cNvSpPr/>
            <p:nvPr/>
          </p:nvSpPr>
          <p:spPr>
            <a:xfrm>
              <a:off x="3699360" y="2998080"/>
              <a:ext cx="1423080" cy="14958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3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7400" rIns="167400" tIns="83880" bIns="83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Arial"/>
                </a:rPr>
                <a:t>формы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0:11:55Z</dcterms:created>
  <dc:creator>1</dc:creator>
  <dc:description/>
  <dc:language>en-US</dc:language>
  <cp:lastModifiedBy>Admin</cp:lastModifiedBy>
  <dcterms:modified xsi:type="dcterms:W3CDTF">2015-01-31T17:49:11Z</dcterms:modified>
  <cp:revision>113</cp:revision>
  <dc:subject/>
  <dc:title>Конкурсная работа в номинации «Педагог ДОУ»</dc:title>
</cp:coreProperties>
</file>