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BF9-B1E9-44DA-9BB9-9B3AE5F6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DAD-486E-4B43-BCC9-A8EA0FFF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39E-A1FE-4932-B4D7-2849E0DF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E66-16CC-437A-9D69-1C5EBA3B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5399-2818-4F02-9236-8A1E08B8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03F2-74CD-4DDC-AC22-0E07ABF3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903D-3095-493C-A3F0-5279063A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E993-45DE-462A-B1A7-943D30D1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B3E2-D48A-4BBD-B231-9256EEB3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D789-AFA2-4027-B524-854B9847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389C-2080-407B-9EB0-6BAFB6DB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82F-D044-4500-B007-4CEA54CF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E0E7-FAFA-45F8-9EC6-4B0EBFC6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5E42-79D4-44E3-AE61-2EF70223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3312-C38F-4AA8-A90A-AA873C8A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039A-771B-407D-A9B6-78E1616C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4B73-B250-4EE4-9163-98AB5889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D5A-F3E9-4C4E-870D-D6D6E7A7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77C-2F02-47BE-9924-37FC0535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99F-08EA-43C8-9E7E-18C5C36E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DDDB-56A7-4998-8076-E96EC10A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9CE-7859-44AA-83B0-7FCEA505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E85-C8D3-4BD2-AEC1-55E45938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F59E-A322-43F5-A750-6E2D832B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ffcf9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DAFB-77B4-4F8D-B505-B52235B7FC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ffcf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ff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47ff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47ff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47ff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47ff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ffff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ffcf9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ff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ff66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47ff8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47ff8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47ff8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ff66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00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47ff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ffcf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B3C9-73DB-49CE-8EE4-F2CC266E01F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 Black"/>
              </a:rPr>
              <a:t>Муниципальное образовательное учреждение для детей, нуждающихся в психолого-педагогической и медико-социальной помощи</a:t>
            </a:r>
            <a:br>
              <a:rPr sz="1600"/>
            </a:br>
            <a:r>
              <a:rPr b="0" lang="ru-RU" sz="1600" spc="-1" strike="noStrike">
                <a:solidFill>
                  <a:srgbClr val="99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Arial Black"/>
              </a:rPr>
              <a:t>«Центр психолого-медико-социального сопровождения </a:t>
            </a: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«</a:t>
            </a:r>
            <a:r>
              <a:rPr b="1" lang="ru-RU" sz="1800" spc="-1" strike="noStrike">
                <a:solidFill>
                  <a:srgbClr val="990000"/>
                </a:solidFill>
                <a:latin typeface="Benguiat Rus"/>
              </a:rPr>
              <a:t>ДАРС</a:t>
            </a: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Адаптация к школе </a:t>
            </a:r>
            <a:br>
              <a:rPr sz="4800"/>
            </a:br>
            <a:br>
              <a:rPr sz="2800"/>
            </a:br>
            <a:br>
              <a:rPr sz="2800"/>
            </a:br>
            <a:r>
              <a:rPr b="0" lang="ru-RU" sz="1600" spc="-1" strike="noStrike">
                <a:solidFill>
                  <a:srgbClr val="990000"/>
                </a:solidFill>
                <a:latin typeface="Arial Black"/>
              </a:rPr>
              <a:t>633004 Россия, Новосибирская область, г. Бердск, ул. Ленина, 13, </a:t>
            </a:r>
            <a:br>
              <a:rPr sz="1600"/>
            </a:br>
            <a:r>
              <a:rPr b="0" lang="ru-RU" sz="1600" spc="-1" strike="noStrike">
                <a:solidFill>
                  <a:srgbClr val="990000"/>
                </a:solidFill>
                <a:latin typeface="Arial Black"/>
              </a:rPr>
              <a:t>тел. (38341) 53467        E-mail: bsk_dars@mail.ru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-3132000" y="760572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Школьная  дезадаптация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90512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рмином  “школьная дезадаптация”  фактически называются любые затруднения у ребенка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процессе школьного обучения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0640"/>
            <a:ext cx="7309080" cy="503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од “школьной дезадаптацией” можно понимать несоответствие социопсихологического и психофизиологического статуса ребенка требованиям ситуации школьного обучения, овладение которой по ряду причин становится затруднительным или невозможным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ричины  школьной дезадаптаци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Недостаточный уровень мотивации к обучению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дагогическая запущенност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дивидуальные особенности развития интеллект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69192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еспособность произвольной регуляции поведения, внимания, учебной деятельност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еспособность приспособиться к темпу школьной жизн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еправильное отношение учителя к ученик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еправильная организация учебного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Формы  адаптации- дезадаптаци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2349360"/>
            <a:ext cx="7772400" cy="36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217b"/>
                </a:solidFill>
                <a:latin typeface="Arial"/>
              </a:rPr>
              <a:t>Норма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– благоприятное  протекание адаптации, сопровождающееся  слабой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ыраженностью или отсутствием  негативных симптомов дезадаптации.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94920" y="691920"/>
            <a:ext cx="759780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Скрытые» формы ДА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217b"/>
                </a:solidFill>
                <a:latin typeface="Arial"/>
              </a:rPr>
              <a:t>1-я степень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217b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чальная форма «скрытой» ДА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Характеризуется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средним уровнем работоспособности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сниженным эмоциональным тонусо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частичной расторможенностью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лаксивостью. повышенной утомляем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желание ходить в школу неустойчиво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старателен, но медленно включается в учебный процес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активность сменяется пассивностью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 адекватно реагирует на замеча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 в поведении наблюдается тревожность, неувереннос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295280" y="404280"/>
            <a:ext cx="752472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217b"/>
                </a:solidFill>
                <a:latin typeface="Arial"/>
              </a:rPr>
              <a:t>2-я степень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217b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огрессирующая форм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низкая работоспособн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высокая утомляем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не может сосредоточится, плаксив, обидчив,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дражителен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иногда жалуется на головную боль, тошноту, боли в живот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отношение к школе негативно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пассивен на уроке , на просьбу отвечать-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лчит, равнодушен к неудача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нуждается в постоянном контроле и помощи учител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эпизодически наблюдается агрессивность к детям как защитная реакция организм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295280" y="620640"/>
            <a:ext cx="723744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Открытые» формы ДА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217b"/>
                </a:solidFill>
                <a:latin typeface="Arial"/>
              </a:rPr>
              <a:t>3-я степень-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чальная форма «открытой»Д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Характеризуется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средне- низким уровнем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ботоспособ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 импульсивностью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сторможенностью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 внимание неустойчив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 снижен аппети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 беспокойный со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 на уроке не собра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 быстро теряет интерес к задания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 в учебной деятельности иногда создаёт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фликтную ситуацию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295280" y="333360"/>
            <a:ext cx="723744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217b"/>
                </a:solidFill>
                <a:latin typeface="Arial"/>
              </a:rPr>
              <a:t>4-я степень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огрессирующая форма «открытой» ДА.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Характеризуется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низкой работоспособностью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высокой утомляемостью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импульсивностью, расторможенностью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раздражительность переходит в агрессивност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негативное отношение к школе, учителю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быстро теряет интерес к заданиям, отказывается их выполнят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равнодушен к неудачам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негативно относится к замечаниям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мешает на урок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нуждается в постоянном контрол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в общении с учителем проявляется демонстративность. Кривляется, отказывается выполнять требования учителя, создает конфликтную ситуацию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в общении с детьми агрессивен, обзывает детей, жалуется учителю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даптация  к  школ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76360" y="1905120"/>
            <a:ext cx="66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роцесс   активного приспособления  ребёнка   к  новым  условиям социальной  среды,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а   также  результат  этого  процесса.</a:t>
            </a: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94920" y="620640"/>
            <a:ext cx="7309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Адаптация,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в психолого-педагогической системе вхождения ребенка в школу и школьную жизнь, понимается не только как 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приспособление к успешному функционированию в данной среде, но и способность к дальнейшему психологическому, личностному и социальному развитию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294920" y="1483920"/>
            <a:ext cx="730908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Адаптационный ребенок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это  ребенок,  приспособленный     к  полноценному  развитию  своего личностного,  физического, интеллектуального  и  других потенциалов  в  данной  ему    новой  педагогической  сред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58920" y="260280"/>
            <a:ext cx="745344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217b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Основные  факторы, обеспечивающие  успешную  адаптацию   1-классник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мотивации – желания  идти в школу, интерес к школ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нность  комплекса волевых качеств, без наличия которых он не может длительное время выполнять задания учителя, не отвлекаться на уроке, доводить дело до конц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6920" y="188640"/>
            <a:ext cx="7201080" cy="63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217b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азвитие коммуникативных навык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Умственное  развитие  в  соответствии  с  возрасто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Умение  слушать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 слышать взрослого,  выполнять его указа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Основные  факторы, обеспечивающие  успешную    адаптацию   5-классников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1916280"/>
            <a:ext cx="74534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формированность основных компонентов учебной деятельности, успешное усвоение программного материала учащим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формированность у ребёнка новообразований младшего школьного возраста, таких, как произвольность, рефлексия, понятийное мышление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(в соответствии возрастом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692280"/>
            <a:ext cx="730908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ачественно новый, более «взрослый», тип взаимоотношений ученика с учителями и одноклассникам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чностная, интеллектуальная и эмоциональная готовность к обучению в средней школ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Факторы,  затрудняющие 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адаптацию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сокий уровень тревожности у ребёнк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блемы с учебной деятельностью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изкий уровень коммуникативных навыков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сутствие  единства требований детского сада-начальной (1 класс) и начальной-средней школ (5 класс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изкая согласованность между учителями-предметниками в отношении объема домашних заданий, учета сложности учебников (5 класс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41:27Z</dcterms:created>
  <dc:creator>Елена</dc:creator>
  <dc:description/>
  <dc:language>en-US</dc:language>
  <cp:lastModifiedBy>KL</cp:lastModifiedBy>
  <dcterms:modified xsi:type="dcterms:W3CDTF">2015-01-21T07:14:38Z</dcterms:modified>
  <cp:revision>212</cp:revision>
  <dc:subject/>
  <dc:title>Арт-терапия  и  сказкотерапия  в  работе с  детьми,  педагогами и родителями</dc:title>
</cp:coreProperties>
</file>