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96E-9A7A-49ED-9AFD-9380ECAA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5BA-3DA2-4357-8893-F9576DFF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73E-80A6-4C77-899B-50E71D85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5DB-D75E-45DD-8DD8-3D44D13B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3BAF-ECE4-45FB-852A-314FAF09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C5D9-2FA0-4692-B22B-5259FC5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FF9A-AC0A-4D44-A1BC-5E178DE1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7C1-36AB-4CEE-9A7F-141B0E7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61F-3C44-4418-B5DE-322C9CB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ED72-BFB4-4FA0-92F9-D613CFF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ADF3-AC5B-4794-A963-D7F58C8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BBC-3BE1-44E7-B9A6-F162E5DE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49AA-ADDD-4B9C-BD82-1090CA3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1144-E5E5-47F4-BECE-E2AD4BE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260D-F2FD-48B7-A1CB-63DBD843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D654-9727-4FE2-A427-7EF05FFC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BA1-39B7-4BD8-9DE1-35C140B5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1C6-38F8-429C-A3FB-9A09D32A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23B-E2B3-4DCC-B2B5-8E66E5DC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1AD-08E0-464D-9C66-BB93B3A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0F4-1798-4191-A879-3A2E4BD0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79C-EF46-42D7-9258-438CBF6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430-6C3A-4194-A7FB-C9ABF56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FC4-4344-46DF-958C-B609665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ffcf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740-7155-421C-BF5B-59DF33712A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ffcf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47ff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ffff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ffcf9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47ff8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47ff8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47ff8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00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47ff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ffcf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2E5F-57E8-47CA-8AF7-87B784BE80B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Муниципальное образовательное учреждение для детей, нуждающихся в психолого-педагогической и медико-социальной помощи</a:t>
            </a:r>
            <a:br>
              <a:rPr sz="1600"/>
            </a:b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«Центр психолого-медико-социального сопровождения </a:t>
            </a: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990000"/>
                </a:solidFill>
                <a:latin typeface="Benguiat Rus"/>
              </a:rPr>
              <a:t>ДАРС</a:t>
            </a: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Адаптация к школе </a:t>
            </a:r>
            <a:br>
              <a:rPr sz="4800"/>
            </a:br>
            <a:br>
              <a:rPr sz="2800"/>
            </a:br>
            <a:br>
              <a:rPr sz="2800"/>
            </a:b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633004 Россия, Новосибирская область, г. Бердск, ул. Ленина, 13, </a:t>
            </a:r>
            <a:br>
              <a:rPr sz="1600"/>
            </a:br>
            <a:r>
              <a:rPr b="0" lang="ru-RU" sz="1600" spc="-1" strike="noStrike">
                <a:solidFill>
                  <a:srgbClr val="990000"/>
                </a:solidFill>
                <a:latin typeface="Arial Black"/>
              </a:rPr>
              <a:t>тел. (38341) 53467        E-mail: bsk_dars@mail.ru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-3132000" y="76057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Школьная  дезадаптац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рмином  “школьная дезадаптация”  фактически называются любые затруднения у ребенк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процессе школьного обучения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0640"/>
            <a:ext cx="7309080" cy="50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д “школьной дезадаптацией” можно понимать несоответствие социопсихологического и психофизиологического статуса ребенка требованиям ситуации школьного обучения, овладение которой по ряду причин становится затруднительным или невозможны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ричины  школьной дезадаптац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едостаточный уровень мотивации к обучению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дагогическая запущенн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дивидуальные особенности развития интеллек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69192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способность произвольной регуляции поведения, внимания, учебной деятельност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способность приспособиться к темпу школьной жизн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правильное отношение учителя к учени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правильная организация учебного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Формы  адаптации- дезадаптаци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349360"/>
            <a:ext cx="7772400" cy="36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217b"/>
                </a:solidFill>
                <a:latin typeface="Arial"/>
              </a:rPr>
              <a:t>Норма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– благоприятное  протекание адаптации, сопровождающееся  слабой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раженностью или отсутствием  негативных симптомов дезадаптации.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4920" y="691920"/>
            <a:ext cx="75978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Скрытые» формы ДА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1-я степень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чальная форма «скрытой» Д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Характеризуетс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редним уровнем работоспособности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ниженным эмоциональным тонусо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частичной расторможенность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лаксивостью. повышенной утомляем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желание ходить в школу неустойчив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тарателен, но медленно включается в учебный процес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активность сменяется пассивность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адекватно реагирует на замеча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в поведении наблюдается тревожность, неуверен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95280" y="404280"/>
            <a:ext cx="752472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2-я степень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ессирующая форм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низкая рабо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высокая утомляем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не может сосредоточится, плаксив, обидчив,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дражителен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иногда жалуется на головную боль, тошноту, боли в живо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отношение к школе негатив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пассивен на уроке , на просьбу отвечать-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лчит, равнодушен к неудача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нуждается в постоянном контроле и помощи учител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эпизодически наблюдается агрессивность к детям как защитная реакция организм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95280" y="620640"/>
            <a:ext cx="72374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Открытые» формы ДА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3-я степень-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чальная форма «открытой»Д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Характеризуется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средне- низким уровнем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оспособ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импульсивностью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торможенность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внимание неустойчи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снижен аппети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беспокойный со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на уроке не собр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быстро теряет интерес к задания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*  в учебной деятельности иногда создаё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ную ситуац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95280" y="333360"/>
            <a:ext cx="723744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17b"/>
                </a:solidFill>
                <a:latin typeface="Arial"/>
              </a:rPr>
              <a:t>4-я степень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ессирующая форма «открытой» ДА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Характеризуется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изкой работоспособность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высокой утомляемость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импульсивностью, расторможенность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раздражительность переходит в агрессив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егативное отношение к школе, учител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быстро теряет интерес к заданиям, отказывается их выполня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равнодушен к неудача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егативно относится к замечания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мешает на урок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нуждается в постоянном контрол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в общении с учителем проявляется демонстративность. Кривляется, отказывается выполнять требования учителя, создает конфликтную ситу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*  в общении с детьми агрессивен, обзывает детей, жалуется учителю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  к  школ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цесс   активного приспособления  ребёнка   к  новым  условиям социальной  среды,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   также  результат  этого  процесса.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4920" y="620640"/>
            <a:ext cx="7309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Адаптация,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в психолого-педагогической системе вхождения ребенка в школу и школьную жизнь, понимается не только как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риспособление к успешному функционированию в данной среде, но и способность к дальнейшему психологическому, личностному и социальному развитию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94920" y="1483920"/>
            <a:ext cx="730908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Адаптационный ребенок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это  ребенок,  приспособленный     к  полноценному  развитию  своего личностного,  физического, интеллектуального  и  других потенциалов  в  данной  ему    новой  педагогической  сред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58920" y="260280"/>
            <a:ext cx="745344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217b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новные  факторы, обеспечивающие  успешную  адаптацию   1-классн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мотивации – желания  идти в школу, интерес к шко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 комплекса волевых качеств, без наличия которых он не может длительное время выполнять задания учителя, не отвлекаться на уроке, доводить дело до конц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6920" y="188640"/>
            <a:ext cx="720108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217b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звитие коммуникативных навы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мственное  развитие  в  соответствии  с  возраст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мение  слушать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 слышать взрослого,  выполнять его указа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Основные  факторы, обеспечивающие  успешную    адаптацию   5-классник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16280"/>
            <a:ext cx="74534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 учащим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нность у ребёнка новообразований младшего школьного возраста, таких, как произвольность, рефлексия, понятийное мышление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(в соответствии возрастом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692280"/>
            <a:ext cx="73090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чественно новый, более «взрослый», тип взаимоотношений ученика с учителями и одноклассник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чностная, интеллектуальная и эмоциональная готовность к обучению в средней школ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,  затрудняющие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адаптацию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окий уровень тревожности у ребён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блемы с учебной деятельностью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ий уровень коммуникативных навы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сутствие  единства требований детского сада-начальной (1 класс) и начальной-средней школ (5 класс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зкая согласованность между учителями-предметниками в отношении объема домашних заданий, учета сложности учебников (5 класс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41:27Z</dcterms:created>
  <dc:creator>Елена</dc:creator>
  <dc:description/>
  <dc:language>en-US</dc:language>
  <cp:lastModifiedBy>KL</cp:lastModifiedBy>
  <dcterms:modified xsi:type="dcterms:W3CDTF">2015-01-21T07:14:38Z</dcterms:modified>
  <cp:revision>212</cp:revision>
  <dc:subject/>
  <dc:title>Арт-терапия  и  сказкотерапия  в  работе с  детьми,  педагогами и родителями</dc:title>
</cp:coreProperties>
</file>