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A5F-FE1C-452C-8983-C7C50C27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08A-26E3-4D0F-A022-BA231B8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64B-C94C-450B-ACEC-627C60E9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0DA-87B8-4C8F-BD01-145CBB9E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AC5-EDAE-4DB1-AD97-2A24770B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A01-8FC9-4731-BB22-B09C75B9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AEA-6167-4096-AF11-B55D220D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534-D979-4256-90A6-FF01F858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6A2-04FE-41D7-AA8F-03EAF877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F1C-39CB-4585-878E-244BE00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AF5-8A54-4AB9-A327-F634B605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B17-D056-42DA-BBD0-CF2CC32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C206-4D09-41BE-9B54-628317E14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Century"/>
              </a:rPr>
              <a:t>МОУ БСОШ №2</a:t>
            </a:r>
            <a:br>
              <a:rPr sz="4000"/>
            </a:br>
            <a:r>
              <a:rPr b="1" i="1" lang="ru-RU" sz="4000" spc="-1" strike="noStrike">
                <a:solidFill>
                  <a:srgbClr val="660033"/>
                </a:solidFill>
                <a:latin typeface="Century"/>
              </a:rPr>
              <a:t>«Образовательный центр.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5805360"/>
            <a:ext cx="6400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остина О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16720" y="4869000"/>
            <a:ext cx="2627280" cy="198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9640" cy="1341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71640" y="2708280"/>
            <a:ext cx="756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АДРАТНЫЕ УРАВНЕНИЯ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Monotype Corsiva"/>
              </a:rPr>
              <a:t>Решите биквадратное уравнение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1" lang="ru-RU" sz="4000" spc="-1" strike="noStrike" baseline="30000">
                <a:solidFill>
                  <a:srgbClr val="3333cc"/>
                </a:solidFill>
                <a:latin typeface="Monotype Corsiva"/>
              </a:rPr>
              <a:t>4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+ 4х</a:t>
            </a:r>
            <a:r>
              <a:rPr b="1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– 45 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х</a:t>
            </a:r>
            <a:r>
              <a:rPr b="1" lang="ru-RU" sz="4000" spc="-1" strike="noStrike" u="sng" baseline="30000">
                <a:solidFill>
                  <a:srgbClr val="3333cc"/>
                </a:solidFill>
                <a:uFillTx/>
                <a:latin typeface="Monotype Corsiva"/>
              </a:rPr>
              <a:t>2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=</a:t>
            </a:r>
            <a:r>
              <a:rPr b="1" lang="ru-RU" sz="4000" spc="-1" strike="noStrike" u="sng">
                <a:solidFill>
                  <a:srgbClr val="9999ff"/>
                </a:solidFill>
                <a:uFillTx/>
                <a:latin typeface="Monotype Corsiva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у</a:t>
            </a:r>
            <a:r>
              <a:rPr b="1" lang="ru-RU" sz="4000" spc="-1" strike="noStrike" baseline="30000">
                <a:solidFill>
                  <a:srgbClr val="9999ff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 + 4у – 45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Д= 19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у</a:t>
            </a:r>
            <a:r>
              <a:rPr b="1" lang="ru-RU" sz="4000" spc="-1" strike="noStrike" baseline="-25000">
                <a:solidFill>
                  <a:srgbClr val="9999ff"/>
                </a:solidFill>
                <a:latin typeface="Monotype Corsiva"/>
              </a:rPr>
              <a:t>1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=-9; у</a:t>
            </a:r>
            <a:r>
              <a:rPr b="1" lang="ru-RU" sz="4000" spc="-1" strike="noStrike" baseline="-25000">
                <a:solidFill>
                  <a:srgbClr val="9999ff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1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= 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-9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;       х</a:t>
            </a:r>
            <a:r>
              <a:rPr b="1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=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Нет            х</a:t>
            </a:r>
            <a:r>
              <a:rPr b="1" lang="ru-RU" sz="4000" spc="-1" strike="noStrike" baseline="-25000">
                <a:solidFill>
                  <a:srgbClr val="3333cc"/>
                </a:solidFill>
                <a:latin typeface="Monotype Corsiva"/>
              </a:rPr>
              <a:t>1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=√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Решений        х</a:t>
            </a:r>
            <a:r>
              <a:rPr b="1" lang="ru-RU" sz="4000" spc="-1" strike="noStrike" baseline="-25000">
                <a:solidFill>
                  <a:srgbClr val="3333cc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= -√5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                        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Тест</a:t>
            </a:r>
            <a:br>
              <a:rPr sz="4000"/>
            </a:br>
            <a:r>
              <a:rPr b="1" lang="en-US" sz="4000" spc="-1" strike="noStrike" u="sng">
                <a:solidFill>
                  <a:srgbClr val="3333cc"/>
                </a:solidFill>
                <a:uFillTx/>
                <a:latin typeface="Monotype Corsiva"/>
              </a:rPr>
              <a:t>I 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вариант 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                 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Monotype Corsiva"/>
              </a:rPr>
              <a:t>II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 вариа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2х</a:t>
            </a:r>
            <a:r>
              <a:rPr b="0" lang="ru-RU" sz="3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+ 3х  + 1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9999ff"/>
                </a:solidFill>
                <a:latin typeface="Times New Roman"/>
              </a:rPr>
              <a:t>2х</a:t>
            </a:r>
            <a:r>
              <a:rPr b="0" lang="ru-RU" sz="3200" spc="-1" strike="noStrike" baseline="30000">
                <a:solidFill>
                  <a:srgbClr val="9999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9999ff"/>
                </a:solidFill>
                <a:latin typeface="Times New Roman"/>
              </a:rPr>
              <a:t> – 3х + 1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.Выпишите коэффици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</a:rPr>
              <a:t>а=</a:t>
            </a:r>
            <a:r>
              <a:rPr b="1" lang="ru-RU" sz="2800" spc="-1" strike="noStrike">
                <a:solidFill>
                  <a:srgbClr val="9999ff"/>
                </a:solidFill>
                <a:latin typeface="Times New Roman"/>
              </a:rPr>
              <a:t>                                             а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</a:rPr>
              <a:t>в=</a:t>
            </a:r>
            <a:r>
              <a:rPr b="1" lang="ru-RU" sz="2800" spc="-1" strike="noStrike">
                <a:solidFill>
                  <a:srgbClr val="9999ff"/>
                </a:solidFill>
                <a:latin typeface="Times New Roman"/>
              </a:rPr>
              <a:t>                                             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</a:rPr>
              <a:t>с=</a:t>
            </a:r>
            <a:r>
              <a:rPr b="1" lang="ru-RU" sz="2800" spc="-1" strike="noStrike">
                <a:solidFill>
                  <a:srgbClr val="9999ff"/>
                </a:solidFill>
                <a:latin typeface="Times New Roman"/>
              </a:rPr>
              <a:t>                                             с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.Найдите дискримин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) 4;     2) 1;    3)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.Найдите корни урав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) 1;-1/2.         2) -1; -1/2 .       3) 1;1/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Monotype Corsiva"/>
              </a:rPr>
              <a:t>Итог урока</a:t>
            </a: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Monotype Corsiva"/>
              </a:rPr>
              <a:t>Д/З    №535(3), 534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Тема  уро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2864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66"/>
                </a:solidFill>
                <a:latin typeface="Monotype Corsiva"/>
              </a:rPr>
              <a:t>РЕШЕНИ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66"/>
                </a:solidFill>
                <a:latin typeface="Monotype Corsiva"/>
              </a:rPr>
              <a:t>КВАДРАТНЫ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66"/>
                </a:solidFill>
                <a:latin typeface="Monotype Corsiva"/>
              </a:rPr>
              <a:t>УРАВНЕНИ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крепить решения квадратных и биквадратных уравнений, используя  алгоритм реш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Ход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стные упражн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крепление изучен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ыполнение те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учение отмет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000099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4865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Что называется уравнение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Какие вы знаете уравн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Какое уравнение называется квадратны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Как решаются квадратные уравн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Как найти дискриминан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      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Д=</a:t>
            </a: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b</a:t>
            </a:r>
            <a:r>
              <a:rPr b="1" i="1" lang="en-US" sz="3600" spc="-1" strike="noStrike" baseline="30000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 – 4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Monotype Corsiva"/>
              </a:rPr>
              <a:t>Сколько корней имеет квадратное уравнение, есл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Monotype Corsiva"/>
              </a:rPr>
              <a:t>   </a:t>
            </a:r>
            <a:r>
              <a:rPr b="1" i="1" lang="ru-RU" sz="3600" spc="-1" strike="noStrike">
                <a:solidFill>
                  <a:srgbClr val="3333cc"/>
                </a:solidFill>
                <a:latin typeface="Monotype Corsiva"/>
              </a:rPr>
              <a:t>Д </a:t>
            </a: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D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D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Monotype Corsiv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4865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Как найти эти кор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Какое уравнение называется биквадратны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Как решаются биквадратные уравн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Ах</a:t>
            </a:r>
            <a:r>
              <a:rPr b="1" i="1" lang="ru-RU" sz="3600" spc="-1" strike="noStrike" baseline="30000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+Вх+С=А(х – х</a:t>
            </a:r>
            <a:r>
              <a:rPr b="1" i="1" lang="ru-RU" sz="3600" spc="-1" strike="noStrike" baseline="-25000">
                <a:solidFill>
                  <a:srgbClr val="ff3300"/>
                </a:solidFill>
                <a:latin typeface="Monotype Corsiva"/>
              </a:rPr>
              <a:t>1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)(х - х</a:t>
            </a:r>
            <a:r>
              <a:rPr b="1" i="1" lang="ru-RU" sz="3600" spc="-1" strike="noStrike" baseline="-25000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92360" y="1341360"/>
                <a:ext cx="42480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692280"/>
            <a:ext cx="4822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 =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 = -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 – 4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2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+32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2х = 1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692280"/>
            <a:ext cx="38862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3,  х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т реш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2, х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т реш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 =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3333cc"/>
                </a:solidFill>
                <a:latin typeface="Monotype Corsiva"/>
              </a:rPr>
              <a:t>1-ый уч –с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– 9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+ 20=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2 –ой уч-с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– 11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+ 18 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Класс: № 461 (1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кратите дроб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2х</a:t>
            </a:r>
            <a:r>
              <a:rPr b="1" i="1" lang="ru-RU" sz="4000" spc="-1" strike="noStrike" u="sng" baseline="30000">
                <a:solidFill>
                  <a:srgbClr val="ff3300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 -10х +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- 7х +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501300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3300"/>
                </a:solidFill>
                <a:uFillTx/>
                <a:latin typeface="Times New Roman"/>
              </a:rPr>
              <a:t>2х</a:t>
            </a:r>
            <a:r>
              <a:rPr b="1" i="1" lang="ru-RU" sz="5400" spc="-1" strike="noStrike" u="sng" baseline="30000">
                <a:solidFill>
                  <a:srgbClr val="ff3300"/>
                </a:solidFill>
                <a:uFillTx/>
                <a:latin typeface="Times New Roman"/>
              </a:rPr>
              <a:t>2</a:t>
            </a:r>
            <a:r>
              <a:rPr b="1" i="1" lang="ru-RU" sz="5400" spc="-1" strike="noStrike" u="sng">
                <a:solidFill>
                  <a:srgbClr val="ff3300"/>
                </a:solidFill>
                <a:uFillTx/>
                <a:latin typeface="Times New Roman"/>
              </a:rPr>
              <a:t> - 10х+12 </a:t>
            </a: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   =  </a:t>
            </a:r>
            <a:r>
              <a:rPr b="1" i="1" lang="ru-RU" sz="5400" spc="-1" strike="noStrike" u="sng">
                <a:solidFill>
                  <a:srgbClr val="ff3300"/>
                </a:solidFill>
                <a:uFillTx/>
                <a:latin typeface="Times New Roman"/>
              </a:rPr>
              <a:t>2(х - 3)(х-2)</a:t>
            </a:r>
            <a:br>
              <a:rPr sz="5400"/>
            </a:b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5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 - 7х+ 12          1(х -4)(х – 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620640"/>
            <a:ext cx="38098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2х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-10х +12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=2, в=-10, с=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в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4а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(-10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4*2*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100 - 9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 =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3; 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620280"/>
            <a:ext cx="3809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- 7х + 12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=1, в= -7, с= 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в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4а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(-7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4*1*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49 - 4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4; 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я</cp:lastModifiedBy>
  <dcterms:modified xsi:type="dcterms:W3CDTF">2010-05-25T03:37:38Z</dcterms:modified>
  <cp:revision>3</cp:revision>
  <dc:subject/>
  <dc:title>PowerPoint Presentation</dc:title>
</cp:coreProperties>
</file>