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42B-C9EC-4253-9ABE-8085391B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06A-8A0F-44A9-A8C8-C99FD2CA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C60-80F3-4B58-ADF3-B163E6F7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D21-411B-4AF6-B05E-199E2819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97B-05EF-4483-B00D-D7934AAE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01F-E5E9-40DC-8C9C-C033E0A5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374-AC3E-41DB-A0C3-707D69FA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5F4-8574-46DB-BE1A-E0A8FE9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B36-6049-4F50-A505-E26DEB3A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151-ED32-4633-AC54-B8BD82AF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2FA-FBAA-42DC-B803-D835976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298-C6A5-4A93-92AF-810786BC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6D43-9B8E-497E-B744-A94330A2E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gif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243000"/>
            <a:ext cx="5913720" cy="7390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1008360" cy="93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35640" y="3933720"/>
            <a:ext cx="1171440" cy="16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5157720"/>
            <a:ext cx="142560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944800" y="3213000"/>
            <a:ext cx="1089000" cy="179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284720" y="3068640"/>
            <a:ext cx="50796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27640" y="1773360"/>
            <a:ext cx="842760" cy="117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924360" y="2133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788000" y="1484280"/>
            <a:ext cx="171288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588000" y="0"/>
            <a:ext cx="310536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-252360" y="4118040"/>
            <a:ext cx="3492360" cy="2739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3752400">
            <a:off x="538560" y="1053000"/>
            <a:ext cx="1422360" cy="136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659640" y="4908600"/>
            <a:ext cx="24843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7:10:47Z</dcterms:created>
  <dc:creator>Serega</dc:creator>
  <dc:description/>
  <dc:language>en-US</dc:language>
  <cp:lastModifiedBy>Serega</cp:lastModifiedBy>
  <dcterms:modified xsi:type="dcterms:W3CDTF">2012-05-06T17:28:37Z</dcterms:modified>
  <cp:revision>3</cp:revision>
  <dc:subject/>
  <dc:title>Слайд 1</dc:title>
</cp:coreProperties>
</file>