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815-EEFC-4E49-9967-670391AD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39A-BCCA-4A31-8F74-15CBF2C7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F9A-730E-45B6-B79E-ABD6C827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001-3F65-4E1E-A77C-595862FD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B4A-6CEF-462F-B38A-B8B58FF1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32D-A3BF-4385-B5D5-F38EA8CC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894-F4C3-44CE-9E8B-DB4703C5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6B7-5A41-41A0-A54A-695722C8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5B2-949E-478D-9192-A66602F2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2B9-779C-4579-88A9-77BC7C92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D2F-8FBE-44A1-8203-50D0AD2D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882-0F09-41AE-9D19-4328830A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A309-12E1-4190-AFE4-A565EC384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gif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-243000"/>
            <a:ext cx="5913720" cy="7390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132000" y="333360"/>
            <a:ext cx="1008360" cy="930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435640" y="3933720"/>
            <a:ext cx="1171440" cy="16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92360" y="5157720"/>
            <a:ext cx="142560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944800" y="3213000"/>
            <a:ext cx="1089000" cy="1790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284720" y="3068640"/>
            <a:ext cx="50796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427640" y="1773360"/>
            <a:ext cx="842760" cy="117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924360" y="2133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788000" y="1484280"/>
            <a:ext cx="1712880" cy="1940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6588000" y="0"/>
            <a:ext cx="3105360" cy="32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-252360" y="4118040"/>
            <a:ext cx="3492360" cy="2739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rot="3752400">
            <a:off x="538560" y="1053000"/>
            <a:ext cx="1422360" cy="1369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6659640" y="4908600"/>
            <a:ext cx="24843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7:10:47Z</dcterms:created>
  <dc:creator>Serega</dc:creator>
  <dc:description/>
  <dc:language>en-US</dc:language>
  <cp:lastModifiedBy>Serega</cp:lastModifiedBy>
  <dcterms:modified xsi:type="dcterms:W3CDTF">2012-05-06T17:28:37Z</dcterms:modified>
  <cp:revision>3</cp:revision>
  <dc:subject/>
  <dc:title>Слайд 1</dc:title>
</cp:coreProperties>
</file>