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12.png" ContentType="image/png"/>
  <Override PartName="/ppt/media/image10.jpeg" ContentType="image/jpeg"/>
  <Override PartName="/ppt/media/image2.gif" ContentType="image/gif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B6467-DE92-46F9-A27E-82624A7F7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2563B-775F-4F76-9992-A1E9E44B8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41BE8-9DD7-4A56-A481-12068FC75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34980-E731-4CD3-99C9-2C47B4C1E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FF325-D0A8-4BB2-AF58-F7BBC7DC0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DD25A-DA21-4376-A919-6606E3665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BBFB8-D29B-4EB3-BCE1-073C11A7F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CE7B8-3054-47EE-BA4F-BD57797DA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5D6E4-5628-4F4D-BF50-140B64476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CDF51-0CA9-4603-83C9-A751DF189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8FBD8-38FA-4465-8C8E-E44AD591C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B48FD-34AD-43AE-94C1-8C248966C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BD8F7-1F3B-47F4-B3F8-DD86483E7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A87CE-D210-435E-B8F3-25CE757E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431B6-B4AE-49BB-BBA6-4AE4ED68A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A0F56-E7FB-41A7-9C8F-5087512C9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B2C2F-3F6B-461C-BC02-C4B7A3E0B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593C4-3F8E-437E-BCE5-BDE1A723D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26822-AD33-4C6C-8900-42915A2D2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76972-F632-400F-9F90-C27EAB41D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8E7B9-1938-4A87-972A-26F49ABC4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67C2F-3902-492E-B733-54E38774B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B7F97-C2A0-4993-A72C-10A8D251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A7A39-55B8-43B3-B66F-8751CF23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3ED9E-7702-4972-8961-9B33BF4F161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301F5-E6AC-4A36-AA0D-BBD0D740A4ED}" type="slidenum">
              <a:rPr b="0" lang="ru-RU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ff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178920"/>
            <a:ext cx="8229600" cy="626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МБОУ Хемчикская СОШ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003300"/>
                </a:solidFill>
                <a:latin typeface="Arial"/>
              </a:rPr>
              <a:t>2013-2014 уч. год.</a:t>
            </a:r>
            <a:br>
              <a:rPr sz="2000"/>
            </a:b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07" name="Прямоугольник 3" descr=""/>
          <p:cNvPicPr/>
          <p:nvPr/>
        </p:nvPicPr>
        <p:blipFill>
          <a:blip r:embed="rId1"/>
          <a:stretch/>
        </p:blipFill>
        <p:spPr>
          <a:xfrm>
            <a:off x="762120" y="1994040"/>
            <a:ext cx="7815240" cy="2170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00ff"/>
                </a:solidFill>
                <a:latin typeface="Arial"/>
              </a:rPr>
              <a:t>«</a:t>
            </a:r>
            <a:r>
              <a:rPr b="1" lang="ru-RU" sz="7200" spc="-1" strike="noStrike">
                <a:solidFill>
                  <a:srgbClr val="6600ff"/>
                </a:solidFill>
                <a:latin typeface="Arial"/>
              </a:rPr>
              <a:t>Черные шапки</a:t>
            </a:r>
            <a:r>
              <a:rPr b="1" lang="en-US" sz="7200" spc="-1" strike="noStrike">
                <a:solidFill>
                  <a:srgbClr val="6600ff"/>
                </a:solidFill>
                <a:latin typeface="Arial"/>
              </a:rPr>
              <a:t>»</a:t>
            </a:r>
            <a:br>
              <a:rPr sz="7200"/>
            </a:br>
            <a:endParaRPr b="0" lang="en-US" sz="72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38" name="Picture 11" descr="Компьютер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792680" y="2489040"/>
            <a:ext cx="4173480" cy="41738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457200" y="130176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00"/>
                </a:solidFill>
                <a:latin typeface="Monotype Corsiva"/>
              </a:rPr>
              <a:t>Кевин Митник. </a:t>
            </a:r>
            <a:endParaRPr b="0" lang="en-US" sz="6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Конец его хакерской деятельности пришёл тогда, когда он</a:t>
            </a:r>
            <a:r>
              <a:rPr b="1" i="1" lang="en-US" sz="2800" spc="-1" strike="noStrike">
                <a:solidFill>
                  <a:srgbClr val="003300"/>
                </a:solidFill>
                <a:latin typeface="Arial"/>
              </a:rPr>
              <a:t> </a:t>
            </a: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взломал компьютер Тсутому Шимомура, о котором говорилось раньше. Наконец, после почти 6 лет тюремной камеры, он стал </a:t>
            </a:r>
            <a:r>
              <a:rPr b="1" i="1" lang="en-US" sz="2800" spc="-1" strike="noStrike">
                <a:solidFill>
                  <a:srgbClr val="003300"/>
                </a:solidFill>
                <a:latin typeface="Arial"/>
              </a:rPr>
              <a:t>«</a:t>
            </a: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полезным гражданином</a:t>
            </a:r>
            <a:r>
              <a:rPr b="1" i="1" lang="en-US" sz="2800" spc="-1" strike="noStrike">
                <a:solidFill>
                  <a:srgbClr val="003300"/>
                </a:solidFill>
                <a:latin typeface="Arial"/>
              </a:rPr>
              <a:t>» </a:t>
            </a: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и сейчас занимается тем, что помогает разрабатывать защитное ПО.</a:t>
            </a:r>
            <a:br>
              <a:rPr sz="2800"/>
            </a:b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1" descr="Компьютер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792680" y="2489040"/>
            <a:ext cx="4173480" cy="41738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59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3300"/>
                </a:solidFill>
                <a:latin typeface="Monotype Corsiva"/>
              </a:rPr>
              <a:t>Адриан Ламо. </a:t>
            </a:r>
            <a:br>
              <a:rPr sz="6600"/>
            </a:br>
            <a:r>
              <a:rPr b="1" lang="ru-RU" sz="3600" spc="-1" strike="noStrike">
                <a:solidFill>
                  <a:srgbClr val="003300"/>
                </a:solidFill>
                <a:latin typeface="Arial"/>
              </a:rPr>
              <a:t>Известен он тем, что взламывал сети известнейших компаний, в том числе таких гигантов, например Microsoft, Yahoo и многих других. </a:t>
            </a:r>
            <a:r>
              <a:rPr b="1" i="1" lang="ru-RU" sz="3600" spc="-1" strike="noStrike">
                <a:solidFill>
                  <a:srgbClr val="003300"/>
                </a:solidFill>
                <a:latin typeface="Arial"/>
              </a:rPr>
              <a:t>Адриан Ламо завершил свою хакерскую деятельность и стал работать журналистом.</a:t>
            </a:r>
            <a:br>
              <a:rPr sz="3600"/>
            </a:b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2"/>
          <a:stretch/>
        </p:blipFill>
        <p:spPr>
          <a:xfrm>
            <a:off x="352440" y="5237280"/>
            <a:ext cx="1749240" cy="1376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H:\Documents and Settings\Admin\Мои документы\49184[1].jpg"/>
          <p:cNvPicPr/>
          <p:nvPr/>
        </p:nvPicPr>
        <p:blipFill>
          <a:blip r:embed="rId3"/>
          <a:stretch/>
        </p:blipFill>
        <p:spPr>
          <a:xfrm>
            <a:off x="7524720" y="0"/>
            <a:ext cx="1619280" cy="9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11" descr="Компьютер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792680" y="2489040"/>
            <a:ext cx="4173480" cy="417384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01400"/>
            <a:ext cx="8229600" cy="577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3300"/>
                </a:solidFill>
                <a:latin typeface="Monotype Corsiva"/>
              </a:rPr>
              <a:t>Джонтан Джеймс. </a:t>
            </a:r>
            <a:br>
              <a:rPr sz="6600"/>
            </a:b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смог взломать одно из подразделений Министерства Обороны Соединённых Штатов, а также проникнул в защищённую сеть НАСА и выкрал оттуда совершенно секретного ПО, стоимость которого оценивалась в несколько миллионов!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1" descr="Компьютер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792680" y="2489040"/>
            <a:ext cx="4173480" cy="417384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3300"/>
                </a:solidFill>
                <a:latin typeface="Monotype Corsiva"/>
              </a:rPr>
              <a:t>Роберт Моррис. </a:t>
            </a:r>
            <a:br>
              <a:rPr sz="6600"/>
            </a:br>
            <a:r>
              <a:rPr b="1" i="1" lang="ru-RU" sz="3600" spc="-1" strike="noStrike">
                <a:solidFill>
                  <a:srgbClr val="003300"/>
                </a:solidFill>
                <a:latin typeface="Arial"/>
              </a:rPr>
              <a:t>Моррис создал первый компьютерный червь, который распространялся по интернету. Из-за его действий, пришло в неисправность более 6000 компьютеров</a:t>
            </a:r>
            <a:br>
              <a:rPr sz="3600"/>
            </a:b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48" name="Picture 2" descr="C:\Users\Tanya\Pictures\устройство компьютера\1237569827_2058517040.jpg"/>
          <p:cNvPicPr/>
          <p:nvPr/>
        </p:nvPicPr>
        <p:blipFill>
          <a:blip r:embed="rId2"/>
          <a:stretch/>
        </p:blipFill>
        <p:spPr>
          <a:xfrm>
            <a:off x="828720" y="4863960"/>
            <a:ext cx="1446120" cy="1446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11" descr="Компьютер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792680" y="2489040"/>
            <a:ext cx="4173480" cy="417384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74760"/>
            <a:ext cx="8229600" cy="566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3300"/>
                </a:solidFill>
                <a:latin typeface="Monotype Corsiva"/>
              </a:rPr>
              <a:t>Кевин Поулсен</a:t>
            </a: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. </a:t>
            </a:r>
            <a:br>
              <a:rPr sz="2000"/>
            </a:b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 </a:t>
            </a:r>
            <a:r>
              <a:rPr b="1" i="1" lang="ru-RU" sz="4000" spc="-1" strike="noStrike">
                <a:solidFill>
                  <a:srgbClr val="003300"/>
                </a:solidFill>
                <a:latin typeface="Arial"/>
              </a:rPr>
              <a:t>взлом базы данных ФБР, в результате чего, у него появился доступ к секретной информации. Для ФБР было делом чести найти этого киберпреступника. </a:t>
            </a:r>
            <a:br>
              <a:rPr sz="4000"/>
            </a:b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98600" y="1066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00"/>
                </a:solidFill>
                <a:latin typeface="Arial"/>
              </a:rPr>
              <a:t>Результаты опроса учащихся: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52" name="Picture 11" descr="Компьютер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792680" y="2489040"/>
            <a:ext cx="4173480" cy="41738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457200" y="2639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3.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Опрос учащихся 8-11 классов всего 41 обучающихся показал, что основная масса учеников считает хакеров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гениями - 25,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злодеями - 16.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54" name="Picture 2" descr="буратино"/>
          <p:cNvPicPr/>
          <p:nvPr/>
        </p:nvPicPr>
        <p:blipFill>
          <a:blip r:embed="rId2"/>
          <a:stretch/>
        </p:blipFill>
        <p:spPr>
          <a:xfrm>
            <a:off x="0" y="0"/>
            <a:ext cx="1352520" cy="1409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Выводы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56" name="Picture 11" descr="Компьютер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792680" y="2489040"/>
            <a:ext cx="4173480" cy="41738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442800" y="1482840"/>
            <a:ext cx="822960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1.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Основная задача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 «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Белых шапок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» -  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исследуя вычислительную систему, обнаружить слабые места (уязвимости) в ее системе безопасности с целью информирования пользователей и разработчиков системы для последующего устранения найденных уязвимостей. Другая задача ХАКЕРА, проанализировав существующую безопасность вычислительной системы, сформулировать необходимые требования и условия повышения уровня ее защищенности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00"/>
                </a:solidFill>
                <a:latin typeface="Arial"/>
              </a:rPr>
              <a:t>Выводы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59" name="Picture 11" descr="Компьютер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792680" y="2489040"/>
            <a:ext cx="4173480" cy="41738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 txBox="1"/>
          <p:nvPr/>
        </p:nvSpPr>
        <p:spPr>
          <a:xfrm>
            <a:off x="387360" y="206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2.Основная задача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 «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Черных шапок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» 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состоит в непосредственном осуществлении взлома системы с целью получения несанкционированного доступа к чужой информации - иначе говоря, для ее кражи, подмены или для объявления факта взлома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1" descr="Компьютер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792680" y="2489040"/>
            <a:ext cx="4173480" cy="417384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51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63" name="Picture 4" descr="рисунок7"/>
          <p:cNvPicPr/>
          <p:nvPr/>
        </p:nvPicPr>
        <p:blipFill>
          <a:blip r:embed="rId2"/>
          <a:srcRect l="0" t="0" r="87436" b="79544"/>
          <a:stretch/>
        </p:blipFill>
        <p:spPr>
          <a:xfrm>
            <a:off x="193680" y="773280"/>
            <a:ext cx="1225440" cy="1446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22120" y="1828800"/>
            <a:ext cx="606924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Garamond"/>
              </a:rPr>
              <a:t>Хакеры: гении или злодеи?</a:t>
            </a:r>
            <a:endParaRPr b="0" lang="en-US" sz="5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09" name="Picture 4" descr="progbar"/>
          <p:cNvPicPr/>
          <p:nvPr/>
        </p:nvPicPr>
        <p:blipFill>
          <a:blip r:embed="rId1"/>
          <a:stretch/>
        </p:blipFill>
        <p:spPr>
          <a:xfrm>
            <a:off x="1487520" y="5216400"/>
            <a:ext cx="6521400" cy="5652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1" descr="Компьютер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792680" y="2489040"/>
            <a:ext cx="4173480" cy="417384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4"/>
          <p:cNvSpPr/>
          <p:nvPr/>
        </p:nvSpPr>
        <p:spPr>
          <a:xfrm>
            <a:off x="290520" y="306360"/>
            <a:ext cx="8853480" cy="83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Garamond"/>
              </a:rPr>
              <a:t>Хакеры появились в то же самое время, что и Internet.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Garamond"/>
              </a:rPr>
              <a:t>B 1960 годах хакером назывался высококвалифицированный программист.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Garamond"/>
              </a:rPr>
              <a:t>Теперь это слово имеет несколько иное значение.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Garamond"/>
              </a:rPr>
              <a:t>Начало семидесятых и конец восьмидесятых - лучшие годы для хакеров.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Garamond"/>
              </a:rPr>
              <a:t>Операционные системы только начинали появляться, компьютеры на основе таких систем имели много ошибок и дыр.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Garamond"/>
              </a:rPr>
              <a:t>Хакеры в то время были более свободными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Овал 10"/>
          <p:cNvSpPr/>
          <p:nvPr/>
        </p:nvSpPr>
        <p:spPr>
          <a:xfrm>
            <a:off x="2008080" y="415800"/>
            <a:ext cx="5072040" cy="2313000"/>
          </a:xfrm>
          <a:prstGeom prst="ellipse">
            <a:avLst/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824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00"/>
                </a:solidFill>
                <a:latin typeface="Arial"/>
              </a:rPr>
              <a:t>Типы хакеров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4" name="Скругленный прямоугольник 4"/>
          <p:cNvSpPr/>
          <p:nvPr/>
        </p:nvSpPr>
        <p:spPr>
          <a:xfrm>
            <a:off x="345960" y="3587760"/>
            <a:ext cx="3408480" cy="182880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00"/>
                </a:solidFill>
                <a:latin typeface="Arial"/>
              </a:rPr>
              <a:t>«Белая шапка»</a:t>
            </a:r>
            <a:endParaRPr b="0" lang="en-US" sz="4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5" name="Стрелка углом 8"/>
          <p:cNvSpPr/>
          <p:nvPr/>
        </p:nvSpPr>
        <p:spPr>
          <a:xfrm flipV="1" rot="5400000">
            <a:off x="630000" y="2049840"/>
            <a:ext cx="1863720" cy="920880"/>
          </a:xfrm>
          <a:prstGeom prst="pie">
            <a:avLst/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16" name="Picture 11" descr="Компьютер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570560" y="2684520"/>
            <a:ext cx="4173480" cy="4173480"/>
          </a:xfrm>
          <a:prstGeom prst="rect">
            <a:avLst/>
          </a:prstGeom>
          <a:ln w="0">
            <a:noFill/>
          </a:ln>
        </p:spPr>
      </p:pic>
      <p:sp>
        <p:nvSpPr>
          <p:cNvPr id="117" name="Скругленный прямоугольник 5"/>
          <p:cNvSpPr/>
          <p:nvPr/>
        </p:nvSpPr>
        <p:spPr>
          <a:xfrm>
            <a:off x="5029200" y="3587760"/>
            <a:ext cx="3408480" cy="182880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00"/>
                </a:solidFill>
                <a:latin typeface="Arial"/>
              </a:rPr>
              <a:t>«Черная шапка»</a:t>
            </a:r>
            <a:endParaRPr b="0" lang="en-US" sz="4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8" name="Стрелка углом 7"/>
          <p:cNvSpPr/>
          <p:nvPr/>
        </p:nvSpPr>
        <p:spPr>
          <a:xfrm rot="5400000">
            <a:off x="6687720" y="1922400"/>
            <a:ext cx="1808280" cy="1011240"/>
          </a:xfrm>
          <a:prstGeom prst="pie">
            <a:avLst/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 spd="med">
    <p:cut thruBlk="true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3"/>
          <p:cNvSpPr/>
          <p:nvPr/>
        </p:nvSpPr>
        <p:spPr>
          <a:xfrm>
            <a:off x="1538280" y="665280"/>
            <a:ext cx="706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00ff"/>
                </a:solidFill>
                <a:latin typeface="Arial"/>
              </a:rPr>
              <a:t>«Белые шапки»</a:t>
            </a:r>
            <a:endParaRPr b="0" lang="en-US" sz="60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20" name="Picture 11" descr="Компьютер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792680" y="2489040"/>
            <a:ext cx="4173480" cy="4173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457200" y="1690560"/>
            <a:ext cx="8229600" cy="47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Monotype Corsiva"/>
              </a:rPr>
              <a:t> </a:t>
            </a:r>
            <a:r>
              <a:rPr b="1" lang="ru-RU" sz="7200" spc="-1" strike="noStrike">
                <a:solidFill>
                  <a:srgbClr val="003300"/>
                </a:solidFill>
                <a:latin typeface="Monotype Corsiva"/>
              </a:rPr>
              <a:t>Стивен Возняк. </a:t>
            </a:r>
            <a:endParaRPr b="0" lang="en-US" sz="7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Этот один из отцов Apple,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помогал детям осваивать современные технологии.</a:t>
            </a:r>
            <a:br>
              <a:rPr sz="2800"/>
            </a:b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22" name="Picture 2" descr="http://www.smart-foto.ru/assets/images/raspoznavanie-tekstov/raspoznavanie-tekstov_500x500_1.jpg"/>
          <p:cNvPicPr/>
          <p:nvPr/>
        </p:nvPicPr>
        <p:blipFill>
          <a:blip r:embed="rId2"/>
          <a:stretch/>
        </p:blipFill>
        <p:spPr>
          <a:xfrm>
            <a:off x="816120" y="4433760"/>
            <a:ext cx="1812960" cy="1811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05228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3300"/>
                </a:solidFill>
                <a:latin typeface="Monotype Corsiva"/>
              </a:rPr>
              <a:t>Тим Бернерс-Ли. </a:t>
            </a:r>
            <a:br>
              <a:rPr sz="6600"/>
            </a:br>
            <a:r>
              <a:rPr b="1" lang="ru-RU" sz="3600" spc="-1" strike="noStrike">
                <a:solidFill>
                  <a:srgbClr val="003300"/>
                </a:solidFill>
                <a:latin typeface="Arial"/>
              </a:rPr>
              <a:t>создал сеть, которая сейчас называется </a:t>
            </a:r>
            <a:r>
              <a:rPr b="1" i="1" lang="ru-RU" sz="3600" spc="-1" strike="noStrike">
                <a:solidFill>
                  <a:srgbClr val="003300"/>
                </a:solidFill>
                <a:latin typeface="Arial"/>
              </a:rPr>
              <a:t>World Wide Web</a:t>
            </a:r>
            <a:r>
              <a:rPr b="1" lang="ru-RU" sz="3600" spc="-1" strike="noStrike">
                <a:solidFill>
                  <a:srgbClr val="003300"/>
                </a:solidFill>
                <a:latin typeface="Arial"/>
              </a:rPr>
              <a:t>. Другими словами, Тим создал интернет. </a:t>
            </a:r>
            <a:br>
              <a:rPr sz="6600"/>
            </a:br>
            <a:br>
              <a:rPr sz="6600"/>
            </a:b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5553000" y="4229280"/>
            <a:ext cx="2879640" cy="17697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0" descr=""/>
          <p:cNvPicPr/>
          <p:nvPr/>
        </p:nvPicPr>
        <p:blipFill>
          <a:blip r:embed="rId2"/>
          <a:stretch/>
        </p:blipFill>
        <p:spPr>
          <a:xfrm>
            <a:off x="1674720" y="4295880"/>
            <a:ext cx="1368360" cy="171288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1" descr="Компьютер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792680" y="2489040"/>
            <a:ext cx="4173480" cy="41738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3300"/>
                </a:solidFill>
                <a:latin typeface="Monotype Corsiva"/>
              </a:rPr>
              <a:t>Линус Торвальдс. </a:t>
            </a:r>
            <a:br>
              <a:rPr sz="1800"/>
            </a:br>
            <a:r>
              <a:rPr b="1" lang="ru-RU" sz="3600" spc="-1" strike="noStrike">
                <a:solidFill>
                  <a:srgbClr val="003300"/>
                </a:solidFill>
                <a:latin typeface="Arial"/>
              </a:rPr>
              <a:t>Это человек, который создал самую известную бесплатную</a:t>
            </a: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 </a:t>
            </a:r>
            <a:r>
              <a:rPr b="1" i="1" lang="ru-RU" sz="3600" spc="-1" strike="noStrike">
                <a:solidFill>
                  <a:srgbClr val="003300"/>
                </a:solidFill>
                <a:latin typeface="Arial"/>
              </a:rPr>
              <a:t>операционную систему Linux. </a:t>
            </a:r>
            <a:br>
              <a:rPr sz="3600"/>
            </a:b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28" name="Рисунок 3" descr=""/>
          <p:cNvPicPr/>
          <p:nvPr/>
        </p:nvPicPr>
        <p:blipFill>
          <a:blip r:embed="rId2"/>
          <a:srcRect l="0" t="0" r="59956" b="24921"/>
          <a:stretch/>
        </p:blipFill>
        <p:spPr>
          <a:xfrm>
            <a:off x="563400" y="4572000"/>
            <a:ext cx="1944720" cy="164952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1" descr="Компьютер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792680" y="2489040"/>
            <a:ext cx="4173480" cy="417384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90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 </a:t>
            </a:r>
            <a:r>
              <a:rPr b="1" lang="ru-RU" sz="8800" spc="-1" strike="noStrike">
                <a:solidFill>
                  <a:srgbClr val="003300"/>
                </a:solidFill>
                <a:latin typeface="Monotype Corsiva"/>
              </a:rPr>
              <a:t>Ричард Столлман</a:t>
            </a:r>
            <a:r>
              <a:rPr b="1" lang="ru-RU" sz="8800" spc="-1" strike="noStrike">
                <a:solidFill>
                  <a:srgbClr val="003300"/>
                </a:solidFill>
                <a:latin typeface="Arial"/>
              </a:rPr>
              <a:t>. </a:t>
            </a:r>
            <a:br>
              <a:rPr sz="2000"/>
            </a:br>
            <a:r>
              <a:rPr b="1" lang="ru-RU" sz="4000" spc="-1" strike="noStrike">
                <a:solidFill>
                  <a:srgbClr val="003300"/>
                </a:solidFill>
                <a:latin typeface="Arial"/>
              </a:rPr>
              <a:t>Сам Столлман любит, когда его называют </a:t>
            </a: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«</a:t>
            </a:r>
            <a:r>
              <a:rPr b="1" i="1" lang="en-US" sz="4000" spc="-1" strike="noStrike">
                <a:solidFill>
                  <a:srgbClr val="003300"/>
                </a:solidFill>
                <a:latin typeface="Arial"/>
              </a:rPr>
              <a:t>RMS», </a:t>
            </a:r>
            <a:r>
              <a:rPr b="1" i="1" lang="ru-RU" sz="4000" spc="-1" strike="noStrike">
                <a:solidFill>
                  <a:srgbClr val="003300"/>
                </a:solidFill>
                <a:latin typeface="Arial"/>
              </a:rPr>
              <a:t>а прославился этот RMS тем, что является одним из отцов бесплатного программного обеспечения. 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31" name="Picture 4" descr="C:\Users\Tanya\Pictures\устройство компьютера\1265742870_ram-auf2.jpg"/>
          <p:cNvPicPr/>
          <p:nvPr/>
        </p:nvPicPr>
        <p:blipFill>
          <a:blip r:embed="rId2"/>
          <a:stretch/>
        </p:blipFill>
        <p:spPr>
          <a:xfrm>
            <a:off x="0" y="0"/>
            <a:ext cx="1595520" cy="111744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11" descr="Компьютер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792680" y="2489040"/>
            <a:ext cx="4173480" cy="417384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73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00"/>
                </a:solidFill>
                <a:latin typeface="Monotype Corsiva"/>
              </a:rPr>
              <a:t>Тсутому Шимомура. </a:t>
            </a:r>
            <a:br>
              <a:rPr sz="6000"/>
            </a:b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3300"/>
                </a:solidFill>
                <a:latin typeface="Arial"/>
              </a:rPr>
              <a:t>однажды его взломал</a:t>
            </a: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 </a:t>
            </a:r>
            <a:r>
              <a:rPr b="1" i="1" lang="ru-RU" sz="3600" spc="-1" strike="noStrike">
                <a:solidFill>
                  <a:srgbClr val="003300"/>
                </a:solidFill>
                <a:latin typeface="Arial"/>
              </a:rPr>
              <a:t>известный хакер Кевин Митник. Этот факт настолько разозлил Шимомуру, что он задался идеей во, чтобы то не стало, найти его, а также он стал сотрудничать с ФБР для помощи поимки других хакеров. </a:t>
            </a:r>
            <a:br>
              <a:rPr sz="3600"/>
            </a:b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34" name="Picture 6" descr="C:\Users\Tanya\Pictures\устройство компьютера\мобильные лазерные диски.jpg"/>
          <p:cNvPicPr/>
          <p:nvPr/>
        </p:nvPicPr>
        <p:blipFill>
          <a:blip r:embed="rId2"/>
          <a:stretch/>
        </p:blipFill>
        <p:spPr>
          <a:xfrm>
            <a:off x="4411800" y="5479920"/>
            <a:ext cx="1350720" cy="11224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C:\Users\Tanya\Pictures\устройство компьютера\портативный жесткий диск.jpg"/>
          <p:cNvPicPr/>
          <p:nvPr/>
        </p:nvPicPr>
        <p:blipFill>
          <a:blip r:embed="rId3"/>
          <a:stretch/>
        </p:blipFill>
        <p:spPr>
          <a:xfrm>
            <a:off x="755640" y="5321160"/>
            <a:ext cx="1413000" cy="1413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C:\Users\Tanya\Pictures\устройство компьютера\14009ad66c110f34f941d15f286e875c_x1024.jpg"/>
          <p:cNvPicPr/>
          <p:nvPr/>
        </p:nvPicPr>
        <p:blipFill>
          <a:blip r:embed="rId4"/>
          <a:stretch/>
        </p:blipFill>
        <p:spPr>
          <a:xfrm>
            <a:off x="6465960" y="5572080"/>
            <a:ext cx="1508040" cy="928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06:29:01Z</dcterms:created>
  <dc:creator>Александр</dc:creator>
  <dc:description/>
  <dc:language>en-US</dc:language>
  <cp:lastModifiedBy>Чинчи</cp:lastModifiedBy>
  <dcterms:modified xsi:type="dcterms:W3CDTF">2014-02-09T07:56:05Z</dcterms:modified>
  <cp:revision>51</cp:revision>
  <dc:subject/>
  <dc:title>Привет.  Меня зовут  Киреева Александра.</dc:title>
</cp:coreProperties>
</file>