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131A-3F72-4EFB-B9FB-A21E9D7E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CB29-A990-46D0-813B-4ACAFB9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1C6D-E933-4863-9718-671A730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DADD-18ED-4013-B6C1-CB0F447D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00CA-E1F3-4BAE-A623-11866585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66E-3BBE-4270-8E97-BD45D54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6C0F-80CE-4354-BFA5-ECC6AE9C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871-6CF2-438E-9790-5B84957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87D-58D8-4D6D-891D-9148083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44B6-D825-4E1B-ACC9-80520DB5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8354-5225-4842-BF23-C23EB02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6EB8-78A7-4EA2-AD2E-452F17E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96E7-3B4F-4B5C-8A7B-4B7EFE8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4835-C4F2-4EBA-B6CF-62109EA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0C1-6B71-4195-821F-F2EC957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C1C-2FA8-4B8B-B22D-9B6D50DC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AA97-5A0A-4C74-BFD0-DD72F9FD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7470-2E47-462E-B4B5-801E37E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A22A-E6D3-4C81-B951-215B3E0C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B13E-1C03-4C6A-9F4D-3264EC7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1AB0-D041-4707-B7B5-155E033A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2CD7-D6FE-42BC-A616-21F866F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C8DA-2804-4CDB-84A7-66E4BB9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11BB-E8FA-4B23-869C-0D4901A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98F-B1A8-4601-B2A8-97CE778F1C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B8E5-61B8-4467-9B79-213BE85418FA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78920"/>
            <a:ext cx="8229600" cy="62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БОУ Хемчикская СОШ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2013-2014 уч. год.</a:t>
            </a:r>
            <a:br>
              <a:rPr sz="2000"/>
            </a:b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7" name="Прямоугольник 3" descr=""/>
          <p:cNvPicPr/>
          <p:nvPr/>
        </p:nvPicPr>
        <p:blipFill>
          <a:blip r:embed="rId1"/>
          <a:stretch/>
        </p:blipFill>
        <p:spPr>
          <a:xfrm>
            <a:off x="762120" y="1994040"/>
            <a:ext cx="781524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1" lang="ru-RU" sz="7200" spc="-1" strike="noStrike">
                <a:solidFill>
                  <a:srgbClr val="6600ff"/>
                </a:solidFill>
                <a:latin typeface="Arial"/>
              </a:rPr>
              <a:t>Черные шапки</a:t>
            </a:r>
            <a:r>
              <a:rPr b="1" lang="en-US" sz="7200" spc="-1" strike="noStrike">
                <a:solidFill>
                  <a:srgbClr val="6600ff"/>
                </a:solidFill>
                <a:latin typeface="Arial"/>
              </a:rPr>
              <a:t>»</a:t>
            </a:r>
            <a:br>
              <a:rPr sz="7200"/>
            </a:b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3017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Monotype Corsiva"/>
              </a:rPr>
              <a:t>Кевин Митник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онец его хакерской деятельности пришёл тогда, когда он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взломал компьютер Тсутому Шимомура, о котором говорилось раньше. Наконец, после почти 6 лет тюремной камеры, он стал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олезным гражданином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»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и сейчас занимается тем, что помогает разрабатывать защитное ПО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Адриан Ламо. </a:t>
            </a:r>
            <a:br>
              <a:rPr sz="66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Известен он тем, что взламывал сети известнейших компаний, в том числе таких гигантов, например Microsoft, Yahoo и многих других.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дриан Ламо завершил свою хакерскую деятельность и стал работать журналистом.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52440" y="5237280"/>
            <a:ext cx="1749240" cy="13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:\Documents and Settings\Admin\Мои документы\49184[1].jpg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Джонтан Джеймс. </a:t>
            </a:r>
            <a:br>
              <a:rPr sz="66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мог взломать одно из подразделений Министерства Обороны Соединённых Штатов, а также проникнул в защищённую сеть НАСА и выкрал оттуда совершенно секретного ПО, стоимость которого оценивалась в несколько миллионов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Роберт Моррис. </a:t>
            </a:r>
            <a:br>
              <a:rPr sz="6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Моррис создал первый компьютерный червь, который распространялся по интернету. Из-за его действий, пришло в неисправность более 6000 компьютеров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Picture 2" descr="C:\Users\Tanya\Pictures\устройство компьютера\1237569827_2058517040.jpg"/>
          <p:cNvPicPr/>
          <p:nvPr/>
        </p:nvPicPr>
        <p:blipFill>
          <a:blip r:embed="rId2"/>
          <a:stretch/>
        </p:blipFill>
        <p:spPr>
          <a:xfrm>
            <a:off x="828720" y="4863960"/>
            <a:ext cx="1446120" cy="144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Кевин Поулсен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взлом базы данных ФБР, в результате чего, у него появился доступ к секретной информации. Для ФБР было делом чести найти этого киберпреступника.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Результаты опроса учащихся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2639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прос учащихся 8-11 классов всего 41 обучающихся показал, что основная масса учеников считает хакеров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гениями - 25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злодеями - 16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4" name="Picture 2" descr="буратино"/>
          <p:cNvPicPr/>
          <p:nvPr/>
        </p:nvPicPr>
        <p:blipFill>
          <a:blip r:embed="rId2"/>
          <a:stretch/>
        </p:blipFill>
        <p:spPr>
          <a:xfrm>
            <a:off x="0" y="0"/>
            <a:ext cx="135252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42800" y="1482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сновная задача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 «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елых шапок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» -  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сследуя вычислительную систему, обнаружить слабые места (уязвимости) в ее системе безопасности с целью информирования пользователей и разработчиков системы для последующего устранения найденных уязвимостей. Другая задача ХАКЕРА, проанализировав существующую безопасность вычислительной системы, сформулировать необходимые требования и условия повышения уровня ее защищенности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7360" y="206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Основная задач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 «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ных шапок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»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остоит в непосредственном осуществлении взлома системы с целью получения несанкционированного доступа к чужой информации - иначе говоря, для ее кражи, подмены или для объявления факта взлом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3" name="Picture 4" descr="рисунок7"/>
          <p:cNvPicPr/>
          <p:nvPr/>
        </p:nvPicPr>
        <p:blipFill>
          <a:blip r:embed="rId2"/>
          <a:srcRect l="0" t="0" r="87436" b="79544"/>
          <a:stretch/>
        </p:blipFill>
        <p:spPr>
          <a:xfrm>
            <a:off x="193680" y="773280"/>
            <a:ext cx="1225440" cy="144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22120" y="1828800"/>
            <a:ext cx="60692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Хакеры: гении или злодеи?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9" name="Picture 4" descr="progbar"/>
          <p:cNvPicPr/>
          <p:nvPr/>
        </p:nvPicPr>
        <p:blipFill>
          <a:blip r:embed="rId1"/>
          <a:stretch/>
        </p:blipFill>
        <p:spPr>
          <a:xfrm>
            <a:off x="1487520" y="5216400"/>
            <a:ext cx="6521400" cy="5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90520" y="306360"/>
            <a:ext cx="885348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Хакеры появились в то же самое время, что и Interne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B 1960 годах хакером назывался высококвалифицированный программист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Теперь это слово имеет несколько иное значение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Начало семидесятых и конец восьмидесятых - лучшие годы для хакеров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Операционные системы только начинали появляться, компьютеры на основе таких систем имели много ошибок и дыр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Хакеры в то время были более свободными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Овал 10"/>
          <p:cNvSpPr/>
          <p:nvPr/>
        </p:nvSpPr>
        <p:spPr>
          <a:xfrm>
            <a:off x="2008080" y="415800"/>
            <a:ext cx="5072040" cy="231300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ипы хакеров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345960" y="3587760"/>
            <a:ext cx="3408480" cy="18288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«Белая шапка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Стрелка углом 8"/>
          <p:cNvSpPr/>
          <p:nvPr/>
        </p:nvSpPr>
        <p:spPr>
          <a:xfrm flipV="1" rot="5400000">
            <a:off x="630000" y="2049840"/>
            <a:ext cx="1863720" cy="92088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0560" y="2684520"/>
            <a:ext cx="4173480" cy="417348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5"/>
          <p:cNvSpPr/>
          <p:nvPr/>
        </p:nvSpPr>
        <p:spPr>
          <a:xfrm>
            <a:off x="5029200" y="3587760"/>
            <a:ext cx="3408480" cy="18288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«Черная шапка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Стрелка углом 7"/>
          <p:cNvSpPr/>
          <p:nvPr/>
        </p:nvSpPr>
        <p:spPr>
          <a:xfrm rot="5400000">
            <a:off x="6687720" y="1922400"/>
            <a:ext cx="1808280" cy="101124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538280" y="665280"/>
            <a:ext cx="70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Arial"/>
              </a:rPr>
              <a:t>«Белые шапки»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9056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Monotype Corsiva"/>
              </a:rPr>
              <a:t> </a:t>
            </a:r>
            <a:r>
              <a:rPr b="1" lang="ru-RU" sz="7200" spc="-1" strike="noStrike">
                <a:solidFill>
                  <a:srgbClr val="003300"/>
                </a:solidFill>
                <a:latin typeface="Monotype Corsiva"/>
              </a:rPr>
              <a:t>Стивен Возняк. 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тот один из отцов Apple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омогал детям осваивать современные технологии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2" descr="http://www.smart-foto.ru/assets/images/raspoznavanie-tekstov/raspoznavanie-tekstov_500x500_1.jpg"/>
          <p:cNvPicPr/>
          <p:nvPr/>
        </p:nvPicPr>
        <p:blipFill>
          <a:blip r:embed="rId2"/>
          <a:stretch/>
        </p:blipFill>
        <p:spPr>
          <a:xfrm>
            <a:off x="816120" y="4433760"/>
            <a:ext cx="1812960" cy="18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Тим Бернерс-Ли. </a:t>
            </a:r>
            <a:br>
              <a:rPr sz="66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оздал сеть, которая сейчас называется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World Wide Web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. Другими словами, Тим создал интернет. </a:t>
            </a:r>
            <a:br>
              <a:rPr sz="6600"/>
            </a:br>
            <a:br>
              <a:rPr sz="6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553000" y="4229280"/>
            <a:ext cx="2879640" cy="176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2"/>
          <a:stretch/>
        </p:blipFill>
        <p:spPr>
          <a:xfrm>
            <a:off x="1674720" y="4295880"/>
            <a:ext cx="136836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Линус Торвальдс. </a:t>
            </a:r>
            <a:br>
              <a:rPr sz="18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Это человек, который создал самую известную бесплатную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операционную систему Linux. 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2"/>
          <a:srcRect l="0" t="0" r="59956" b="24921"/>
          <a:stretch/>
        </p:blipFill>
        <p:spPr>
          <a:xfrm>
            <a:off x="563400" y="4572000"/>
            <a:ext cx="194472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lang="ru-RU" sz="8800" spc="-1" strike="noStrike">
                <a:solidFill>
                  <a:srgbClr val="003300"/>
                </a:solidFill>
                <a:latin typeface="Monotype Corsiva"/>
              </a:rPr>
              <a:t>Ричард Столлман</a:t>
            </a:r>
            <a:r>
              <a:rPr b="1" lang="ru-RU" sz="8800" spc="-1" strike="noStrike">
                <a:solidFill>
                  <a:srgbClr val="003300"/>
                </a:solidFill>
                <a:latin typeface="Arial"/>
              </a:rPr>
              <a:t>. </a:t>
            </a:r>
            <a:br>
              <a:rPr sz="2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ам Столлман любит, когда его называют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RMS»,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 прославился этот RMS тем, что является одним из отцов бесплатного программного обеспечения.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Picture 4" descr="C:\Users\Tanya\Pictures\устройство компьютера\1265742870_ram-auf2.jpg"/>
          <p:cNvPicPr/>
          <p:nvPr/>
        </p:nvPicPr>
        <p:blipFill>
          <a:blip r:embed="rId2"/>
          <a:stretch/>
        </p:blipFill>
        <p:spPr>
          <a:xfrm>
            <a:off x="0" y="0"/>
            <a:ext cx="1595520" cy="111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Monotype Corsiva"/>
              </a:rPr>
              <a:t>Тсутому Шимомура. </a:t>
            </a:r>
            <a:br>
              <a:rPr sz="6000"/>
            </a:b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однажды его взломал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звестный хакер Кевин Митник. Этот факт настолько разозлил Шимомуру, что он задался идеей во, чтобы то не стало, найти его, а также он стал сотрудничать с ФБР для помощи поимки других хакеров. 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6" descr="C:\Users\Tanya\Pictures\устройство компьютера\мобильные лазерные диски.jpg"/>
          <p:cNvPicPr/>
          <p:nvPr/>
        </p:nvPicPr>
        <p:blipFill>
          <a:blip r:embed="rId2"/>
          <a:stretch/>
        </p:blipFill>
        <p:spPr>
          <a:xfrm>
            <a:off x="4411800" y="5479920"/>
            <a:ext cx="1350720" cy="11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Tanya\Pictures\устройство компьютера\портативный жесткий диск.jpg"/>
          <p:cNvPicPr/>
          <p:nvPr/>
        </p:nvPicPr>
        <p:blipFill>
          <a:blip r:embed="rId3"/>
          <a:stretch/>
        </p:blipFill>
        <p:spPr>
          <a:xfrm>
            <a:off x="755640" y="5321160"/>
            <a:ext cx="1413000" cy="141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Tanya\Pictures\устройство компьютера\14009ad66c110f34f941d15f286e875c_x1024.jpg"/>
          <p:cNvPicPr/>
          <p:nvPr/>
        </p:nvPicPr>
        <p:blipFill>
          <a:blip r:embed="rId4"/>
          <a:stretch/>
        </p:blipFill>
        <p:spPr>
          <a:xfrm>
            <a:off x="6465960" y="5572080"/>
            <a:ext cx="150804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6:29:01Z</dcterms:created>
  <dc:creator>Александр</dc:creator>
  <dc:description/>
  <dc:language>en-US</dc:language>
  <cp:lastModifiedBy>Чинчи</cp:lastModifiedBy>
  <dcterms:modified xsi:type="dcterms:W3CDTF">2014-02-09T07:56:05Z</dcterms:modified>
  <cp:revision>51</cp:revision>
  <dc:subject/>
  <dc:title>Привет.  Меня зовут  Киреева Александра.</dc:title>
</cp:coreProperties>
</file>