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E37-3B5E-4197-AEA2-0895D622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67A-EAED-473F-B867-B56FC8AE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7E1-C190-41F2-99C9-41DA3969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409-3808-4E9C-ACBB-6E994154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573-D1A6-4EBF-A64F-514F3A8F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068-2B79-455B-AC6C-DE87BF5D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C16-094B-485B-B6DB-013DD03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5CB-6F85-44C0-BF6B-B9501EF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6A8-B106-475D-81AA-F0B8FBBD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6F2-7468-4882-95C3-E8373D10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A8B-7914-4941-9EE5-4B1FBBB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4BF-0E9C-4CA3-996C-46A64954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DDAC-D74F-4CB0-B668-E6218B33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gif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552600"/>
            <a:ext cx="4981680" cy="6305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108576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85716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564000" y="5084640"/>
            <a:ext cx="1595520" cy="102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084720" y="3357720"/>
            <a:ext cx="987480" cy="160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356000" y="2133720"/>
            <a:ext cx="112392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788000" y="2421000"/>
            <a:ext cx="495360" cy="3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780000" y="692280"/>
            <a:ext cx="106020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411280" y="1125360"/>
            <a:ext cx="1305000" cy="230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427640" y="1197000"/>
            <a:ext cx="838080" cy="5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203640" y="1341360"/>
            <a:ext cx="923760" cy="7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211640" y="2894040"/>
            <a:ext cx="151272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 rot="20743800">
            <a:off x="6442920" y="1557000"/>
            <a:ext cx="4178160" cy="445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067280" y="3860640"/>
            <a:ext cx="5472000" cy="387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-757080" y="-819000"/>
            <a:ext cx="3429000" cy="3527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18075000">
            <a:off x="6048000" y="65556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-1260360" y="3357720"/>
            <a:ext cx="54720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7:47Z</dcterms:created>
  <dc:creator>Serega</dc:creator>
  <dc:description/>
  <dc:language>en-US</dc:language>
  <cp:lastModifiedBy>Serega</cp:lastModifiedBy>
  <dcterms:modified xsi:type="dcterms:W3CDTF">2012-03-31T13:10:30Z</dcterms:modified>
  <cp:revision>6</cp:revision>
  <dc:subject/>
  <dc:title>Слайд 1</dc:title>
</cp:coreProperties>
</file>