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A2A-FA41-45A0-AD8C-C3D4BC99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5C0-5BDF-4FF3-B52D-51D23F9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924-ECA0-4911-836E-778879C6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2C3-9DF8-48DB-868F-053145C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7F4-B11E-49D5-B810-E0BB1453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C21-92B4-4CF2-AA5E-F95A42E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226-760B-408C-B693-8A8116CC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4E3-8A85-4C61-AF53-288B3B6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54B-0E33-427C-B344-11B9D266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7F1-8557-4A2A-8BCD-75C4513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871-5203-445B-896C-6762505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DC8-073F-4942-872B-88ED685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8D22-D6B4-44DA-811F-18986E81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gif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552600"/>
            <a:ext cx="4981680" cy="6305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108576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85716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64000" y="5084640"/>
            <a:ext cx="1595520" cy="102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084720" y="3357720"/>
            <a:ext cx="987480" cy="160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356000" y="2133720"/>
            <a:ext cx="112392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788000" y="2421000"/>
            <a:ext cx="495360" cy="3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780000" y="692280"/>
            <a:ext cx="106020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411280" y="1125360"/>
            <a:ext cx="1305000" cy="230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427640" y="1197000"/>
            <a:ext cx="83808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203640" y="1341360"/>
            <a:ext cx="923760" cy="7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211640" y="2894040"/>
            <a:ext cx="151272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20743800">
            <a:off x="6442920" y="1557000"/>
            <a:ext cx="4178160" cy="445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067280" y="3860640"/>
            <a:ext cx="5472000" cy="387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-757080" y="-819000"/>
            <a:ext cx="3429000" cy="352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8075000">
            <a:off x="6048000" y="65556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-1260360" y="3357720"/>
            <a:ext cx="54720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7:47Z</dcterms:created>
  <dc:creator>Serega</dc:creator>
  <dc:description/>
  <dc:language>en-US</dc:language>
  <cp:lastModifiedBy>Serega</cp:lastModifiedBy>
  <dcterms:modified xsi:type="dcterms:W3CDTF">2012-03-31T13:10:30Z</dcterms:modified>
  <cp:revision>6</cp:revision>
  <dc:subject/>
  <dc:title>Слайд 1</dc:title>
</cp:coreProperties>
</file>