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C5C-BAB5-4BBC-9E85-A12FF56E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A2F-3AD1-4AD2-B6FC-F83B8DCA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16E-0908-408E-A9EF-54363C8F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9E9-365A-451F-9E32-95739B85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626-83F0-4EEE-9B16-4A2F4E3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3BB-4B4D-4EE1-B3C1-D60AAC71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3BA-0CA1-4E43-AF36-C1D1F53E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1FB-F9FA-46D4-AA5E-3EDB8ED1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366-891E-4FC2-823B-32A38A9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9FE-E63B-40E3-94D4-5AEDEB23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59E-DF04-4880-81DA-65E8ADA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E4E-817C-41D3-94D3-90325F4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123-F7CA-4CA3-ADC6-5EF0B2B8F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(психологическая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стиж профессии ИЛИ професс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ординирующая ИЛИ посредническа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ое ИЛИ аграрно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изац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рриториальн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мьи, бра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9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жданские ИЛИ гражданско-правов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380960"/>
            <a:ext cx="86774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192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27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145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7956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8893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8:41:46Z</dcterms:created>
  <dc:creator>Гыук</dc:creator>
  <dc:description/>
  <dc:language>en-US</dc:language>
  <cp:lastModifiedBy>Гыук</cp:lastModifiedBy>
  <dcterms:modified xsi:type="dcterms:W3CDTF">2014-02-28T08:53:42Z</dcterms:modified>
  <cp:revision>2</cp:revision>
  <dc:subject/>
  <dc:title>1</dc:title>
</cp:coreProperties>
</file>