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C93-20C9-45D0-A5D5-F94823AC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421F-5500-4F2C-AAF9-EECA1D1A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188-3EB4-40CD-884A-60872525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6E9-0885-48C5-B4B4-D8013A0D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0BB-B9D3-41A2-9203-50A2CB14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A13-9CB6-4541-8A25-608A4089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3EC5-A2AA-4A23-AF39-DC03F4FD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AD1-EE5C-401E-9B9D-935BA81E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167-7573-4167-B632-5FB481AB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E8C7-E7D3-41E8-B698-D4FFD5E3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54CA-851D-449B-ADAD-50B7B7CF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BF1-AB59-48F6-A35D-A3B5CD8C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BBE2-6F0F-408B-B828-FD02B38B0D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7991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моциональная (психологическая)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стиж профессии ИЛИ профессия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ординирующая ИЛИ посредническая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адиционное ИЛИ аграрное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циализация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6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рриториальные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7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мьи, брака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8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9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ажданские ИЛИ гражданско-правовые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0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9280" y="1380960"/>
            <a:ext cx="867744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192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3278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14528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79563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1614600"/>
            <a:ext cx="88930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08:41:46Z</dcterms:created>
  <dc:creator>Гыук</dc:creator>
  <dc:description/>
  <dc:language>en-US</dc:language>
  <cp:lastModifiedBy>Гыук</cp:lastModifiedBy>
  <dcterms:modified xsi:type="dcterms:W3CDTF">2014-02-28T08:53:42Z</dcterms:modified>
  <cp:revision>2</cp:revision>
  <dc:subject/>
  <dc:title>1</dc:title>
</cp:coreProperties>
</file>