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F4BA-D18D-4C3F-8C8C-0C8C7D5973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13E7-D3E4-494D-A38F-0B20642CA5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5B0-19C4-4FDD-A6EA-9C4400C8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985-3881-46F0-A5A9-CB850591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2BD-8DF8-4972-9546-16117250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05B-F0D1-46BA-8195-525325E8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A634-194E-4B40-BD84-599016A4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9B4D-1914-485D-936E-9D5715CD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AED9-0E56-4322-AD8C-AC7B2921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927D-D4EA-43BF-98AF-69A48037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442B-8AEF-4E65-A2BC-F0C16287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BA3B-041A-4CE7-9BD2-A9B0CA51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9D09-DBC6-4E2C-BD80-A0C2D55B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AA5-A30C-43F6-90E7-7D1F9F3E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C0DC-9B3C-4CC6-A81F-8FE19DF1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CFDE-ECA1-43CA-8BBE-62566355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92D5-20B4-4488-868D-AE9B5D7A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B8ED-C14C-44D7-B280-E4206304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92E7-6EA8-41BD-9EF0-483ACC3C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BB6D-0DD9-4801-A12B-6F91B2A6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0AC7-48F7-4007-BD77-DFFFCE1F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A93D1-C17C-4DCF-9624-689B5858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9112-C335-45F6-9BD4-679F6024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2D7A-8853-4B7E-8C75-D187560F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F48-83C0-4E28-95E1-B1D20BC8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F15C-F4FF-4A27-868E-E5CB4DC0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B700-2B0C-40E1-A44A-58D8B60D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2DF1-36E2-4D54-A225-C4240BF6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02CBC-8A4D-4C2F-9CA7-7C498430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CCB8E-37CE-4CFA-8102-705D795D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2530-5BA6-4D7E-A135-1C0D1508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76B5-59FB-422D-815A-FF4CA27E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A020A-4DAD-4780-BF14-D8B60D19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4EDAE-078A-4031-B9D9-ADB29FCB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6EAE6-7186-4376-955C-2A92346C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4C5-7C8F-4927-B242-3610F799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E512-4B8E-4E24-9426-63C7195D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DF68-6871-401D-A327-E7732601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7051B-E45C-45E7-AF6B-CC9179C8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1216E-5D91-4BB1-A7F7-4152A554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CD60A-14B8-4D20-871D-F725C2EF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B3DF4-8526-4451-BECC-C6AFBDF3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F93D7-2121-45D2-8F91-02641F5D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39224-88AD-45DA-B162-D51812CB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8C1D6-37CD-41B9-B2E7-2F56C19B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A22-9CDC-4803-8A41-C1765F32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282-CBFA-46E9-A4B0-366223D6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BDE-67F8-444F-A9AF-C4A61CAF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810-E1F4-4EA8-8666-660A60AB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BBD-EA7F-40CE-8C56-B44D92E1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2670-768B-4985-AD73-8030D68BF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8FC5-BF2B-4FF8-8331-D1278D8AFD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AB4A-7071-418A-BDE1-FC4B0B656E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F734-0D51-4E1D-BB89-3FADF2610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6920" y="119700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МБОУ «Давликеевская основная общеобразовательная школа» </a:t>
            </a:r>
            <a:br>
              <a:rPr sz="1800"/>
            </a:br>
            <a:r>
              <a:rPr b="1" lang="ru-RU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Апастовского муниципального района РТ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Их именами названы улицы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ёл нашего района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716360" y="4365720"/>
            <a:ext cx="374328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 работы: ученица 9 класс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йдуллина Эндж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: учитель биологии и химии Хайбуллина Ф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2411280" y="254808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резентационная ра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а  районный творческий конку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селе Янгильдино именем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. Х. Каримова(Карымов) названа ул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Содержимое 4" descr="57883690(1).jpg"/>
          <p:cNvPicPr/>
          <p:nvPr/>
        </p:nvPicPr>
        <p:blipFill>
          <a:blip r:embed="rId1"/>
          <a:stretch/>
        </p:blipFill>
        <p:spPr>
          <a:xfrm>
            <a:off x="1785960" y="214308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10" name="Содержимое 5" descr="13060940.jpg"/>
          <p:cNvPicPr/>
          <p:nvPr/>
        </p:nvPicPr>
        <p:blipFill>
          <a:blip r:embed="rId2"/>
          <a:stretch/>
        </p:blipFill>
        <p:spPr>
          <a:xfrm>
            <a:off x="3929040" y="535788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6" descr="32691169.jpg"/>
          <p:cNvPicPr/>
          <p:nvPr/>
        </p:nvPicPr>
        <p:blipFill>
          <a:blip r:embed="rId3"/>
          <a:stretch/>
        </p:blipFill>
        <p:spPr>
          <a:xfrm>
            <a:off x="6353280" y="3929040"/>
            <a:ext cx="1385640" cy="9288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7" descr="32691196.jpg"/>
          <p:cNvPicPr/>
          <p:nvPr/>
        </p:nvPicPr>
        <p:blipFill>
          <a:blip r:embed="rId4"/>
          <a:stretch/>
        </p:blipFill>
        <p:spPr>
          <a:xfrm>
            <a:off x="6357960" y="228600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8" descr="32691181.jpg"/>
          <p:cNvPicPr/>
          <p:nvPr/>
        </p:nvPicPr>
        <p:blipFill>
          <a:blip r:embed="rId5"/>
          <a:stretch/>
        </p:blipFill>
        <p:spPr>
          <a:xfrm>
            <a:off x="6500880" y="5357880"/>
            <a:ext cx="12380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пгт. Апастово именем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. Х. Каримова (Карымов) названа ул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Объект 1" descr=""/>
          <p:cNvPicPr/>
          <p:nvPr/>
        </p:nvPicPr>
        <p:blipFill>
          <a:blip r:embed="rId1"/>
          <a:stretch/>
        </p:blipFill>
        <p:spPr>
          <a:xfrm rot="20890200">
            <a:off x="514440" y="3509640"/>
            <a:ext cx="3870360" cy="2583000"/>
          </a:xfrm>
          <a:prstGeom prst="rect">
            <a:avLst/>
          </a:prstGeom>
          <a:ln w="0">
            <a:noFill/>
          </a:ln>
        </p:spPr>
      </p:pic>
      <p:pic>
        <p:nvPicPr>
          <p:cNvPr id="216" name="Объект 2" descr=""/>
          <p:cNvPicPr/>
          <p:nvPr/>
        </p:nvPicPr>
        <p:blipFill>
          <a:blip r:embed="rId2"/>
          <a:stretch/>
        </p:blipFill>
        <p:spPr>
          <a:xfrm rot="651600">
            <a:off x="5067000" y="3559320"/>
            <a:ext cx="3606840" cy="24048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3" descr=""/>
          <p:cNvPicPr/>
          <p:nvPr/>
        </p:nvPicPr>
        <p:blipFill>
          <a:blip r:embed="rId3"/>
          <a:stretch/>
        </p:blipFill>
        <p:spPr>
          <a:xfrm>
            <a:off x="2843280" y="1268280"/>
            <a:ext cx="34765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воды и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47280" y="134136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ходе работы я получила новые знания о Героях Советского Союза нашего района, научилась анализировать собранный материал, выделять главное, делать выводы. В результате проведённого мною работы я ответила на все свои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я узнала, о героизме  Р. А. Абзалова, Д. И. Горбунова, С. Х. Карымова, об  их заслугах перед Родин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в районе Героями Советского Союза гордятся  и их заслуги ценят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памятники, организации и улицы с именами Героев хранят в себе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щную память о ни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47280" y="105264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брать сведения и документы о Героях Советского Союза Апастовского райо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исследовательскую работу, определить  их  заслуги  перед Родин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учить материалы,  об увековечивании их имён в наше мирное врем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учить дополнительные материалы, связанные с их имен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лов Рем(Рим) Абзал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634920" y="1052280"/>
            <a:ext cx="4753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дился в городе Ташкенте, ныне столице Узбекистана, в семье рабочего (по другим данным он родился в селе Среднее Балтаево Апастовского района Республики Татарстан) в крестьянской семье. Татарин. Начальное образование получил в медресе, одновременно работал в колхозе. Затем переехал в столицу Татарии — город Казань. Учился на рабфаке. Был рабочим на заво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астник Советско-финской и Великой Отечественной войны, командир стрелковой роты 116-го гвардейского стрелкового полка 40-й гвардейской стрелковой дивизии 4-й гвардейской армии 3-го Украинского фронта, Герой Советского Сою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казом Президиума Верховного Совета СССР от 24 марта 1945 года за образцовое выполнение боевых заданий командования на фронте , за борьбу с немецко-фашистскими захватчиками и за  проявленные при этом мужество и героизм старшему лейтенанту Абзалову Рему (Риму) Абзаловичу присвоено звание Героя Советского Союза с вручением ордена Ленина и медали «Золотая Звезд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№ 4870) и два ордена Красной Звез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2" descr=""/>
          <p:cNvPicPr/>
          <p:nvPr/>
        </p:nvPicPr>
        <p:blipFill>
          <a:blip r:embed="rId1"/>
          <a:stretch/>
        </p:blipFill>
        <p:spPr>
          <a:xfrm>
            <a:off x="1235160" y="1200240"/>
            <a:ext cx="2157480" cy="29034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9"/>
          <p:cNvSpPr/>
          <p:nvPr/>
        </p:nvSpPr>
        <p:spPr>
          <a:xfrm>
            <a:off x="1386000" y="4230720"/>
            <a:ext cx="20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.06.1914 – 07.02.19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бунов Дмитрий Иванович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Объект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1942920" cy="280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780000" y="148428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дился 24 октября 1924 года в деревне Бишево ныне Апастовского района республики Татарстан в крестьянской семье. Русский. Окончил неполную среднюю школу, в то же время работал и в колхозе. Позднее переехал в город Казань, окончил школу фабрично-заводского обучения, работал слесарем на военном заво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бунов Дмитрий Иванович - командир взвода 136-го стрелкового полка (97-и стрелковая дивизия. 5-я армия. 3-й Белорусский фронт), старший сержан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казом Президиума Верховного Совета СССР от 24 марта 1945 года за образцовое выполнение боевых заданий командования на фронте, за борьбу с немецко-фашистскими захватчиками и  за проявленные при этом мужество и героизм старшему сержанту Горбунову Дмитрию Ивановичу присвоено звание Героя Советского Сою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гражден орденами Ленина. Красного Знамени, медаль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бъект 3"/>
          <p:cNvSpPr/>
          <p:nvPr/>
        </p:nvSpPr>
        <p:spPr>
          <a:xfrm>
            <a:off x="1187280" y="4221000"/>
            <a:ext cx="2594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4.10.1924-28.06.194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римов(Карымов) Салават Хаким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86920" y="4292280"/>
            <a:ext cx="27370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5.09.1914-12.05.198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Объект 5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2087640" cy="29131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9"/>
          <p:cNvSpPr/>
          <p:nvPr/>
        </p:nvSpPr>
        <p:spPr>
          <a:xfrm>
            <a:off x="3924360" y="1484280"/>
            <a:ext cx="45720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дился 15.9.1914  в деревне  Янгильдино ныне Апастовского р-на  в семье крестьянина.  Татари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ончив 5 классов средней школы в с.Алдыкеево Ялуторовского р-на Тюменской обл., работал слесарем на одном из заводов в Свердловске. В Советской Армии в 1936-38, 1939-40 и с июня 1941. Участник советско-финляндской войны 1939-40 годах.  В боях Великой Отечественной войны с октября 194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ончил курсы «Выстрел» в 1942, ускоренные пехотные курсы при Военной академии им. М.В.Фрунзе в 194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андир стрелкового батальона 709-го стрелкового полка (178-я стрелковая дивизия, 22-я армия, Калининский фронт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ание Героя Советского Союза присвоено 05.05.194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 1947 майор Карымов в запасе. Жил в Каза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гражден орденом Ленина, Отечественной войны и медалями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енем Рема(Рима) Абза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Объект 2" descr=""/>
          <p:cNvPicPr/>
          <p:nvPr/>
        </p:nvPicPr>
        <p:blipFill>
          <a:blip r:embed="rId1"/>
          <a:stretch/>
        </p:blipFill>
        <p:spPr>
          <a:xfrm>
            <a:off x="6383160" y="2349360"/>
            <a:ext cx="1789200" cy="1843200"/>
          </a:xfrm>
          <a:prstGeom prst="rect">
            <a:avLst/>
          </a:prstGeom>
          <a:ln w="0">
            <a:noFill/>
          </a:ln>
        </p:spPr>
      </p:pic>
      <p:pic>
        <p:nvPicPr>
          <p:cNvPr id="190" name="Объект 4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3014640" cy="180036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9"/>
          <p:cNvSpPr/>
          <p:nvPr/>
        </p:nvSpPr>
        <p:spPr>
          <a:xfrm>
            <a:off x="1692360" y="3500280"/>
            <a:ext cx="3251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вано муниципальное бюджетное общеобразовательное учреждение “Среднебалтаевская основная общеобразовательная школа имени Героя Советского Союза Абзалова Рема Абзалович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бъект 3"/>
          <p:cNvSpPr/>
          <p:nvPr/>
        </p:nvSpPr>
        <p:spPr>
          <a:xfrm>
            <a:off x="5435640" y="966960"/>
            <a:ext cx="273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честь Р. А. Абзалова в нашем Апастовском районе  на Аллее Героев установлен памят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F:\герои.jpg"/>
          <p:cNvPicPr/>
          <p:nvPr/>
        </p:nvPicPr>
        <p:blipFill>
          <a:blip r:embed="rId3"/>
          <a:stretch/>
        </p:blipFill>
        <p:spPr>
          <a:xfrm>
            <a:off x="5724360" y="4322880"/>
            <a:ext cx="289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лица Р. А. Абзалова в селе Среднее Балтаево Апастовского район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Объект 4" descr=""/>
          <p:cNvPicPr/>
          <p:nvPr/>
        </p:nvPicPr>
        <p:blipFill>
          <a:blip r:embed="rId1"/>
          <a:stretch/>
        </p:blipFill>
        <p:spPr>
          <a:xfrm>
            <a:off x="1476360" y="13208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96" name="Объект 6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" descr=""/>
          <p:cNvPicPr/>
          <p:nvPr/>
        </p:nvPicPr>
        <p:blipFill>
          <a:blip r:embed="rId3"/>
          <a:stretch/>
        </p:blipFill>
        <p:spPr>
          <a:xfrm>
            <a:off x="5508720" y="1341360"/>
            <a:ext cx="32115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енем Дмитрия Ивановича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бу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Объект 4" descr=""/>
          <p:cNvPicPr/>
          <p:nvPr/>
        </p:nvPicPr>
        <p:blipFill>
          <a:blip r:embed="rId1"/>
          <a:stretch/>
        </p:blipFill>
        <p:spPr>
          <a:xfrm>
            <a:off x="3065400" y="422100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200" name="Объект 1" descr=""/>
          <p:cNvPicPr/>
          <p:nvPr/>
        </p:nvPicPr>
        <p:blipFill>
          <a:blip r:embed="rId2"/>
          <a:stretch/>
        </p:blipFill>
        <p:spPr>
          <a:xfrm>
            <a:off x="6354720" y="1484280"/>
            <a:ext cx="2266920" cy="3168720"/>
          </a:xfrm>
          <a:prstGeom prst="rect">
            <a:avLst/>
          </a:prstGeom>
          <a:ln w="0">
            <a:noFill/>
          </a:ln>
        </p:spPr>
      </p:pic>
      <p:sp>
        <p:nvSpPr>
          <p:cNvPr id="201" name="Объект 3"/>
          <p:cNvSpPr/>
          <p:nvPr/>
        </p:nvSpPr>
        <p:spPr>
          <a:xfrm>
            <a:off x="3708360" y="1998720"/>
            <a:ext cx="23814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вано  ООО СХП «Свияг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разд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. Героя Советского Сою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. И. ГОРБУ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1" descr=""/>
          <p:cNvPicPr/>
          <p:nvPr/>
        </p:nvPicPr>
        <p:blipFill>
          <a:blip r:embed="rId3"/>
          <a:stretch/>
        </p:blipFill>
        <p:spPr>
          <a:xfrm>
            <a:off x="727200" y="1730520"/>
            <a:ext cx="2852640" cy="20826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6502320" y="5114880"/>
            <a:ext cx="22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родине в селе Биешево установлен памятник ге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селе Биешево именем Д. И. Горбунова названа ул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Объект 1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3262320" cy="2449440"/>
          </a:xfrm>
          <a:prstGeom prst="rect">
            <a:avLst/>
          </a:prstGeom>
          <a:ln w="0">
            <a:noFill/>
          </a:ln>
        </p:spPr>
      </p:pic>
      <p:pic>
        <p:nvPicPr>
          <p:cNvPr id="206" name="Объект 2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251520" cy="2438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4" descr=""/>
          <p:cNvPicPr/>
          <p:nvPr/>
        </p:nvPicPr>
        <p:blipFill>
          <a:blip r:embed="rId3"/>
          <a:stretch/>
        </p:blipFill>
        <p:spPr>
          <a:xfrm>
            <a:off x="3300480" y="4076640"/>
            <a:ext cx="34671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2:27:48Z</dcterms:created>
  <dc:creator>Федотова Виктория Александровна</dc:creator>
  <dc:description/>
  <dc:language>en-US</dc:language>
  <cp:lastModifiedBy>Фагим</cp:lastModifiedBy>
  <dcterms:modified xsi:type="dcterms:W3CDTF">2015-01-15T11:10:16Z</dcterms:modified>
  <cp:revision>36</cp:revision>
  <dc:subject/>
  <dc:title>Слайд 1</dc:title>
</cp:coreProperties>
</file>