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2D5-2AEB-4394-B801-D3403E759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B17D-47A8-496D-8209-F8641EE4F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6FA-93A4-4BD3-9A6A-3D45D478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5D2-4303-48E6-A06C-B4BB39C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934-5275-494A-A65E-8DAAD64A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03-C575-4D50-B706-4D43425A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37D-7790-46E6-B102-9A27CD5D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28AB-A5A7-4BC4-A434-9AC3FB0D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B092-E6CC-4EA4-B6BC-B4F57061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46F-3E11-4AEA-A8E8-F0DDDAB7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DAB0-C74A-4C22-BC34-5E4DC923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41CD-2EB5-4726-A50C-B6D74AA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710F-C66C-4D4E-A752-CCC0503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E3E-E686-40A8-9944-E8BDED26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EE14-F227-4E36-A19A-7FCF465F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5995-466B-4970-A875-74245B69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C614-7692-454E-9307-E75D58D7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366C-8710-4A4E-B769-962E2C39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0FCB-15DD-4517-A72F-537B87EF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CD7B-631C-4B54-8148-B51800A5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7762-786E-4B6C-B0A6-1CFCE0F8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5EAF-0A95-4737-AE62-54144ED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5CE2-4B2A-4616-B02D-99A08E5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E1B0-D9DE-4204-BF1F-ACE8CD34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C20-079C-4FC8-855B-CEEE882E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9591-A6C3-42ED-8C48-EFF15D53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A084-F66F-4C44-93CC-FA979608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AA72-1B06-4BF6-8419-8D795EC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578E-5EF4-41B8-B1A0-2688D2B1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CCC2-0594-4E6E-A87C-2143F3CC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5B44-9F06-4DA0-B231-0AD18AA3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9292-7638-4FA6-B121-5523B80D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54F8-2945-4448-9F18-6D329898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E01E-DF9D-4848-84F3-A2E5AADE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32F16-8D82-4D7F-B287-38104999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55E-6537-4FEC-8C54-837009E7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471F-B948-462E-898C-6BBAAA8B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5FE9-7693-40A3-B7C1-D68B3F4B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5957-6BF8-41CD-9268-EEDC1D2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26B6-68A4-4C39-8286-48DBE40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1625-831D-4472-99BA-B0CFAF0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4A458-4E6B-41DE-9B23-F1489D60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104C-92EA-4455-AF63-1420D6B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E052-0F49-44E4-80D1-4ADDA91B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1386-7719-4F55-B8D6-C3D935C8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B6D-00D5-4495-B66E-93DCED23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C3C-858E-4171-8861-18506EC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C23-480A-4ECA-9A95-DED8525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4E8-6C57-4A73-9487-447A0F8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DC2-5F93-4E8F-9F09-0716DF74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D99-8E95-4A1A-B253-FA5F5E6A3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860A-D5FE-45AD-B96D-24A017333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0B24-78F1-4F1F-87EB-744091FAA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ACD7-A215-4CDA-A62A-865077A65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МБОУ «Давликеевская основная общеобразовательная школа» </a:t>
            </a:r>
            <a:br>
              <a:rPr sz="1800"/>
            </a:br>
            <a:r>
              <a:rPr b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Апастовского муниципального района РТ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Их именами названы улицы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ёл нашего района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16360" y="4365720"/>
            <a:ext cx="374328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 работы: ученица 9 класс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йдуллина Эндж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 учитель биологии и химии Хайбуллина Ф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411280" y="254808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резентационн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  районный творческий конку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еле Янгильдино именем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. Х. Каримова(Карымов) названа ул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одержимое 4" descr="57883690(1).jpg"/>
          <p:cNvPicPr/>
          <p:nvPr/>
        </p:nvPicPr>
        <p:blipFill>
          <a:blip r:embed="rId1"/>
          <a:stretch/>
        </p:blipFill>
        <p:spPr>
          <a:xfrm>
            <a:off x="1785960" y="21430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5" descr="13060940.jpg"/>
          <p:cNvPicPr/>
          <p:nvPr/>
        </p:nvPicPr>
        <p:blipFill>
          <a:blip r:embed="rId2"/>
          <a:stretch/>
        </p:blipFill>
        <p:spPr>
          <a:xfrm>
            <a:off x="3929040" y="535788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32691169.jpg"/>
          <p:cNvPicPr/>
          <p:nvPr/>
        </p:nvPicPr>
        <p:blipFill>
          <a:blip r:embed="rId3"/>
          <a:stretch/>
        </p:blipFill>
        <p:spPr>
          <a:xfrm>
            <a:off x="6353280" y="3929040"/>
            <a:ext cx="1385640" cy="9288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7" descr="32691196.jpg"/>
          <p:cNvPicPr/>
          <p:nvPr/>
        </p:nvPicPr>
        <p:blipFill>
          <a:blip r:embed="rId4"/>
          <a:stretch/>
        </p:blipFill>
        <p:spPr>
          <a:xfrm>
            <a:off x="6357960" y="22860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32691181.jpg"/>
          <p:cNvPicPr/>
          <p:nvPr/>
        </p:nvPicPr>
        <p:blipFill>
          <a:blip r:embed="rId5"/>
          <a:stretch/>
        </p:blipFill>
        <p:spPr>
          <a:xfrm>
            <a:off x="6500880" y="5357880"/>
            <a:ext cx="12380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гт. Апастово именем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. Х. Каримова (Карымов) названа ул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Объект 1" descr=""/>
          <p:cNvPicPr/>
          <p:nvPr/>
        </p:nvPicPr>
        <p:blipFill>
          <a:blip r:embed="rId1"/>
          <a:stretch/>
        </p:blipFill>
        <p:spPr>
          <a:xfrm rot="20890200">
            <a:off x="514440" y="3509640"/>
            <a:ext cx="3870360" cy="2583000"/>
          </a:xfrm>
          <a:prstGeom prst="rect">
            <a:avLst/>
          </a:prstGeom>
          <a:ln w="0">
            <a:noFill/>
          </a:ln>
        </p:spPr>
      </p:pic>
      <p:pic>
        <p:nvPicPr>
          <p:cNvPr id="216" name="Объект 2" descr=""/>
          <p:cNvPicPr/>
          <p:nvPr/>
        </p:nvPicPr>
        <p:blipFill>
          <a:blip r:embed="rId2"/>
          <a:stretch/>
        </p:blipFill>
        <p:spPr>
          <a:xfrm rot="651600">
            <a:off x="5067000" y="3559320"/>
            <a:ext cx="3606840" cy="24048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3" descr=""/>
          <p:cNvPicPr/>
          <p:nvPr/>
        </p:nvPicPr>
        <p:blipFill>
          <a:blip r:embed="rId3"/>
          <a:stretch/>
        </p:blipFill>
        <p:spPr>
          <a:xfrm>
            <a:off x="2843280" y="1268280"/>
            <a:ext cx="34765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 и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47280" y="134136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ходе работы я получила новые знания о Героях Советского Союза нашего района, научилась анализировать собранный материал, выделять главное, делать выводы. В результате проведённого мною работы я ответила на все свои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я узнала, о героизме  Р. А. Абзалова, Д. И. Горбунова, С. Х. Карымова, об  их заслугах перед Родин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в районе Героями Советского Союза гордятся  и их заслуги ценят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памятники, организации и улицы с именами Героев хранят в себе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щную память о ни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47280" y="105264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рать сведения и документы о Героях Советского Союза Апастовского райо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исследовательскую работу, определить  их  заслуги  перед Родин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ить материалы,  об увековечивании их имён в наше мирное врем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ить дополнительные материалы, связанные с их имен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лов Рем(Рим) Абза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634920" y="1052280"/>
            <a:ext cx="475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лся в городе Ташкенте, ныне столице Узбекистана, в семье рабочего (по другим данным он родился в селе Среднее Балтаево Апастовского района Республики Татарстан) в крестьянской семье. Татарин. Начальное образование получил в медресе, одновременно работал в колхозе. Затем переехал в столицу Татарии — город Казань. Учился на рабфаке. Был рабочим на заво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астник Советско-финской и Великой Отечественной войны, командир стрелковой роты 116-го гвардейского стрелкового полка 40-й гвардейской стрелковой дивизии 4-й гвардейской армии 3-го Украинского фронта, Герой Советского Сою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казом Президиума Верховного Совета СССР от 24 марта 1945 года за образцовое выполнение боевых заданий командования на фронте , за борьбу с немецко-фашистскими захватчиками и за  проявленные при этом мужество и героизм старшему лейтенанту Абзалову Рему (Риму) Абзаловичу присвоено звание Героя Советского Союза с вручением ордена Ленина и медали «Золотая Звезд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№ 4870) и два ордена Красной Звез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1"/>
          <a:stretch/>
        </p:blipFill>
        <p:spPr>
          <a:xfrm>
            <a:off x="1235160" y="1200240"/>
            <a:ext cx="2157480" cy="29034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9"/>
          <p:cNvSpPr/>
          <p:nvPr/>
        </p:nvSpPr>
        <p:spPr>
          <a:xfrm>
            <a:off x="1386000" y="4230720"/>
            <a:ext cx="20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.06.1914 – 07.02.1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бунов Дмитрий Иванови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Объект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1942920" cy="280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780000" y="148428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лся 24 октября 1924 года в деревне Бишево ныне Апастовского района республики Татарстан в крестьянской семье. Русский. Окончил неполную среднюю школу, в то же время работал и в колхозе. Позднее переехал в город Казань, окончил школу фабрично-заводского обучения, работал слесарем на военном заво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бунов Дмитрий Иванович - командир взвода 136-го стрелкового полка (97-и стрелковая дивизия. 5-я армия. 3-й Белорусский фронт), старший сержан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казом Президиума Верховного Совета СССР от 24 марта 1945 года за образцовое выполнение боевых заданий командования на фронте, за борьбу с немецко-фашистскими захватчиками и  за проявленные при этом мужество и героизм старшему сержанту Горбунову Дмитрию Ивановичу присвоено 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гражден орденами Ленина. Красного Знамени, медаль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бъект 3"/>
          <p:cNvSpPr/>
          <p:nvPr/>
        </p:nvSpPr>
        <p:spPr>
          <a:xfrm>
            <a:off x="1187280" y="4221000"/>
            <a:ext cx="2594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4.10.1924-28.06.194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римов(Карымов) Салават Хаким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6920" y="4292280"/>
            <a:ext cx="27370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5.09.1914-12.05.198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Объект 5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2087640" cy="29131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9"/>
          <p:cNvSpPr/>
          <p:nvPr/>
        </p:nvSpPr>
        <p:spPr>
          <a:xfrm>
            <a:off x="3924360" y="1484280"/>
            <a:ext cx="4572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лся 15.9.1914  в деревне  Янгильдино ныне Апастовского р-на  в семье крестьянина.  Татар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ончив 5 классов средней школы в с.Алдыкеево Ялуторовского р-на Тюменской обл., работал слесарем на одном из заводов в Свердловске. В Советской Армии в 1936-38, 1939-40 и с июня 1941. Участник советско-финляндской войны 1939-40 годах.  В боях Великой Отечественной войны с октября 194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ончил курсы «Выстрел» в 1942, ускоренные пехотные курсы при Военной академии им. М.В.Фрунзе в 194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андир стрелкового батальона 709-го стрелкового полка (178-я стрелковая дивизия, 22-я армия, Калининский фронт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ание Героя Советского Союза присвоено 05.05.194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 1947 майор Карымов в запасе. Жил в Каза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гражден орденом Ленина, Отечественной войны и медалями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нем Рема(Рима) Абза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2" descr=""/>
          <p:cNvPicPr/>
          <p:nvPr/>
        </p:nvPicPr>
        <p:blipFill>
          <a:blip r:embed="rId1"/>
          <a:stretch/>
        </p:blipFill>
        <p:spPr>
          <a:xfrm>
            <a:off x="6383160" y="2349360"/>
            <a:ext cx="1789200" cy="1843200"/>
          </a:xfrm>
          <a:prstGeom prst="rect">
            <a:avLst/>
          </a:prstGeom>
          <a:ln w="0">
            <a:noFill/>
          </a:ln>
        </p:spPr>
      </p:pic>
      <p:pic>
        <p:nvPicPr>
          <p:cNvPr id="190" name="Объект 4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3014640" cy="18003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9"/>
          <p:cNvSpPr/>
          <p:nvPr/>
        </p:nvSpPr>
        <p:spPr>
          <a:xfrm>
            <a:off x="1692360" y="3500280"/>
            <a:ext cx="3251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вано муниципальное бюджетное общеобразовательное учреждение “Среднебалтаевская основная общеобразовательная школа имени Героя Советского Союза Абзалова Рема Абзалович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бъект 3"/>
          <p:cNvSpPr/>
          <p:nvPr/>
        </p:nvSpPr>
        <p:spPr>
          <a:xfrm>
            <a:off x="5435640" y="966960"/>
            <a:ext cx="273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честь Р. А. Абзалова в нашем Апастовском районе  на Аллее Героев установлен памят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F:\герои.jpg"/>
          <p:cNvPicPr/>
          <p:nvPr/>
        </p:nvPicPr>
        <p:blipFill>
          <a:blip r:embed="rId3"/>
          <a:stretch/>
        </p:blipFill>
        <p:spPr>
          <a:xfrm>
            <a:off x="5724360" y="4322880"/>
            <a:ext cx="289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лица Р. А. Абзалова в селе Среднее Балтаево Апастовского район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Объект 4" descr=""/>
          <p:cNvPicPr/>
          <p:nvPr/>
        </p:nvPicPr>
        <p:blipFill>
          <a:blip r:embed="rId1"/>
          <a:stretch/>
        </p:blipFill>
        <p:spPr>
          <a:xfrm>
            <a:off x="1476360" y="13208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96" name="Объект 6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3211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нем Дмитрия Ивановича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бу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3065400" y="422100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1" descr=""/>
          <p:cNvPicPr/>
          <p:nvPr/>
        </p:nvPicPr>
        <p:blipFill>
          <a:blip r:embed="rId2"/>
          <a:stretch/>
        </p:blipFill>
        <p:spPr>
          <a:xfrm>
            <a:off x="6354720" y="1484280"/>
            <a:ext cx="2266920" cy="3168720"/>
          </a:xfrm>
          <a:prstGeom prst="rect">
            <a:avLst/>
          </a:prstGeom>
          <a:ln w="0">
            <a:noFill/>
          </a:ln>
        </p:spPr>
      </p:pic>
      <p:sp>
        <p:nvSpPr>
          <p:cNvPr id="201" name="Объект 3"/>
          <p:cNvSpPr/>
          <p:nvPr/>
        </p:nvSpPr>
        <p:spPr>
          <a:xfrm>
            <a:off x="3708360" y="1998720"/>
            <a:ext cx="23814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вано  ООО СХП «Свия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. Героя Советского Сою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. И. ГОРБУ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3"/>
          <a:stretch/>
        </p:blipFill>
        <p:spPr>
          <a:xfrm>
            <a:off x="727200" y="1730520"/>
            <a:ext cx="2852640" cy="20826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6502320" y="5114880"/>
            <a:ext cx="22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родине в селе Биешево установлен памятник ге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еле Биешево именем Д. И. Горбунова названа ул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Объект 1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262320" cy="244944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2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251520" cy="2438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4" descr=""/>
          <p:cNvPicPr/>
          <p:nvPr/>
        </p:nvPicPr>
        <p:blipFill>
          <a:blip r:embed="rId3"/>
          <a:stretch/>
        </p:blipFill>
        <p:spPr>
          <a:xfrm>
            <a:off x="3300480" y="4076640"/>
            <a:ext cx="34671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2:27:48Z</dcterms:created>
  <dc:creator>Федотова Виктория Александровна</dc:creator>
  <dc:description/>
  <dc:language>en-US</dc:language>
  <cp:lastModifiedBy>Фагим</cp:lastModifiedBy>
  <dcterms:modified xsi:type="dcterms:W3CDTF">2015-01-15T11:10:16Z</dcterms:modified>
  <cp:revision>36</cp:revision>
  <dc:subject/>
  <dc:title>Слайд 1</dc:title>
</cp:coreProperties>
</file>