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504-DE57-4BF4-B858-4FCF6841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616-7964-4C81-8CA7-C3FB9687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E41-467B-4F24-8AB4-A530B7E7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228-FBF5-401D-B11E-B76B5A02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D86A-7167-46A2-855F-36F6B2DA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AB4A-6DD5-4210-BA38-551D4A8D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8D6A-2114-41AD-A27D-BD835220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ACD2-8F13-40D8-B8EB-A7869ECF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B98-BC6A-402F-8F04-7244A486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2538-9915-4543-AA21-EA2FA765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EEDF-3DEA-48CB-B832-494EF4C0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6D94-846E-42C1-AF05-3FC5466B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FFA45-42DE-4111-B9F9-B09B1842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7C6D4-ABE1-4EB1-969A-887FABFB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0802-BB83-4BC5-8AD8-AB52F4B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CAAB3-1ED3-40E7-BEED-02D750DE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27C1F-ACB0-475F-A139-3E89A8E7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69D2-2EFA-49B7-8AC4-CE7A6DC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482-995F-4FCF-BFC5-15DF8B0A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9DCE-92EC-43AE-8103-63C53EE4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1D25-4F32-422B-96A4-3840B147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4A90-F2D7-4419-9187-7292502F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C9B0-F97D-4660-9629-DB760BC8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366F5-3EB3-4DE6-9129-D1EE74B1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B65D1-70D4-4670-A8C8-738398C3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04A2-3070-403F-8667-D03244CF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C53F-CC30-49D9-8515-DB18838D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914-DF71-4120-ACAC-938392FC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7E72-4618-47DE-8F89-6A439062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89D9-4133-4118-9E6A-6081A094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B656-4283-47F4-B21F-528DBD3A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1973-DEAF-4AAD-868E-D2698CAF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8777-5BEB-4B78-9B18-07B3F258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1BDF-04F5-4385-B6A7-A6B6AF0C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A72-DC3D-4058-87AA-F45D866B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969D-F3C8-47F6-A27D-B02705B2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8D7D-186A-40A6-9654-0C215CC6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A6EE-D600-4FA3-A914-DBDFB11C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E35A-3C39-4660-950F-1205651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C552-D4BF-42D1-91C9-BDF25E3D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F627-0D86-4AC5-8614-771E1F12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E67F-619C-481A-A2BD-88266BDB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7DEEB-278D-425E-91C6-7894CC2A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2A0D7-544C-4247-9D80-544E695B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FD5D7-49F4-41E5-897D-64E2BDC6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BCF-E531-4B8E-9259-6279A8E5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294C-99F2-4B74-B74B-C88AA50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0E40-6318-4F7C-BB46-86DDCF2E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E13BA-1B7D-4FDC-BDF5-FBBCEEE5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3654-82F4-4F40-8781-943AC0A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DC81E-BC3B-417C-BD68-F272EDC4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BA467-6C68-487D-8A5E-A2A4F348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AD1C3-1C1D-4656-A295-7E57308B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EF09B-9CAE-4065-B52A-695861E8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8B9A-6075-4288-841E-5E2B2A6C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2C0-D9C1-4065-A817-47B7974E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F45-4341-4748-85ED-9754350C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637-DDB8-4844-993F-9227CF7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ACD-837F-4452-B57A-94D880CD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A66-F884-4856-A964-CC8D2D59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11D6-D770-4075-9978-F6AD03A66FD8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1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1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1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0776-E2F0-4C09-B27F-AD2259754DE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A5BD-9674-4741-BF7C-D49724442F8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360D-E1A5-4166-BDD0-ED786F26E1C1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41E3-1E33-46D3-87DB-32B2C1EDB663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0470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CustomShape 1"/>
          <p:cNvSpPr/>
          <p:nvPr/>
        </p:nvSpPr>
        <p:spPr>
          <a:xfrm>
            <a:off x="838080" y="4618080"/>
            <a:ext cx="8305920" cy="223992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ustomShape 2"/>
          <p:cNvSpPr/>
          <p:nvPr/>
        </p:nvSpPr>
        <p:spPr>
          <a:xfrm>
            <a:off x="333360" y="1828800"/>
            <a:ext cx="8810640" cy="5029200"/>
          </a:xfrm>
          <a:prstGeom prst="rect">
            <a:avLst/>
          </a:prstGeom>
          <a:solidFill>
            <a:srgbClr val="c1c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ustomShape 3"/>
          <p:cNvSpPr/>
          <p:nvPr/>
        </p:nvSpPr>
        <p:spPr>
          <a:xfrm>
            <a:off x="838080" y="4654440"/>
            <a:ext cx="8305920" cy="2203560"/>
          </a:xfrm>
          <a:prstGeom prst="rect">
            <a:avLst/>
          </a:prstGeom>
          <a:solidFill>
            <a:srgbClr val="8c8c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ustomShape 4"/>
          <p:cNvSpPr/>
          <p:nvPr/>
        </p:nvSpPr>
        <p:spPr>
          <a:xfrm>
            <a:off x="838080" y="1828800"/>
            <a:ext cx="73137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ustomShape 5"/>
          <p:cNvSpPr/>
          <p:nvPr/>
        </p:nvSpPr>
        <p:spPr>
          <a:xfrm>
            <a:off x="838080" y="1828800"/>
            <a:ext cx="46080" cy="283356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stomShape 6"/>
          <p:cNvSpPr/>
          <p:nvPr/>
        </p:nvSpPr>
        <p:spPr>
          <a:xfrm>
            <a:off x="836640" y="4610160"/>
            <a:ext cx="460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ustomShape 7"/>
          <p:cNvSpPr/>
          <p:nvPr/>
        </p:nvSpPr>
        <p:spPr>
          <a:xfrm>
            <a:off x="318960" y="4610160"/>
            <a:ext cx="4570560" cy="46080"/>
          </a:xfrm>
          <a:prstGeom prst="rect">
            <a:avLst/>
          </a:prstGeom>
          <a:gradFill rotWithShape="0">
            <a:gsLst>
              <a:gs pos="0">
                <a:srgbClr val="c1c2cb"/>
              </a:gs>
              <a:gs pos="100000">
                <a:srgbClr val="9e9f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ustomShape 8"/>
          <p:cNvSpPr/>
          <p:nvPr/>
        </p:nvSpPr>
        <p:spPr>
          <a:xfrm>
            <a:off x="318960" y="4610160"/>
            <a:ext cx="47880" cy="2247840"/>
          </a:xfrm>
          <a:prstGeom prst="rect">
            <a:avLst/>
          </a:prstGeom>
          <a:gradFill rotWithShape="0">
            <a:gsLst>
              <a:gs pos="0">
                <a:srgbClr val="c8c9d1"/>
              </a:gs>
              <a:gs pos="100000">
                <a:srgbClr val="c1c2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TextShape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CustomShape 2"/>
          <p:cNvSpPr/>
          <p:nvPr/>
        </p:nvSpPr>
        <p:spPr>
          <a:xfrm>
            <a:off x="1143000" y="1643040"/>
            <a:ext cx="707220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Arial"/>
              </a:rPr>
              <a:t>Графические органайзер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ссоциации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Прямоугольник 6"/>
          <p:cNvSpPr/>
          <p:nvPr/>
        </p:nvSpPr>
        <p:spPr>
          <a:xfrm>
            <a:off x="324000" y="1460520"/>
            <a:ext cx="860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инейный метод мозговой ат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исьменный вид деятельности, который служит сильным инструментом для ведения письма, особенно для тех кто не хочет писать. В большинстве случаев, это стратегия для получения доступа к своим собственным знаниям, пониманию и убе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Чтобы ввести ассоциации, важно выполнять пять пун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ть деятельность и предъявить шаги ассоц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тему, интересную для обучающихся, смоделировать процесс как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вторую тему, интересную для группы, и дать время каждому для написания ассоциаций по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время для четверых или пяти учеников, чтобы представить свои ассоциации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дить на уровне групп или пар со специфическим содержанием материала, как они будут использовать это завтра в классе. Затем осудить всей группой этапы всей основы структуры и как ассоциации могут быть использов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Групповая дискуя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80" name="Прямоугольник 3"/>
          <p:cNvSpPr/>
          <p:nvPr/>
        </p:nvSpPr>
        <p:spPr>
          <a:xfrm>
            <a:off x="468360" y="14842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 лат. – исследование, разбор, обсуждение какого-либо вопр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ется поделиться друг с другом знаниями, соображениями, дово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бязательным условием при проведении дискуссии явл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уважение к различным точкам зрения ее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овместный поиск конструктивного решения возникших разногла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использоваться как на стадии вызова, так и на стадии рефлексии. При этом в первом случае ее задача: обмен первичной информацией, выявление противоречий, а во втором – это возможность переосмысления полученных сведений, сравнение собственного видения проблемы с другими взглядами и позиц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групповой дискуссии способствует развитию диалогичности общения, становлению самостоятельности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ДД: Дневник двойной записи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82" name="Прямоугольник 3"/>
          <p:cNvSpPr/>
          <p:nvPr/>
        </p:nvSpPr>
        <p:spPr>
          <a:xfrm>
            <a:off x="468360" y="1844640"/>
            <a:ext cx="84963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ужит для связи материала по тексту с собственным опытом и любозна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завершения чтения, записи, сделанные в дневниках двойной записи могут помочь для этапа рефлексии, когда преподаватель, продолжая работу с текстом, просит обучающихся поделиться  сделанными ими комментариями  по каждой странице текста. Преподаватель тоже должен приготовить свои комментарии по тем частям текста, по которым он хочет провести дискусс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TextShape 1"/>
          <p:cNvSpPr/>
          <p:nvPr/>
        </p:nvSpPr>
        <p:spPr>
          <a:xfrm>
            <a:off x="457200" y="244440"/>
            <a:ext cx="83851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CustomShape 2"/>
          <p:cNvSpPr/>
          <p:nvPr/>
        </p:nvSpPr>
        <p:spPr>
          <a:xfrm>
            <a:off x="642960" y="1628640"/>
            <a:ext cx="819936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ходит от французского слова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cing» – пят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тихотворение, состоящее из пяти строк. Используется как способ синтеза материала. Лаконичность формы развивает способность резюмировать информацию, излагать мысль в нескольких значимых словах, емких и кратких выраж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квейн может быть предложен, как индивидуальное самостоятельное задание; для работы в парах; реже как коллективное творчество. Границы предметной области зависят от гибкости воображения уч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синквейн используется на стадии рефлексии, хотя может быть дан и как нетрадиционная форма на стадии выз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TextShape 1"/>
          <p:cNvSpPr/>
          <p:nvPr/>
        </p:nvSpPr>
        <p:spPr>
          <a:xfrm>
            <a:off x="457200" y="244440"/>
            <a:ext cx="83851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 написания синквей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CustomShape 2"/>
          <p:cNvSpPr/>
          <p:nvPr/>
        </p:nvSpPr>
        <p:spPr>
          <a:xfrm>
            <a:off x="428760" y="1793880"/>
            <a:ext cx="80722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1. (перва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тема стихотворения, выраженная ОДНИМ словом, обычно именем существительны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. (втора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описание темы в ДВУХ словах, как правило, именами прилагательны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. (треть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описание действия в рамках этой темы ТРЕМЯ словами, обычно глагол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4. (четверта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фраза из ЧЕТЫРЕХ слов, выражающая отношение автора к данной тем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5. (пятая стро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ОДНО слово – синоним к первому, на эмоционально-образном или философско-обобщенном уровне повторяющее суть тем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TextShape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CustomShape 2"/>
          <p:cNvSpPr/>
          <p:nvPr/>
        </p:nvSpPr>
        <p:spPr>
          <a:xfrm>
            <a:off x="1214280" y="1738440"/>
            <a:ext cx="6715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Фору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уществительное, выражающее главную т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Шумный, интерес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ва прилагательных, выражающих главную мыс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Развлекает, развивает, весели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ри глагола, описывающие действия в рамках те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Хорошее место для знакомст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раза, несущая определенный смыс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щ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аключение в форме существительн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ктивная, бур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итывает, развивает, у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Дает возможность реализова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TextShape 1"/>
          <p:cNvSpPr/>
          <p:nvPr/>
        </p:nvSpPr>
        <p:spPr>
          <a:xfrm>
            <a:off x="457200" y="244440"/>
            <a:ext cx="83851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ИНС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CustomShape 2"/>
          <p:cNvSpPr/>
          <p:nvPr/>
        </p:nvSpPr>
        <p:spPr>
          <a:xfrm>
            <a:off x="108000" y="973080"/>
            <a:ext cx="89265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ословном переводе </a:t>
            </a:r>
            <a:r>
              <a:rPr b="0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инс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 английского означает: интерактивная система записи для эффективного чтения и размышления. Прием осуществляется в несколько эта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I э т а 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едлагается система маркировки текста, чтобы подразделить заключенную в ней информацию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 «галочкой» помечается то, что уже известно обучающимся; - знаком «минус» помечается то, что противоречит их представлению; + знаком «плюс» помечается то, что является для них интересным и неожиданным; ? «вопросительный знак» ставится, если что-то неясно, возникло желание узнать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II э т а 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Читая текст, обучающиеся помечают соответствующим значком на полях отдельные абзацы и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III э т а 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Обучающимся предлагается систематизировать информацию, расположив ее в соответствии со своими пометками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IV э т а п: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е обсуждение каждой графы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ная область использования: преимущественно научно-популярные тексты с большим количеством фактов и с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7" name=""/>
          <p:cNvGraphicFramePr/>
          <p:nvPr/>
        </p:nvGraphicFramePr>
        <p:xfrm>
          <a:off x="228600" y="2492280"/>
          <a:ext cx="8785080" cy="3932280"/>
        </p:xfrm>
        <a:graphic>
          <a:graphicData uri="http://schemas.openxmlformats.org/drawingml/2006/table">
            <a:tbl>
              <a:tblPr/>
              <a:tblGrid>
                <a:gridCol w="1500120"/>
                <a:gridCol w="1784520"/>
                <a:gridCol w="1857240"/>
                <a:gridCol w="1571760"/>
                <a:gridCol w="20714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фес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еобходимая подготовка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абиль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ровень заработной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довлетворение от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тенс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версит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е плюс медицинская школа плюс интерн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ни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о экстенсивная подготовка плюс практика для достижения масте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ются долгие месяцы продолжительного голо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пределен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 высок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й за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экстенс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может меняться или теря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 быть и низ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8" name="TextShape 2"/>
          <p:cNvSpPr/>
          <p:nvPr/>
        </p:nvSpPr>
        <p:spPr>
          <a:xfrm>
            <a:off x="428760" y="214200"/>
            <a:ext cx="8385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Концептуа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ая таблица особенно полезна, когда сравниваются три или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метов или вопросов. Концептуальная таблица  составляется путем отведения рядов для каждого сравниваемого вопроса и столбцов с определенными признаками, по которым сравнива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TextShape 1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многосторонним графическим органайзером для двойной записи (да\нет, за\проти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ется ид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евой стороне таблицы выписываю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больше причин –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ую ид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авой стороны перечисляются прич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О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й ид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TextShape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Т-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TextShape 1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тся из двух или более больших, частично пересекающихся друг друга окружностей с пространством в сере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может быть использована для показа контрастных идей и общего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TextShape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Диаграмма Вен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CustomShap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CustomShape 4"/>
          <p:cNvSpPr/>
          <p:nvPr/>
        </p:nvSpPr>
        <p:spPr>
          <a:xfrm>
            <a:off x="214200" y="2357280"/>
            <a:ext cx="925200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CustomShape 5"/>
          <p:cNvSpPr/>
          <p:nvPr/>
        </p:nvSpPr>
        <p:spPr>
          <a:xfrm>
            <a:off x="1171440" y="4000680"/>
            <a:ext cx="3670560" cy="27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Традиционный ур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CustomShape 6"/>
          <p:cNvSpPr/>
          <p:nvPr/>
        </p:nvSpPr>
        <p:spPr>
          <a:xfrm>
            <a:off x="4429080" y="3978360"/>
            <a:ext cx="3645000" cy="27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Интерактивный  ур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Ч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Е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Н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И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7" name=""/>
          <p:cNvGraphicFramePr/>
          <p:nvPr/>
        </p:nvGraphicFramePr>
        <p:xfrm>
          <a:off x="220680" y="3500280"/>
          <a:ext cx="8858160" cy="2225880"/>
        </p:xfrm>
        <a:graphic>
          <a:graphicData uri="http://schemas.openxmlformats.org/drawingml/2006/table">
            <a:tbl>
              <a:tblPr/>
              <a:tblGrid>
                <a:gridCol w="928800"/>
                <a:gridCol w="1428480"/>
                <a:gridCol w="1785960"/>
                <a:gridCol w="1571760"/>
                <a:gridCol w="1643040"/>
                <a:gridCol w="15001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бъек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есто об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пособ передви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Чем пит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ип живот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азм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  Земля  Неб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ают  Плавают Бегаю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  Рыба  Раст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  Птица Млекопи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    Слон   Коро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блю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  -     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-  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-  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-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ё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  +       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  -    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+ 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+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-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-        -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      +            -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        +         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-         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  ?         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8" name="TextShape 2"/>
          <p:cNvSpPr/>
          <p:nvPr/>
        </p:nvSpPr>
        <p:spPr>
          <a:xfrm>
            <a:off x="457200" y="244440"/>
            <a:ext cx="8385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Семантический 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тратегия применима, когда обучающиеся изучают текст, о котором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 знают из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тью стратегии является сравнение характеристик новых и малоизвестных параграфов или текстов с более извест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для этой деятельности подготавливается заранее педагогом  на плакате или на большом листе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9" name="Picture 2" descr="F:\images.jpg"/>
          <p:cNvPicPr/>
          <p:nvPr/>
        </p:nvPicPr>
        <p:blipFill>
          <a:blip r:embed="rId1"/>
          <a:stretch/>
        </p:blipFill>
        <p:spPr>
          <a:xfrm>
            <a:off x="324000" y="115920"/>
            <a:ext cx="2952720" cy="1800360"/>
          </a:xfrm>
          <a:prstGeom prst="rect">
            <a:avLst/>
          </a:prstGeom>
          <a:ln w="0">
            <a:noFill/>
          </a:ln>
        </p:spPr>
      </p:pic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ластеры</a:t>
            </a:r>
            <a:br>
              <a:rPr sz="1800"/>
            </a:b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1" name="Rectangle 1"/>
          <p:cNvSpPr/>
          <p:nvPr/>
        </p:nvSpPr>
        <p:spPr>
          <a:xfrm>
            <a:off x="395280" y="-1364400"/>
            <a:ext cx="8501040" cy="82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пособ графической организации материала, позволяющий сделать наглядными те мыслительные процессы, которые происходят при погружении в ту или иную тему. Кластер является отражением нелинейной формы мышления. Иногда такой способ называют «наглядным мозговым штурм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Шаги по установлению кластера:</a:t>
            </a:r>
            <a:br>
              <a:rPr sz="1400"/>
            </a:br>
            <a:br>
              <a:rPr sz="14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ключевое слово или фразу в центре листа бумаги или как заглавие на доске или на любой пишущей поверхности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ните писать слова или фразы, которые приходят на ум по выбранной теме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только идеи приходят на ум и записаны, начните рисовать соединения между идеями, которые кажутся подходящими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йте столько идей, сколько приходит на тех до тех пор, пока не выйдет время или исчерпаны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5796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Эссе и Свободное письмо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3" name="Прямоугольник 3"/>
          <p:cNvSpPr/>
          <p:nvPr/>
        </p:nvSpPr>
        <p:spPr>
          <a:xfrm>
            <a:off x="395280" y="1844640"/>
            <a:ext cx="85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вободная трактовка какой-либо литературной, философской, эстетической, моральной и социальной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лавное правило эссе и свободного пись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е останавливаться, не перечитывать, не исправлять. При затруднении можно письменно прокомментировать возникшую проблему и постараться писать да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письменного задания обычно применяется в конце занятия, чтобы помочь обучающимся подытожить свои знания по изученной теме. Для учителя – это возможность получить обратную связь. Поэтому обучающимся можно предложить два пун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) написать, что они узнали по новой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) задать один вопрос, на который они так и не получили от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озговая атака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5" name="Прямоугольник 3"/>
          <p:cNvSpPr/>
          <p:nvPr/>
        </p:nvSpPr>
        <p:spPr>
          <a:xfrm>
            <a:off x="684360" y="1916280"/>
            <a:ext cx="835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 э т а п: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мся предлагается подумать и записать все, что они знают или думают, что знают, по данн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 э т а п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Обмен информ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к эффективному использов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ий лимит времени на 1-м этапе 5-7 мин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бсуждении идеи не критикуются, но разногласия фиксирую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ая запись высказанных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 индивидуальная, парная и групповая формы работы. Как правило, их проводят последовательно одну за другой, хотя каждая может быть отдельным самостоятельным способом организации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S</cp:lastModifiedBy>
  <dcterms:modified xsi:type="dcterms:W3CDTF">2015-01-19T17:34:10Z</dcterms:modified>
  <cp:revision>6</cp:revision>
  <dc:subject/>
  <dc:title>Презентация PowerPoint</dc:title>
</cp:coreProperties>
</file>