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DC6-BBB6-443A-842A-46E62156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4C5-75E4-466D-94BC-39EBD7E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75A-F0C9-4CF9-A49F-95EE6BD4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F6E-89B6-49E5-9AB4-E7972393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D0C2-D61C-420A-96B2-649F9A6D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35CD-326B-4C04-AC2B-FECEFAE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D6C5-5461-4764-B584-8B609E79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61AF-048A-4441-BF77-4143AD56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51C-5F1B-4FA6-A11E-1B96CD9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F7D0-ACCE-4510-AAA8-73107AD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B39D-6EFD-4C6A-9CB9-1019A69D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B1A6D-E6D2-4142-A500-382B5186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18D9-0941-43EC-9E66-0D3DC88C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AA57-CEDB-4F10-93E5-2E487412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1161-38F6-4195-8DA2-2A4BD81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1B43-457D-4EC7-BE1C-EC2699B0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CA53-035B-440C-9F8B-B8EAF3BA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0D43-0A71-46F2-905B-D871A89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F00-451B-4884-84D4-238EB1D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1F5-2B8A-4ECC-8D49-ED3EA35D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5788-7CF8-434C-90E9-7B40FECF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0557-2414-433A-9E6E-FE6942C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4D4CE-4AC2-4866-9956-CA317A2E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60BC-4CFE-43C6-89BF-51253BFD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3D6E-C437-40B8-9507-00F26B80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5048-DF47-4D3B-B560-D538FDE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14B2-5EBB-4606-8A74-A14D5398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5E16-EB2D-4677-B572-91CE1358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554E-6B9A-4226-A487-09955DA5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9011-AF15-4C01-BE59-2D397DC4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46DD-2747-4A64-89E4-B5EE7642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B212-9DD2-481C-9630-72CF899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7461-DEEA-445A-A1C5-8D30A6C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FE75-33C6-4ACC-9599-7FF2A89B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DED-45CD-43ED-968A-9840F55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1DE8-A06C-48BB-9794-7A4CEAF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E632-0667-48BD-9F56-706084E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C55F-0B19-45C3-8933-F70E93A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3028-24C0-461A-854C-BA6A907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0144-3258-4424-BF3D-9155BDBB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0EC2-DA5F-4BDA-9283-1B728244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6F91-D2EF-4499-9F27-D4B94657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2FD2-FD53-49C2-8E0B-D80A19E9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95B1-AFB7-4B4D-89A1-E1D016BD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A360-3432-4811-8514-BE69BB7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B0F-0CD5-4D75-BFC5-C9A2A91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E98A-8643-4396-975C-28113B7B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9681-7D85-42BE-B347-A9522BE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EB77-1A04-4993-8D75-5AD121A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DB6F-D945-47DA-8A02-A8AD72E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2497-7CAF-41B3-BF53-A0570D0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CB81-FFD2-44B5-B2F1-2BF5055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8AD8-81B5-4FBB-A0A4-03EA8A8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1310-3F1D-49CC-85C0-4A44C9F1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2A1D-A7FA-4F25-913F-1391184A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935-B788-47E0-A649-BB556887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320-0C64-4F1C-96C4-51F4BCFF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C81-B37F-4ED7-ADA1-2B47F0F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CE3-1B31-4F24-A7FD-DBDADDB7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33A-95A3-4F7A-AD3B-1F66A47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725B-7E6E-4C6C-ABF0-15BC61A35B1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F61-BDCE-4373-80BA-E24F9AA7F3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688-EBC0-40FC-B56A-15B418614CF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5FE-9502-4B3B-98A6-CF4E3100AEF2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16D6-34E8-4DA8-918F-4023B73BD34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TextShape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CustomShape 2"/>
          <p:cNvSpPr/>
          <p:nvPr/>
        </p:nvSpPr>
        <p:spPr>
          <a:xfrm>
            <a:off x="1143000" y="1643040"/>
            <a:ext cx="707220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Arial"/>
              </a:rPr>
              <a:t>Графические органайзер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ссоциации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Прямоугольник 6"/>
          <p:cNvSpPr/>
          <p:nvPr/>
        </p:nvSpPr>
        <p:spPr>
          <a:xfrm>
            <a:off x="324000" y="1460520"/>
            <a:ext cx="86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инейный метод мозговой ат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исьменный вид деятельности, который служит сильным инструментом для ведения письма, особенно для тех кто не хочет писать. В большинстве случаев, это стратегия для получения доступа к своим собственным знаниям, пониманию и убе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Чтобы ввести ассоциации, важно выполнять пять пун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ть деятельность и предъявить шаги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тему, интересную для обучающихся, смоделировать процесс как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вторую тему, интересную для группы, и дать время каждому для написания ассоциаций п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время для четверых или пяти учеников, чтобы представить свои ассоциации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ить на уровне групп или пар со специфическим содержанием материала, как они будут использовать это завтра в классе. Затем осудить всей группой этапы всей основы структуры и как ассоциации могут быть использов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Групповая дискуя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0" name="Прямоугольник 3"/>
          <p:cNvSpPr/>
          <p:nvPr/>
        </p:nvSpPr>
        <p:spPr>
          <a:xfrm>
            <a:off x="468360" y="14842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 лат. – исследование, разбор, обсуждение какого-либо в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ется поделиться друг с другом знаниями, соображениями, дов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бязательным условием при проведении дискуссии я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уважение к различным точкам зрения ее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овместный поиск конструктивного решения возникших разногла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использоваться как на стадии вызова, так и на стадии рефлексии. При этом в первом случае ее задача: обмен первичной информацией, выявление противоречий, а во втором – это возможность переосмысления полученных сведений, сравнение собственного видения проблемы с другими взглядами и позиц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групповой дискуссии способствует развитию диалогичности общения, становлению самостоятельности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ДД: Дневник двойной записи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2" name="Прямоугольник 3"/>
          <p:cNvSpPr/>
          <p:nvPr/>
        </p:nvSpPr>
        <p:spPr>
          <a:xfrm>
            <a:off x="468360" y="1844640"/>
            <a:ext cx="8496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ужит для связи материала по тексту с собственным опытом и любозна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завершения чтения, записи, сделанные в дневниках двойной записи могут помочь для этапа рефлексии, когда преподаватель, продолжая работу с текстом, просит обучающихся поделиться  сделанными ими комментариями  по каждой странице текста. Преподаватель тоже должен приготовить свои комментарии по тем частям текста, по которым он хочет провести дискусс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TextShape 1"/>
          <p:cNvSpPr/>
          <p:nvPr/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CustomShape 2"/>
          <p:cNvSpPr/>
          <p:nvPr/>
        </p:nvSpPr>
        <p:spPr>
          <a:xfrm>
            <a:off x="642960" y="1628640"/>
            <a:ext cx="819936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ходит от французского слов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cing» – пят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тихотворение, состоящее из пяти строк. Используется как способ синтеза материала. Лаконичность формы развивает способность резюмировать информацию, излагать мысль в нескольких значимых словах, емких и кратких выраж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квейн может быть предложен, как индивидуальное самостоятельное задание; для работы в парах; реже как коллективное творчество. Границы предметной области зависят от гибкости воображения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синквейн используется на стадии рефлексии, хотя может быть дан и как нетрадиционная форма на стадии выз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TextShape 1"/>
          <p:cNvSpPr/>
          <p:nvPr/>
        </p:nvSpPr>
        <p:spPr>
          <a:xfrm>
            <a:off x="457200" y="244440"/>
            <a:ext cx="83851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 написания синквей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CustomShape 2"/>
          <p:cNvSpPr/>
          <p:nvPr/>
        </p:nvSpPr>
        <p:spPr>
          <a:xfrm>
            <a:off x="428760" y="1793880"/>
            <a:ext cx="80722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. (перв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тема стихотворения, выраженная ОДНИМ словом, обычно именем существительны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. (втор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описание темы в ДВУХ словах, как правило, именами прилагательн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. (треть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описание действия в рамках этой темы ТРЕМЯ словами, обычно глагол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. (четверт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фраза из ЧЕТЫРЕХ слов, выражающая отношение автора к данной т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5. (пят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ОДНО слово – синоним к первому, на эмоционально-образном или философско-обобщенном уровне повторяющее суть тем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TextShape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CustomShape 2"/>
          <p:cNvSpPr/>
          <p:nvPr/>
        </p:nvSpPr>
        <p:spPr>
          <a:xfrm>
            <a:off x="1214280" y="1738440"/>
            <a:ext cx="6715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Фору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ществительное, выражающее главную т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Шумный, интерес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ва прилагательных, выражающих главную мыс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азвлекает, развивает, весели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ри глагола, описывающие действия в рамках т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Хорошее место для знакомст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раза, несущая определенный смыс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аключение в форме существительн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ктивная, бур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итывает, развивает, 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Дает возможность реализова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TextShape 1"/>
          <p:cNvSpPr/>
          <p:nvPr/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CustomShape 2"/>
          <p:cNvSpPr/>
          <p:nvPr/>
        </p:nvSpPr>
        <p:spPr>
          <a:xfrm>
            <a:off x="108000" y="973080"/>
            <a:ext cx="89265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ословном переводе </a:t>
            </a:r>
            <a:r>
              <a:rPr b="0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инс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 английского означает: интерактивная система записи для эффективного чтения и размышления. Прием осуществляется в несколько эта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длагается система маркировки текста, чтобы подразделить заключенную в ней информацию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 «галочкой» помечается то, что уже известно обучающимся; - знаком «минус» помечается то, что противоречит их представлению; + знаком «плюс» помечается то, что является для них интересным и неожиданным; ? «вопросительный знак» ставится, если что-то неясно, возникло желание узнать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I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Читая текст, обучающиеся помечают соответствующим значком на полях отдельные абзацы 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II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Обучающимся предлагается систематизировать информацию, расположив ее в соответствии со своими пометками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V э т а п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е обсуждение каждой графы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ная область использования: преимущественно научно-популярные тексты с большим количеством фактов и с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7" name=""/>
          <p:cNvGraphicFramePr/>
          <p:nvPr/>
        </p:nvGraphicFramePr>
        <p:xfrm>
          <a:off x="228600" y="2492280"/>
          <a:ext cx="8785080" cy="3932280"/>
        </p:xfrm>
        <a:graphic>
          <a:graphicData uri="http://schemas.openxmlformats.org/drawingml/2006/table">
            <a:tbl>
              <a:tblPr/>
              <a:tblGrid>
                <a:gridCol w="1500120"/>
                <a:gridCol w="1784520"/>
                <a:gridCol w="1857240"/>
                <a:gridCol w="1571760"/>
                <a:gridCol w="2071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фес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еобходимая подготовк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аби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ровень заработной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довлетворение от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тенс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версит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плюс медицинская школа плюс интерн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ни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 экстенсивная подготовка плюс практика для достижения масте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ются долгие месяцы продолжительного голо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еделе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высок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й за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экстенс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может меняться или теря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 и низ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8" name="TextShape 2"/>
          <p:cNvSpPr/>
          <p:nvPr/>
        </p:nvSpPr>
        <p:spPr>
          <a:xfrm>
            <a:off x="428760" y="214200"/>
            <a:ext cx="8385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Концептуа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ая таблица особенно полезна, когда сравниваются три ил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 или вопросов. Концептуальная таблица  составляется путем отведения рядов для каждого сравниваемого вопроса и столбцов с определенными признаками, по которым сравнива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Shape 1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многосторонним графическим органайзером для двойной записи (да\нет, за\проти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ется ид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евой стороне таблицы выписываю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больше причин –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ую ид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авой стороны перечисляются пр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О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й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TextShap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Т-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TextShape 1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тся из двух или более больших, частично пересекающихся друг друга окружностей с пространством в сере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может быть использована для показа контрастных идей и общего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TextShap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Диаграмма Вен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CustomShap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CustomShape 4"/>
          <p:cNvSpPr/>
          <p:nvPr/>
        </p:nvSpPr>
        <p:spPr>
          <a:xfrm>
            <a:off x="214200" y="2357280"/>
            <a:ext cx="925200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CustomShape 5"/>
          <p:cNvSpPr/>
          <p:nvPr/>
        </p:nvSpPr>
        <p:spPr>
          <a:xfrm>
            <a:off x="1171440" y="4000680"/>
            <a:ext cx="3670560" cy="27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Традиционный ур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CustomShape 6"/>
          <p:cNvSpPr/>
          <p:nvPr/>
        </p:nvSpPr>
        <p:spPr>
          <a:xfrm>
            <a:off x="4429080" y="3978360"/>
            <a:ext cx="3645000" cy="27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Интерактивный  ур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Ч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Е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Н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И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7" name=""/>
          <p:cNvGraphicFramePr/>
          <p:nvPr/>
        </p:nvGraphicFramePr>
        <p:xfrm>
          <a:off x="220680" y="3500280"/>
          <a:ext cx="8858160" cy="2225880"/>
        </p:xfrm>
        <a:graphic>
          <a:graphicData uri="http://schemas.openxmlformats.org/drawingml/2006/table">
            <a:tbl>
              <a:tblPr/>
              <a:tblGrid>
                <a:gridCol w="928800"/>
                <a:gridCol w="1428480"/>
                <a:gridCol w="1785960"/>
                <a:gridCol w="1571760"/>
                <a:gridCol w="1643040"/>
                <a:gridCol w="15001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бъек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есто об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пособ передви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Чем пит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ип живот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м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  Земля  Неб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ают  Плавают Бегаю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 Рыба  Раст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  Птица Млекопи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    Слон   Кор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блю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-     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-  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-  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-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ё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+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-   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+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+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-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-        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   +            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       +         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-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?         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8" name="TextShape 2"/>
          <p:cNvSpPr/>
          <p:nvPr/>
        </p:nvSpPr>
        <p:spPr>
          <a:xfrm>
            <a:off x="457200" y="244440"/>
            <a:ext cx="8385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Семантический 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тратегия применима, когда обучающиеся изучают текст, о котором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 знают из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ью стратегии является сравнение характеристик новых и малоизвестных параграфов или текстов с более извест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для этой деятельности подготавливается заранее педагогом  на плакате или на большом листе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9" name="Picture 2" descr="F:\images.jpg"/>
          <p:cNvPicPr/>
          <p:nvPr/>
        </p:nvPicPr>
        <p:blipFill>
          <a:blip r:embed="rId1"/>
          <a:stretch/>
        </p:blipFill>
        <p:spPr>
          <a:xfrm>
            <a:off x="324000" y="115920"/>
            <a:ext cx="2952720" cy="1800360"/>
          </a:xfrm>
          <a:prstGeom prst="rect">
            <a:avLst/>
          </a:prstGeom>
          <a:ln w="0">
            <a:noFill/>
          </a:ln>
        </p:spPr>
      </p:pic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ластеры</a:t>
            </a:r>
            <a:br>
              <a:rPr sz="18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1" name="Rectangle 1"/>
          <p:cNvSpPr/>
          <p:nvPr/>
        </p:nvSpPr>
        <p:spPr>
          <a:xfrm>
            <a:off x="395280" y="-1364400"/>
            <a:ext cx="8501040" cy="82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пособ графической организации материала, позволяющий сделать наглядными те мыслительные процессы, которые происходят при погружении в ту или иную тему. Кластер является отражением нелинейной формы мышления. Иногда такой способ называют «наглядным мозговым штурм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Шаги по установлению кластера:</a:t>
            </a: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ключевое слово или фразу в центре листа бумаги или как заглавие на доске или на любой пишущей поверхност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ните писать слова или фразы, которые приходят на ум по выбранной теме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олько идеи приходят на ум и записаны, начните рисовать соединения между идеями, которые кажутся подходящим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йте столько идей, сколько приходит на тех до тех пор, пока не выйдет время или исчерпаны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5796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Эссе и Свободное письмо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3" name="Прямоугольник 3"/>
          <p:cNvSpPr/>
          <p:nvPr/>
        </p:nvSpPr>
        <p:spPr>
          <a:xfrm>
            <a:off x="395280" y="184464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вободная трактовка какой-либо литературной, философской, эстетической, моральной и социальной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лавное правило эссе и свободного пись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е останавливаться, не перечитывать, не исправлять. При затруднении можно письменно прокомментировать возникшую проблему и постараться писать 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письменного задания обычно применяется в конце занятия, чтобы помочь обучающимся подытожить свои знания по изученной теме. Для учителя – это возможность получить обратную связь. Поэтому обучающимся можно предложить два пун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написать, что они узнали по нов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) задать один вопрос, на который они так и не получили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озговая атак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5" name="Прямоугольник 3"/>
          <p:cNvSpPr/>
          <p:nvPr/>
        </p:nvSpPr>
        <p:spPr>
          <a:xfrm>
            <a:off x="684360" y="1916280"/>
            <a:ext cx="835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 э т а п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мся предлагается подумать и записать все, что они знают или думают, что знают,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Обмен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к эффективному использов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ий лимит времени на 1-м этапе 5-7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суждении идеи не критикуются, но разногласия фиксирую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ая запись высказанных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 индивидуальная, парная и групповая формы работы. Как правило, их проводят последовательно одну за другой, хотя каждая может быть отдельным самостоятельным способом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S</cp:lastModifiedBy>
  <dcterms:modified xsi:type="dcterms:W3CDTF">2015-01-19T17:34:10Z</dcterms:modified>
  <cp:revision>6</cp:revision>
  <dc:subject/>
  <dc:title>Презентация PowerPoint</dc:title>
</cp:coreProperties>
</file>