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53B-934A-4264-A9E0-45A7F6F770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5E5-B49B-4EEF-9497-E483D700DD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AB1-C5E1-4E33-92DA-F7567028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3C9-D670-4BBF-83F3-3E6BCC7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2A7-07B1-4C4C-8C5E-D510195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D59-18FD-44DE-A0C0-8402DB47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526-FB1F-4F6C-BBF3-641FFFC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49A-58C0-4494-98D1-7B8CA04D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0AA-1607-4EB0-8B1A-7EC191F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02B-8F08-4B6E-B47B-C2DCFE3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E8F-90C6-45BD-B8D0-E80B9C0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588-8422-4237-970B-1073E1E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A13-88DC-422C-BAB7-855A776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86A-3CD2-4ACE-BE70-8E57C3E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FF96-1099-48D5-96EF-F670FB4AF004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study.ru/books/kipling_rudyard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18d2880812f"/>
          <p:cNvPicPr/>
          <p:nvPr/>
        </p:nvPicPr>
        <p:blipFill>
          <a:blip r:embed="rId2"/>
          <a:stretch/>
        </p:blipFill>
        <p:spPr>
          <a:xfrm>
            <a:off x="835200" y="907920"/>
            <a:ext cx="2522520" cy="2279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407880" y="2779560"/>
            <a:ext cx="791388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3143160" y="107172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169920" y="2060640"/>
            <a:ext cx="4406760" cy="324000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6" descr=""/>
          <p:cNvPicPr/>
          <p:nvPr/>
        </p:nvPicPr>
        <p:blipFill>
          <a:blip r:embed="rId2"/>
          <a:stretch/>
        </p:blipFill>
        <p:spPr>
          <a:xfrm>
            <a:off x="4762440" y="2060640"/>
            <a:ext cx="398772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3526560" y="557532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kky-Tikky-Tavy</a:t>
            </a:r>
            <a:r>
              <a:rPr b="1" lang="en-US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457200" y="1955880"/>
            <a:ext cx="4475160" cy="3344760"/>
          </a:xfrm>
          <a:prstGeom prst="rect">
            <a:avLst/>
          </a:prstGeom>
          <a:ln w="0">
            <a:noFill/>
          </a:ln>
        </p:spPr>
      </p:pic>
      <p:pic>
        <p:nvPicPr>
          <p:cNvPr id="85" name="Объект 5" descr=""/>
          <p:cNvPicPr/>
          <p:nvPr/>
        </p:nvPicPr>
        <p:blipFill>
          <a:blip r:embed="rId2"/>
          <a:stretch/>
        </p:blipFill>
        <p:spPr>
          <a:xfrm>
            <a:off x="4884840" y="1828800"/>
            <a:ext cx="3809880" cy="3860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1749960" y="577044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the First Letter wa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179280" y="2147760"/>
            <a:ext cx="3745080" cy="300996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5" descr=""/>
          <p:cNvPicPr/>
          <p:nvPr/>
        </p:nvPicPr>
        <p:blipFill>
          <a:blip r:embed="rId2"/>
          <a:stretch/>
        </p:blipFill>
        <p:spPr>
          <a:xfrm>
            <a:off x="4665600" y="2147760"/>
            <a:ext cx="4232160" cy="3009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3326040" y="552276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lephant's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0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606840" cy="562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003"/>
          <p:cNvPicPr/>
          <p:nvPr/>
        </p:nvPicPr>
        <p:blipFill>
          <a:blip r:embed="rId2"/>
          <a:stretch/>
        </p:blipFill>
        <p:spPr>
          <a:xfrm>
            <a:off x="7281720" y="4481640"/>
            <a:ext cx="186228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12"/>
          <p:cNvSpPr/>
          <p:nvPr/>
        </p:nvSpPr>
        <p:spPr>
          <a:xfrm>
            <a:off x="4921200" y="3579840"/>
            <a:ext cx="3855960" cy="1079640"/>
          </a:xfrm>
          <a:prstGeom prst="wedgeRectCallout">
            <a:avLst>
              <a:gd name="adj1" fmla="val -5273"/>
              <a:gd name="adj2" fmla="val 104000"/>
            </a:avLst>
          </a:prstGeom>
          <a:solidFill>
            <a:srgbClr val="33cc3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t’s remember this fairy tal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5108400" y="428292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t that Walked by Him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003"/>
          <p:cNvPicPr/>
          <p:nvPr/>
        </p:nvPicPr>
        <p:blipFill>
          <a:blip r:embed="rId2"/>
          <a:stretch/>
        </p:blipFill>
        <p:spPr>
          <a:xfrm>
            <a:off x="214200" y="4857840"/>
            <a:ext cx="1871640" cy="21603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ая прямоугольная выноска 5"/>
          <p:cNvSpPr/>
          <p:nvPr/>
        </p:nvSpPr>
        <p:spPr>
          <a:xfrm>
            <a:off x="2428920" y="5929200"/>
            <a:ext cx="5000760" cy="612720"/>
          </a:xfrm>
          <a:prstGeom prst="wedgeRoundRectCallout">
            <a:avLst>
              <a:gd name="adj1" fmla="val -60833"/>
              <a:gd name="adj2" fmla="val -88574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аких зверей приручила Женщин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G:\Новая папка\35.jpg"/>
          <p:cNvPicPr/>
          <p:nvPr/>
        </p:nvPicPr>
        <p:blipFill>
          <a:blip r:embed="rId1"/>
          <a:stretch/>
        </p:blipFill>
        <p:spPr>
          <a:xfrm>
            <a:off x="642960" y="2143080"/>
            <a:ext cx="274464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G:\Новая папка\37.jpg"/>
          <p:cNvPicPr/>
          <p:nvPr/>
        </p:nvPicPr>
        <p:blipFill>
          <a:blip r:embed="rId2"/>
          <a:stretch/>
        </p:blipFill>
        <p:spPr>
          <a:xfrm>
            <a:off x="3571920" y="1714680"/>
            <a:ext cx="2473200" cy="306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G:\Новая папка\b06999e16b59.jpg"/>
          <p:cNvPicPr/>
          <p:nvPr/>
        </p:nvPicPr>
        <p:blipFill>
          <a:blip r:embed="rId3"/>
          <a:stretch/>
        </p:blipFill>
        <p:spPr>
          <a:xfrm>
            <a:off x="6215040" y="20718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03"/>
          <p:cNvPicPr/>
          <p:nvPr/>
        </p:nvPicPr>
        <p:blipFill>
          <a:blip r:embed="rId4"/>
          <a:stretch/>
        </p:blipFill>
        <p:spPr>
          <a:xfrm>
            <a:off x="214200" y="0"/>
            <a:ext cx="187164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ая прямоугольная выноска 6"/>
          <p:cNvSpPr/>
          <p:nvPr/>
        </p:nvSpPr>
        <p:spPr>
          <a:xfrm>
            <a:off x="2916360" y="773280"/>
            <a:ext cx="5286240" cy="612720"/>
          </a:xfrm>
          <a:prstGeom prst="wedgeRoundRectCallout">
            <a:avLst>
              <a:gd name="adj1" fmla="val -60833"/>
              <a:gd name="adj2" fmla="val -88574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What are their names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кругленная прямоугольная выноска 7"/>
          <p:cNvSpPr/>
          <p:nvPr/>
        </p:nvSpPr>
        <p:spPr>
          <a:xfrm>
            <a:off x="642960" y="4325760"/>
            <a:ext cx="2744640" cy="61308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ая прямоугольная выноска 8"/>
          <p:cNvSpPr/>
          <p:nvPr/>
        </p:nvSpPr>
        <p:spPr>
          <a:xfrm>
            <a:off x="3059280" y="5292720"/>
            <a:ext cx="3825720" cy="61272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кругленная прямоугольная выноска 9"/>
          <p:cNvSpPr/>
          <p:nvPr/>
        </p:nvSpPr>
        <p:spPr>
          <a:xfrm>
            <a:off x="6229440" y="4325760"/>
            <a:ext cx="2685960" cy="61308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48880" y="221940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eat oats and hay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ove to run fast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et people ride on my back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4" descr=""/>
          <p:cNvPicPr/>
          <p:nvPr/>
        </p:nvPicPr>
        <p:blipFill>
          <a:blip r:embed="rId1"/>
          <a:stretch/>
        </p:blipFill>
        <p:spPr>
          <a:xfrm>
            <a:off x="4284720" y="23241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8440" y="221940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eat grass and h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ive milk for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3995640" y="2635200"/>
            <a:ext cx="459900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246384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'm very smart and I like to play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ike to smell things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can wag my tail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Объект 4" descr=""/>
          <p:cNvPicPr/>
          <p:nvPr/>
        </p:nvPicPr>
        <p:blipFill>
          <a:blip r:embed="rId1"/>
          <a:stretch/>
        </p:blipFill>
        <p:spPr>
          <a:xfrm>
            <a:off x="3851280" y="2487600"/>
            <a:ext cx="49449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'm a soft and furry pet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sharp teeth and claws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like to chase mice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Объект 4" descr=""/>
          <p:cNvPicPr/>
          <p:nvPr/>
        </p:nvPicPr>
        <p:blipFill>
          <a:blip r:embed="rId1"/>
          <a:stretch/>
        </p:blipFill>
        <p:spPr>
          <a:xfrm>
            <a:off x="4900680" y="2747880"/>
            <a:ext cx="3343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ая прямоугольная выноска 4"/>
          <p:cNvSpPr/>
          <p:nvPr/>
        </p:nvSpPr>
        <p:spPr>
          <a:xfrm>
            <a:off x="5514840" y="3139920"/>
            <a:ext cx="2376720" cy="1284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8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G:\Новая папка\2.jpg"/>
          <p:cNvPicPr/>
          <p:nvPr/>
        </p:nvPicPr>
        <p:blipFill>
          <a:blip r:embed="rId1"/>
          <a:stretch/>
        </p:blipFill>
        <p:spPr>
          <a:xfrm>
            <a:off x="941400" y="549360"/>
            <a:ext cx="3674880" cy="568800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6" descr="003"/>
          <p:cNvPicPr/>
          <p:nvPr/>
        </p:nvPicPr>
        <p:blipFill>
          <a:blip r:embed="rId2"/>
          <a:stretch/>
        </p:blipFill>
        <p:spPr>
          <a:xfrm>
            <a:off x="7197840" y="4697280"/>
            <a:ext cx="194616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140360" y="3139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жозе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дьяр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ипл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457680" y="5300640"/>
            <a:ext cx="26859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Ваш Кот Учё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(Гарфил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Выноска-облако 4"/>
          <p:cNvSpPr/>
          <p:nvPr/>
        </p:nvSpPr>
        <p:spPr>
          <a:xfrm>
            <a:off x="684360" y="847800"/>
            <a:ext cx="4214520" cy="1143000"/>
          </a:xfrm>
          <a:prstGeom prst="cloudCallout">
            <a:avLst>
              <a:gd name="adj1" fmla="val 62828"/>
              <a:gd name="adj2" fmla="val 71388"/>
            </a:avLst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Д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НОВЫХ ВСТРЕЧ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003"/>
          <p:cNvPicPr/>
          <p:nvPr/>
        </p:nvPicPr>
        <p:blipFill>
          <a:blip r:embed="rId2"/>
          <a:stretch/>
        </p:blipFill>
        <p:spPr>
          <a:xfrm>
            <a:off x="1187280" y="836640"/>
            <a:ext cx="53895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68280"/>
            <a:ext cx="67993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Презентацию выполнила: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 Кондрашова Нина Николаевна,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учитель начальных классов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МБОУ «СОШ №114»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 города Барнаула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8360" y="3043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Какие сказки Р.Киплинга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вы знаете?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620640"/>
            <a:ext cx="77724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44546a"/>
                </a:solidFill>
                <a:latin typeface="Calibri"/>
              </a:rPr>
              <a:t>What Kipling’s fairy tales do you know </a:t>
            </a:r>
            <a:r>
              <a:rPr b="1" lang="ru-RU" sz="4400" spc="-1" strike="noStrike">
                <a:solidFill>
                  <a:srgbClr val="44546a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003"/>
          <p:cNvPicPr/>
          <p:nvPr/>
        </p:nvPicPr>
        <p:blipFill>
          <a:blip r:embed="rId1"/>
          <a:stretch/>
        </p:blipFill>
        <p:spPr>
          <a:xfrm>
            <a:off x="7197840" y="4697280"/>
            <a:ext cx="1946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Новая папка\9.jpg"/>
          <p:cNvPicPr/>
          <p:nvPr/>
        </p:nvPicPr>
        <p:blipFill>
          <a:blip r:embed="rId1"/>
          <a:stretch/>
        </p:blipFill>
        <p:spPr>
          <a:xfrm rot="21117600">
            <a:off x="847440" y="835200"/>
            <a:ext cx="1904760" cy="24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Новая папка\1.jpg"/>
          <p:cNvPicPr/>
          <p:nvPr/>
        </p:nvPicPr>
        <p:blipFill>
          <a:blip r:embed="rId2"/>
          <a:stretch/>
        </p:blipFill>
        <p:spPr>
          <a:xfrm>
            <a:off x="3230640" y="695160"/>
            <a:ext cx="2798640" cy="400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G:\Новая папка\011246b.jpg"/>
          <p:cNvPicPr/>
          <p:nvPr/>
        </p:nvPicPr>
        <p:blipFill>
          <a:blip r:embed="rId3"/>
          <a:stretch/>
        </p:blipFill>
        <p:spPr>
          <a:xfrm rot="301800">
            <a:off x="6413040" y="1093320"/>
            <a:ext cx="1781280" cy="231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G:\Новая папка\12.jpg"/>
          <p:cNvPicPr/>
          <p:nvPr/>
        </p:nvPicPr>
        <p:blipFill>
          <a:blip r:embed="rId4"/>
          <a:stretch/>
        </p:blipFill>
        <p:spPr>
          <a:xfrm rot="21095400">
            <a:off x="1266840" y="3609720"/>
            <a:ext cx="1798560" cy="234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G:\Новая папка\26.jpg"/>
          <p:cNvPicPr/>
          <p:nvPr/>
        </p:nvPicPr>
        <p:blipFill>
          <a:blip r:embed="rId5"/>
          <a:stretch/>
        </p:blipFill>
        <p:spPr>
          <a:xfrm rot="349200">
            <a:off x="6316200" y="3779640"/>
            <a:ext cx="17272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14400" y="549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                      </a:t>
            </a: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«Просьба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По вкусу если труд был мой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Кому-нибудь из вас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Пусть буду скрыт я темнотой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Что к вам придет в свой час.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И, память обо мне храня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Один короткий миг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Расспрашивайте про меня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Лишь у моих же кни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                                                </a:t>
            </a: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Р.Киплин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8908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9"/>
          <p:cNvSpPr txBox="1"/>
          <p:nvPr/>
        </p:nvSpPr>
        <p:spPr>
          <a:xfrm>
            <a:off x="2143080" y="428760"/>
            <a:ext cx="4643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80760" y="2411280"/>
            <a:ext cx="434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езнамо когда, в предавние год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юди и звери жили одним род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дним большим народо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село велось да заказалос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 кое-что в книжку записало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360360"/>
            <a:ext cx="4681440" cy="1187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5222880" y="1289160"/>
            <a:ext cx="31273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 Light"/>
              </a:rPr>
              <a:t>Какая сказка так начинается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beginning of years, when the world was so new and all, and the Animals were just beginning to work for Man, there was a Camel, and he lived in the middle of a Howling Desert because he did not want to wor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the Camel got his Hump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к верблюд получил свой горб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003"/>
          <p:cNvPicPr/>
          <p:nvPr/>
        </p:nvPicPr>
        <p:blipFill>
          <a:blip r:embed="rId1"/>
          <a:stretch/>
        </p:blipFill>
        <p:spPr>
          <a:xfrm>
            <a:off x="7164360" y="4221000"/>
            <a:ext cx="1862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 Light"/>
              </a:rPr>
              <a:t>Из какой сказки этот отрывок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1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Man!” he snapped. “A man's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hild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. Look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Directly in front of him stood a naked brown baby who could just walk—he came to a wolf. He looked up into Father Wolf's face, and laug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Is that a man's cub?” said Mother Wolf. “I have never seen one. Bring it 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2800" spc="-1" strike="noStrike">
                <a:solidFill>
                  <a:srgbClr val="262626"/>
                </a:solidFill>
                <a:latin typeface="Calibri"/>
              </a:rPr>
              <a:t>The Jungle Book (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Книга Джунгл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3"/>
          <p:cNvPicPr/>
          <p:nvPr/>
        </p:nvPicPr>
        <p:blipFill>
          <a:blip r:embed="rId1"/>
          <a:stretch/>
        </p:blipFill>
        <p:spPr>
          <a:xfrm>
            <a:off x="7281720" y="4724280"/>
            <a:ext cx="1862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74600" y="2133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4" descr=""/>
          <p:cNvPicPr/>
          <p:nvPr/>
        </p:nvPicPr>
        <p:blipFill>
          <a:blip r:embed="rId2"/>
          <a:stretch/>
        </p:blipFill>
        <p:spPr>
          <a:xfrm>
            <a:off x="4940280" y="2133720"/>
            <a:ext cx="403704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2057760" y="562140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the Whale got his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27:27Z</dcterms:created>
  <dc:creator>Я</dc:creator>
  <dc:description/>
  <dc:language>en-US</dc:language>
  <cp:lastModifiedBy>Пользователь Windows</cp:lastModifiedBy>
  <dcterms:modified xsi:type="dcterms:W3CDTF">2015-01-31T15:29:29Z</dcterms:modified>
  <cp:revision>92</cp:revision>
  <dc:subject/>
  <dc:title>киплинг</dc:title>
</cp:coreProperties>
</file>