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4D43-1092-4646-9F6B-8E0D58348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A5F2-A625-4E54-857E-FE60CC99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23A1-3F77-46C4-8CFA-169D88CD1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BEAC-A2E9-439C-91F5-E13872857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1087-7B12-41D7-ACFF-37F4A61B8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B0EF-E6D6-4E80-AAA8-852DC295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9D44-3E4F-48DA-9AD0-CA204DAF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D7E1-AC92-4616-98B2-D4380E8E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287A-6060-4D12-8002-0A55A020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6DE4-45B9-477E-B32C-53DEBB02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3B2A-9DA5-4F9B-9F22-683F2A49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5CDE-FF98-4728-A1AF-6A168A22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F08E-56D9-46D3-A9A2-E8E62240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6D10-17F6-4190-B28D-39C4417A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9238-A549-4A71-A60A-FC6F4FC5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FE0F-0560-4A90-857D-2D639FB77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7919-6DA9-498B-A852-35140A91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8EE199-48F1-4304-A938-4E182867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248EC5-A123-4EDB-81CC-7D2203CA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C8BDBF-6E59-4EF3-A5D4-5D0D510D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C9E6D4-4883-4488-8D0D-AFCCFCB3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F8685F-1840-4084-B692-757E1DAA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440E-AC7C-404D-8383-0B9824B6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3EEA58-40F4-4B1E-A2EB-60334932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11963D-E1FF-4101-BF1E-B2EC33AE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4EE312-7C21-4E06-A3C1-CB3A29A2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DB71A4-FC78-43A0-BB73-4636DACB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39486B-A1FA-4177-9C20-D01C1D9C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0E7C79-6332-425E-96AA-27863AE62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952541-DB7C-4E5F-BED3-D405AC6BF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43FD7-2FE0-4BD0-8D35-932011F2D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DDB75-FDE1-4F8F-9454-37FCE6EB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368F5-F1C8-486B-9D68-2DBB0E16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697F-7AB5-4983-8171-7694117E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D20D2-A552-45BA-AF0B-0913D19E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0FEBF-F85D-4C86-A442-FBCA8830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44BE7-5D10-498A-9F29-79777B38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56B1D-A3E7-4F17-B32E-1DBF5F0B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BEAE2-36D7-4EF7-AFBB-C0077893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7BB30-79FC-4D8F-838E-F43B6B27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F5A87-D4BE-4831-A278-0AA420D9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41A07-4091-43FE-BF76-0250CE683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28C16-B208-47E3-9429-DC3BAE9EC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DEE30B-1AFC-4509-9449-1AC019BE3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4497-6814-4180-9691-C4A21146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EE6A26-EC33-4177-BDDD-404DE7CB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FD6457-6E94-45AC-AAA5-5DC393E2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3089EE-12EF-4A61-BA26-C8932D61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E61AD3-EB8B-432F-B378-BBDF076A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C3858F-D389-419D-8D61-E9732192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A699A0-8D86-4904-92C4-14FA437F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876887-8C3C-4A85-8BCD-B9D2F04A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88CC3A-6D6D-4277-B4BB-0071F016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4F3D68-2B4D-41AC-BB87-58FB743E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CAAE37-CE80-410D-87AC-CAB69E5F2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B895-9638-48FC-900C-B359B0A1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B2CD7F-1A8F-4FFE-B886-3CCDA6F9C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35E77C-5AF5-4A0E-B30C-146BEC4C8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E5E0AA-A3B4-4DAB-B249-D1208E48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789154-07E2-4296-8AF2-6FF39E99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922761-1D16-4BC6-8EAF-2293943C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D578F5-C2DD-4E2B-990C-F23F9394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91AE06-DCBD-44CD-B6CB-C95576CA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17CFE1-C6C7-448F-90BB-F756E9DA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571501-1774-4F2E-A0A2-5075F8A0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63848D-0190-4B56-9681-79E3ED3F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C349-697D-4182-88B1-9853A737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E5968D-8E72-403C-B234-1BC46D87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F41B56-B60A-4165-B657-0864F4BC9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CE8642-E364-4442-97C3-6E974045F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38957B-8152-4508-9C70-A68E51ECC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E83602-670B-4D2F-B37E-93755519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161C73-8199-4BA4-AA11-D789273B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948550-5439-4CE4-AB5D-6B4581BB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8F36C9-0852-4E19-ACB8-E648A236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C0A117-3684-4A42-9F09-B39E705D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1D0EC0-605D-442F-9D2F-671EEF17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B2ED-C373-4B42-8510-44371E4F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605976-92CB-438B-9FF4-42ED2947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7E8724-838F-4959-85CA-4E1458C9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3D170E-AAA3-4C83-87EA-EA10500D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18097F-FEB7-49A8-AC39-3F97FAAB2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1C2D20-F872-483F-A3E9-EC00D8CEA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C20B-B3E5-4E32-B621-450BC462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2A29-239C-4B29-AE36-CB5EF3CF6BD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203B-DFB4-4CC3-8C11-359F411595E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1844-BB52-45DE-87F8-DB1667C09E2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A583-7794-48B2-9D77-FD68923559F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277B-4FDC-4246-96C0-94BD9A0FF81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0C75-F72F-4024-9690-D3C993137E8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45C0-37F5-4C3E-8803-9E37AA07834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63280" y="19886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75c01"/>
                </a:solidFill>
                <a:latin typeface="Century Schoolbook"/>
              </a:rPr>
              <a:t>ЛИЧНОСТНО-ОРИЕНТИРОВАННАЯ ТЕХНОЛОГ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788000" y="4076280"/>
            <a:ext cx="4032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карева И.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МКДОУ детский сад 15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TextBox 4"/>
          <p:cNvSpPr/>
          <p:nvPr/>
        </p:nvSpPr>
        <p:spPr>
          <a:xfrm>
            <a:off x="3348000" y="602136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Красноуфимс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e75c01"/>
                </a:solidFill>
                <a:latin typeface="Century Schoolbook"/>
              </a:rPr>
              <a:t>ПОПУЛЯРНОСТЬ ЛИЧНОСТНО-ОРИЕНТИРОВАННЫХ ТЕХНОЛОГИИ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8000" y="2060280"/>
            <a:ext cx="8040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Динамическое развитие российского общества требует формирования в человеке не столько социально типичного, сколько ярко индивидуального, позволяющего ребенку стать и оставаться самим собой в быстро изменяющемся социуме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6039000" y="3233880"/>
            <a:ext cx="2398680" cy="32875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3005280" y="3497400"/>
            <a:ext cx="3024000" cy="30240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3"/>
          <a:stretch/>
        </p:blipFill>
        <p:spPr>
          <a:xfrm>
            <a:off x="96840" y="3330720"/>
            <a:ext cx="308304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456840" y="1599840"/>
            <a:ext cx="746748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сихологи и педагоги отмечают появление у современных детей раскрепощенной, некоторой прагматичности, что  требует от педагогов применения новых подходов и методов во взаимодействии с детьми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7608960" cy="12686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" descr=""/>
          <p:cNvPicPr/>
          <p:nvPr/>
        </p:nvPicPr>
        <p:blipFill>
          <a:blip r:embed="rId2"/>
          <a:stretch/>
        </p:blipFill>
        <p:spPr>
          <a:xfrm>
            <a:off x="4770360" y="3357720"/>
            <a:ext cx="3378240" cy="33717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"/>
          <p:cNvPicPr/>
          <p:nvPr/>
        </p:nvPicPr>
        <p:blipFill>
          <a:blip r:embed="rId3"/>
          <a:stretch/>
        </p:blipFill>
        <p:spPr>
          <a:xfrm>
            <a:off x="755640" y="3649680"/>
            <a:ext cx="399420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6840" y="1600200"/>
            <a:ext cx="746748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Современное образование нуждается в гуманизации отношений детей и взрослых, в его демократизации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608960" cy="12686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"/>
          <p:cNvPicPr/>
          <p:nvPr/>
        </p:nvPicPr>
        <p:blipFill>
          <a:blip r:embed="rId2"/>
          <a:stretch/>
        </p:blipFill>
        <p:spPr>
          <a:xfrm>
            <a:off x="755640" y="4079880"/>
            <a:ext cx="2451240" cy="24526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"/>
          <p:cNvPicPr/>
          <p:nvPr/>
        </p:nvPicPr>
        <p:blipFill>
          <a:blip r:embed="rId3"/>
          <a:stretch/>
        </p:blipFill>
        <p:spPr>
          <a:xfrm>
            <a:off x="5435640" y="2637000"/>
            <a:ext cx="3025800" cy="3897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"/>
          <p:cNvPicPr/>
          <p:nvPr/>
        </p:nvPicPr>
        <p:blipFill>
          <a:blip r:embed="rId4"/>
          <a:stretch/>
        </p:blipFill>
        <p:spPr>
          <a:xfrm>
            <a:off x="3367080" y="4195800"/>
            <a:ext cx="1844640" cy="23335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7" descr=""/>
          <p:cNvPicPr/>
          <p:nvPr/>
        </p:nvPicPr>
        <p:blipFill>
          <a:blip r:embed="rId5"/>
          <a:stretch/>
        </p:blipFill>
        <p:spPr>
          <a:xfrm>
            <a:off x="3206880" y="2637000"/>
            <a:ext cx="2165400" cy="14382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8" descr=""/>
          <p:cNvPicPr/>
          <p:nvPr/>
        </p:nvPicPr>
        <p:blipFill>
          <a:blip r:embed="rId6"/>
          <a:stretch/>
        </p:blipFill>
        <p:spPr>
          <a:xfrm>
            <a:off x="1184400" y="2637000"/>
            <a:ext cx="1805040" cy="11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755280" y="765000"/>
            <a:ext cx="746748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Личностно - ориентированные технологии ставят в центр всей системы дошкольного образования личность ребенка, обеспечение комфортных условий в семье и дошкольном учреждении, бесконфликтных и безопасных условий ее развития, реализацию имеющихся природных потенциалов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5870520" y="2421000"/>
            <a:ext cx="2805120" cy="3825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2946240" y="2505240"/>
            <a:ext cx="2705400" cy="3741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73" name="Picture 4" descr=""/>
          <p:cNvPicPr/>
          <p:nvPr/>
        </p:nvPicPr>
        <p:blipFill>
          <a:blip r:embed="rId3"/>
          <a:stretch/>
        </p:blipFill>
        <p:spPr>
          <a:xfrm>
            <a:off x="250920" y="2522520"/>
            <a:ext cx="2466720" cy="32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5T13:28:42Z</dcterms:created>
  <dc:creator>1</dc:creator>
  <dc:description/>
  <dc:language>en-US</dc:language>
  <cp:lastModifiedBy>1</cp:lastModifiedBy>
  <dcterms:modified xsi:type="dcterms:W3CDTF">2015-01-31T16:48:25Z</dcterms:modified>
  <cp:revision>14</cp:revision>
  <dc:subject/>
  <dc:title>ЛИЧНОСТНО-ОРИЕНТИРОВАННАЯ ТЕХНОЛОГИЯ</dc:title>
</cp:coreProperties>
</file>