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987-F4FF-4152-A5B1-6BEF7D34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861-1FFE-484B-870D-33C89FA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7E3-B872-40AF-922A-8736DC51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018-8F0A-4401-AE22-ECAF5FC8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31EC-B8B4-4DB5-9140-F26425E0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450F-7C14-4AAE-BA71-8E601A56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C8D2-AFBE-41FF-B3BD-5FF546C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902C-9A7B-4F43-BDCA-9143FCD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5363-AD43-4E4A-9BDA-20DDBC2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307E-E6D4-4A37-AB4E-881355BC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438A-777A-47E2-BBAB-BC54FA9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255-54E1-4205-9A1D-C1DE553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0E0-6217-46FD-B809-0187146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B4DE-2D8D-40F4-BF6B-622F259D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F5D4-9409-4175-AB37-6A6FF14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396-62A2-4623-A19F-42C60D4C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F42F-0D1C-4DBA-B10F-740186D3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7C2D7-AE9D-4CDF-AAC2-682AC962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BD388-BD1E-4CC8-8516-A0933CB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801C9-1E7B-47C8-A0EA-DCDD4BD6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EB543-C4BB-4F77-9BA7-FDB69607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C78F5-78C8-4E9F-8406-C779754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56C-F3C3-431C-9E4C-1FA34660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1208D-6E32-4AF4-AD43-6FE7F14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569BE-4D28-4880-A614-6971861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7AA5B-6C3D-430F-93F4-19D22BF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D46D-7A63-4F7D-937B-215DB2D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E67D5-0DBE-4F68-9275-4D19CEBD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E8953-7E45-44A5-9FCC-AA51D276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24810-85B6-49E3-BB61-C5BF5F1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288C-3DBC-4B09-9FDD-F586633A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263A-377E-4A89-88CB-7B5E75B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7C81-E971-4348-BAC6-6FD72D6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144-8B37-4AE5-8DD0-8435E16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6180-3141-4617-9E93-7E43D61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AB34-B4BB-4E67-B4B0-4F075767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21C4-4C60-4293-8736-3E893C8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C18B-CF4A-40A5-A059-AEFC53F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7D4B-54C1-4A3F-A1F9-3E8A0C5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C156-41D0-4D30-9659-A961B32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4F26-E647-425F-AAB6-03D490D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432A-B8DC-434C-A8FE-1E3024AE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3577-8AF5-4117-B0E7-10BF7E4E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D9A3D-5220-46DD-ACE5-8AF82CC3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06A-9F1F-4EEB-96B6-5D2D058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73E1D-AE9F-4336-839B-B36977C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C0872-C4D0-4FED-947E-AB1ADAA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6BE57-53D4-4662-ACC3-5850F08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18222-67CC-449B-9F38-D7B5B0D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3625B-0752-4AC3-A147-D78ADCB0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1EB1D-85D1-4633-A123-FD0A7C9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100C3-333A-4D61-8671-80497022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89EA3-1C00-4990-9666-F4DB1D5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0B66A-4671-4FDB-B571-143C4814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3AEC8-9A91-4529-9624-10065987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815-ECC2-45E1-9A70-BCEA980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71DA9-7E88-4489-B148-ED66D7B6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54C71-5FB4-4E9C-A944-B203890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56BD1-682E-4745-B533-454B76D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04969-62E0-47D1-845C-62E21C8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9B0CE-4CCF-4123-A8EC-2EEA02F8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8C56D-6314-4FC0-9424-BDB88D4C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A2557-8168-4B63-80D9-89DD45E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8DB34-CBA3-4F6F-BE6A-1407A6E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6A869-6152-412A-B63A-F2222122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91745-3BF0-4FA6-B25A-9E263B3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EB0-5DB0-413C-BBAA-9ADBC42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6D77D-CBBF-4AEF-87E5-D1F247E7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DE305-0EAD-4DF5-80B0-16A4220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6E91F-D99B-471B-B5F9-2A025AE0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5BBC7-0C4F-4670-B125-F2DB380A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3FE47-824E-40D5-8C6B-D19881F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7D188-C5D8-48BC-9E0F-3355CC6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2E4EB-61CA-41B0-A005-A562C05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7118F-891F-4FC8-B691-343DAFE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F3F44-3E85-4574-BCBF-AC79D8A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A7461-2F2C-4DB4-9A5C-304322B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AC2-83F4-421D-A63F-204C326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859A3-3D76-41F5-9A96-36480D64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ADCE6-7352-43E9-947C-73C69DF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F4CB4-0409-4D9E-B301-42DDC1D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EC3EC-685E-496E-BC4B-48389392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36DBC-CECE-4D67-B67E-A208C0C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AB1-32A5-4FB7-993E-3A4A556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205-A5F1-437C-97A4-0CCFA82C18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2F4-F5A1-42C7-855E-C583423094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A59D-3E91-4B6F-8F38-917A57EFB2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610-A5FD-480D-BD8D-08D1DA693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8E63-AD07-425D-B97E-DC502ACD41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BD5-0FDA-4FFD-8852-2BB57B9F05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7C17-EE96-47CA-B261-B1F3085413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АЯ ТЕХНОЛОГ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788000" y="4076280"/>
            <a:ext cx="403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арева И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КДОУ детский сад 1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3348000" y="6021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расноуфимс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75c01"/>
                </a:solidFill>
                <a:latin typeface="Century Schoolbook"/>
              </a:rPr>
              <a:t>ПОПУЛЯРНОСТЬ ЛИЧНОСТНО-ОРИЕНТИРОВАННЫХ ТЕХНОЛОГИИ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2060280"/>
            <a:ext cx="8040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инамическое развитие российского общества требует формирования в человеке не столько социально типичного, сколько ярко индивидуального, позволяющего ребенку стать и оставаться самим собой в быстро изменяющемся социум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039000" y="3233880"/>
            <a:ext cx="2398680" cy="3287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3005280" y="349740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96840" y="3330720"/>
            <a:ext cx="308304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1599840"/>
            <a:ext cx="7467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сихологи и педагоги отмечают появление у современных детей раскрепощенной, некоторой прагматичности, что  требует от педагогов применения новых подходов и методов во взаимодействии с деть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608960" cy="1268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4770360" y="3357720"/>
            <a:ext cx="3378240" cy="3371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3"/>
          <a:stretch/>
        </p:blipFill>
        <p:spPr>
          <a:xfrm>
            <a:off x="755640" y="3649680"/>
            <a:ext cx="39942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ременное образование нуждается в гуманизации отношений детей и взрослых, в его демократизац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608960" cy="1268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755640" y="4079880"/>
            <a:ext cx="2451240" cy="2452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25800" cy="3897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4"/>
          <a:stretch/>
        </p:blipFill>
        <p:spPr>
          <a:xfrm>
            <a:off x="3367080" y="4195800"/>
            <a:ext cx="1844640" cy="2333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3206880" y="2637000"/>
            <a:ext cx="2165400" cy="1438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6"/>
          <a:stretch/>
        </p:blipFill>
        <p:spPr>
          <a:xfrm>
            <a:off x="1184400" y="2637000"/>
            <a:ext cx="18050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280" y="765000"/>
            <a:ext cx="746748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чностно - 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ю имеющихся природных потенциа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870520" y="2421000"/>
            <a:ext cx="2805120" cy="38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2946240" y="2505240"/>
            <a:ext cx="2705400" cy="374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250920" y="2522520"/>
            <a:ext cx="2466720" cy="32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48:25Z</dcterms:modified>
  <cp:revision>14</cp:revision>
  <dc:subject/>
  <dc:title>ЛИЧНОСТНО-ОРИЕНТИРОВАННАЯ ТЕХНОЛОГИЯ</dc:title>
</cp:coreProperties>
</file>