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262-EB02-4681-8D5A-AB47C52F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AA6-DD98-41A8-9BF2-69AE77D3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5E5F-9810-4A2D-85BC-A444DD6F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4F74-E17C-42AD-AB66-ECAB847E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32EE-E0A7-4113-9991-5C2A8189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8003-A95A-448F-B913-4B0EDDED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C8F1-516A-4A87-8CFC-160E1BF6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0A44-9276-4F1E-88F8-DE4AA529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D9A9-5E74-4E21-BED1-64C2976B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1043-0885-4306-B985-A9B116EE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057A-99DD-4990-BD0C-A0CE8D9B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470C-8915-4979-B78C-7CA99BD0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DB21-DB3B-4FC2-B894-6490E40E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ECA9-F7A9-4535-90B9-1077F376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820C-3EAB-458F-9467-6C27C7C2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FABC-9F41-479D-A2DB-8350B09F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BDC5-EEF7-492D-B7CC-73E5251D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D6642C-104A-4E09-A860-D1BBFBCC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27FB45-E83C-459F-93A8-BB7FC462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CFCEF-AB7A-41F9-974B-C0F06F3C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58F42-F216-48B4-BEC2-77FE0B40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3552B7-D1DD-4E1A-9B84-F2CC3988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6F21-21A4-4685-813B-688614E4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359B5-C533-41E0-A21C-50F0171C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EB27F-DF46-489D-AFB9-9438FC23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27509-38A4-4445-9772-7B7D3305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5FBCD8-3401-4C63-B4D0-D90E6262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5B9F0-7A4C-4B80-859E-8F64D78F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A67DF-CEDB-4EAC-8B68-F22CC155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3DB87-5999-406B-9465-2D548551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1BC7C-B5B8-490E-9757-B097395E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B1DC8-9871-41F3-BD9F-6111B27E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FDDE4-F437-40E1-83CF-18CDAEF4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53DC-0272-4A86-B65E-5E983BB8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3CEC6-D47C-40CE-8303-85549A92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643C3-3A84-4105-8975-6786B887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F7CEE-91A6-4150-A37D-1B602C99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4E940-BF43-494D-BE9B-EB5D543A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DA7A3-F07E-4D49-A7D9-C4A894F2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6963A-AAF2-4BCB-8450-B04B506F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9282C-39EF-4395-9712-A6021197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81979-117F-4045-A1A2-009C8000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25756-98A5-47FE-8470-F9D34A3B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9917D-5505-4F68-851B-0EF09DEA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A96E-1264-4565-AEDE-49CB5B14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8E5DFD-60FE-40B2-8ED1-3303EAEF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884FAC-8285-49F3-8D1C-AE38F9DD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4AE72-92EA-4E27-87C6-8AB52378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F07710-F053-4C55-9CF6-0E88299A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F7314-B87E-40C5-B539-4AD77A3A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72E393-9768-4035-9096-A906ABCF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A56986-4405-4AA7-8E29-64EE5F45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C30256-8C64-44F0-8B72-7A3A7F36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83B74E-A811-478C-93B2-419F5DA3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BA7C23-F64B-4E8B-ABFE-2DDC0F19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3F89-8EF4-4641-B106-58CBBA7E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30763B-25C6-4C92-92FD-F1A13937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DF76D3-4571-4671-A6B4-5A1B52F6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5B5B77-CBE1-4A41-ABEC-242C68A8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1C3DCA-1E64-4C49-8401-FDBA9007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6ADDEB-E156-4B1B-98B6-F97B405B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A95C3-E43A-4D41-BB00-C3FBF1D3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250BD7-B750-4C34-8AB3-71D14EFE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4B0B8B-CE54-48BC-AAC8-CC10E666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1D66E-8CD3-43D5-8F21-68F68578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CBF3E3-BBD4-46E7-8F35-5ED4A916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3B84-E4FB-4943-8CF3-AF670416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DFB58D-2C6C-40CD-9EEF-AB488954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B75AF4-3DEC-483A-A8F8-B98904F2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CC6C8C-4DF5-4CD5-B33D-AA0DDC4C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E2622F-068F-440B-9CB0-C1310946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1F5633-5409-43C7-866A-B8F37ADC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C1DEA5-8789-438A-8D64-69B3AE30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EA09A8-8650-4535-9D48-0F2F2B98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BEAEB5-ECFA-4DF0-A475-21A2431D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2F4EE0-D6F1-4CF3-B8D9-77DB5452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F85C8A-F08E-4DF9-B171-0CF5FC9C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8B9-60C0-4938-A273-E14F481F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1CF973-8B50-4AEA-A466-2BFAC1D0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0BCC3D-EEEB-4020-B029-60AEA86F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B6FB01-406C-49FF-9DFF-F3D297E3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C29BFF-1005-468F-958A-94476F3C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3CBE05-07D8-4E4A-BB6A-3513E882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76D-29C4-4907-832A-0DE0E051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40E7-3B1A-4C61-884B-4C84D8BCDF3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FC58-0D53-46CD-BE73-7FB20ED187C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9E5A-4371-4AB2-B1E8-2BBDD4095C8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A8BF-4CA2-4DB7-9F12-AC2D8F898C7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2067-12F0-4987-AE9E-8D77A1E0376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C484-CA73-464B-9DE8-FC4D25472CF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5EEC-628D-44F6-8B4C-80CE3775690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Century Schoolbook"/>
              </a:rPr>
              <a:t>ЛИЧНОСТНО-ОРИЕНТИРОВАННАЯ ТЕХНОЛОГ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4920" y="2133720"/>
            <a:ext cx="7467480" cy="16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дагогическая поддерж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нципы построения процесса воспитания и обуч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4395600" cy="3051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4859280" y="3073320"/>
            <a:ext cx="3475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Century Schoolbook"/>
              </a:rPr>
              <a:t>ПЕДАГОГИЧЕСКАЯ ПОДДЕРЖК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ятельность педагога по оказанию помощи детям в решении их индивидуальных проблем, связанных с физическим и психическим здоровьем, общением, успехами в образов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468360" y="3645000"/>
            <a:ext cx="3963960" cy="27367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2"/>
          <a:stretch/>
        </p:blipFill>
        <p:spPr>
          <a:xfrm>
            <a:off x="4570560" y="3645000"/>
            <a:ext cx="390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75c01"/>
                </a:solidFill>
                <a:latin typeface="Century Schoolbook"/>
              </a:rPr>
              <a:t>ПРИНЦИПЫ ПОСТРОЕНИЯ ПРОЦЕССА ВОСПИТАНИЯ И ОБУЧЕН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0920" y="2565000"/>
            <a:ext cx="746748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оактуализац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ост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бор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ворчества и успех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верия и поддерж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Century Schoolbook"/>
              </a:rPr>
              <a:t>ПРИНЦИП САМОАКТУАЛИЗАЦИ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каждом ребенке существует потребность в актуализации своих интеллектуальных, коммуникативных, художественных и физических способност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4057560" cy="3113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4554360" y="3211560"/>
            <a:ext cx="40561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5T13:28:42Z</dcterms:created>
  <dc:creator>1</dc:creator>
  <dc:description/>
  <dc:language>en-US</dc:language>
  <cp:lastModifiedBy>1</cp:lastModifiedBy>
  <dcterms:modified xsi:type="dcterms:W3CDTF">2015-01-31T16:48:43Z</dcterms:modified>
  <cp:revision>13</cp:revision>
  <dc:subject/>
  <dc:title>ЛИЧНОСТНО-ОРИЕНТИРОВАННАЯ ТЕХНОЛОГИЯ</dc:title>
</cp:coreProperties>
</file>