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335A-2433-43EC-863F-2ABB4E9C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D05-6DC0-4B51-91F2-87991E33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BF61-4BB4-436C-8F27-E80EA9D6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DB76-89ED-46D4-A610-E38C8735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A770-AA84-4DE2-A679-5CC9F173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91FB-151D-4C2D-A834-959552D8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2495-C965-4658-99D2-00947A6E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6337-B772-4725-BC14-CC506D8C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97ED-97CA-444A-B249-49CBA759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8939-8160-41D8-B133-92C1FA69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8B93-2E2D-4E4C-A894-55930619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CB0-5EA4-4DAE-A47F-D63AD3F0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E4BB-8AF8-4E41-8A81-0D1EB9C8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523F-7439-4611-91B2-32B52C5E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1AF5-1463-4061-A2E2-225F5132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5AE5-221A-478D-A247-D90C58AB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52AB-D90E-4BE0-8384-2F3867C2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7F38D-5E70-4B29-B56D-F0D7C218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C2C18-8AD4-4A4A-BD31-D2CF9BC0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108A5-A565-40D0-B61F-95039E74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A8F9E-6DE5-4D44-B4CB-7DEEC098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26B7D-C981-4FEA-BFFA-77297244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7A2-FC8E-457C-9BCB-2639BD85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6A81C-1941-460A-9A92-5EE7F4F3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21AA31-ECF5-489C-96DE-9AB215DE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3FE11-5789-4358-B7E2-BEAB46C0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64DFA-7A19-4B88-92D6-BE4A6F63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B87FC-0E25-4F18-9DB0-90297D1A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84843-871E-42FA-B079-FD30B3EC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7BE01-9A58-47EC-86F5-B8B20145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E0679-58CF-4384-A580-6950F229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5B7EB-83BF-40DC-A579-BAAFFCD9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AA172-B6E8-4D62-A16F-9050B9CE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C61-CCFA-4F67-9322-BEFF709A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D17FC-2B8D-4E1C-9688-13FAA90D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721E5-5AE1-4DB1-9B4C-2B5F75A8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C2F78-6697-4946-B39E-5EE48A70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10181-45B0-497F-97FB-5F3417AE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BCFD9-A394-4595-9FF2-792EA25A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CEEC6-2611-4DA1-B973-31D0F836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61782-1751-4884-A037-A8E9A2F1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866AB-21B5-4D3D-B843-40089258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9058E-B822-40CF-97A7-D59146CC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18B5B1-EDF2-4370-A61D-07174987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CEF-AE5F-42A8-BBE0-FDDD8444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1FA0D3-7365-4B20-9D04-CA69E062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706867-EF1C-4C43-8213-8E7C0F82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A01F23-1801-4585-B559-9CB008FD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005F0-06A0-4770-AF63-DE5772A1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D3B7A0-37A7-46BC-913F-7DDB2447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4BE765-E2C5-4684-BE81-809DA664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24C805-D9BF-4B56-AB40-1F27AAEE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574DC8-2AC2-45E8-A3F8-1BBC7509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ACEC59-6868-45F6-A03B-BCEBE896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40A8A-5DA6-4C09-BC23-CFD13ED8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BBE-0700-4FAB-9CB0-2C7C0329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C9366E-2245-4067-8A13-B6EE14C3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9DAF2B-7C49-4B66-96A2-D03253DB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D5661-805D-4AE8-8B60-B92A05AB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DE9491-1190-4F99-99B0-7EEFF1DC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322A1-D566-4CCD-853F-A89B9B59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506252-F383-422A-8578-A4B847EE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E8BA8-3F48-42CA-B53A-64B0A0BE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897D31-D432-47EC-9889-3641B6FC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FCE0B-3894-4955-85AD-A783EF64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D0417E-9285-492E-9607-9CB447DB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91B-D674-4619-BF3A-CE22C83A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68DA8F-67DE-4887-8FFD-584BD7C9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DF2474-1AEF-4335-AB39-D0545BE9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0B331C-816E-4E23-9591-55DC7175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FBA7C6-E988-46F6-A695-997B5BD9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692E47-E0B6-4EB9-AA2E-D6FB3815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27B315-617B-4A7D-9293-34E6E0A8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D33F85-219C-4A2C-86EB-5F0545CF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22B9D0-C33C-433B-8E89-DE9477A2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07C39E-419F-4492-A93B-9702B9AC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F89F62-8F37-411E-8E66-25EBFB0F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B38-B9B8-4290-B174-11097CDD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B11C57-2255-4FB1-B95E-D3EC621F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8625F0-E2F2-40E5-A4DB-A6189A42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6CBA11-93A7-4A57-AABB-90F48052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1B67D5-FF78-4B48-B98A-45919F35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24D76-A4E8-438F-9122-C07507FD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9DF-2BED-4414-BE22-E2C9EF89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3751-5A55-4012-8E50-D29343C5C69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F2C9-6D7B-4192-B33B-E9350034251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55EF-684B-45AA-AD03-3226AB254EB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1D61-75F9-4428-AC5E-194A9973FA3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4E8B-AB46-44D3-B5C5-313E612B254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8E08-2F46-4A57-91C3-93FF6A7A303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EDFD-CD96-476B-860E-EE0BB10B310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Century Schoolbook"/>
              </a:rPr>
              <a:t>ЛИЧНОСТНО-ОРИЕНТИРОВАННАЯ ТЕХНОЛОГ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4920" y="2133720"/>
            <a:ext cx="7467480" cy="16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дагогическая поддерж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нципы построения процесса воспитания и обуч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4395600" cy="3051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4859280" y="3073320"/>
            <a:ext cx="3475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Century Schoolbook"/>
              </a:rPr>
              <a:t>ПЕДАГОГИЧЕСКАЯ ПОДДЕРЖК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ятельность педагога по оказанию помощи детям в решении их индивидуальных проблем, связанных с физическим и психическим здоровьем, общением, успехами в образов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468360" y="3645000"/>
            <a:ext cx="3963960" cy="27367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2"/>
          <a:stretch/>
        </p:blipFill>
        <p:spPr>
          <a:xfrm>
            <a:off x="4570560" y="3645000"/>
            <a:ext cx="390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75c01"/>
                </a:solidFill>
                <a:latin typeface="Century Schoolbook"/>
              </a:rPr>
              <a:t>ПРИНЦИПЫ ПОСТРОЕНИЯ ПРОЦЕССА ВОСПИТАНИЯ И ОБУЧЕН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0920" y="2565000"/>
            <a:ext cx="746748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оактуализац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ост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бор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ворчества и успех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верия и поддерж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Century Schoolbook"/>
              </a:rPr>
              <a:t>ПРИНЦИП САМОАКТУАЛИЗАЦИ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каждом ребенке существует потребность в актуализации своих интеллектуальных, коммуникативных, художественных и физических способност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4057560" cy="3113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4554360" y="3211560"/>
            <a:ext cx="40561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5T13:28:42Z</dcterms:created>
  <dc:creator>1</dc:creator>
  <dc:description/>
  <dc:language>en-US</dc:language>
  <cp:lastModifiedBy>1</cp:lastModifiedBy>
  <dcterms:modified xsi:type="dcterms:W3CDTF">2015-01-31T16:48:43Z</dcterms:modified>
  <cp:revision>13</cp:revision>
  <dc:subject/>
  <dc:title>ЛИЧНОСТНО-ОРИЕНТИРОВАННАЯ ТЕХНОЛОГИЯ</dc:title>
</cp:coreProperties>
</file>