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CA6-4492-4A00-996D-D0B18A7A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D7F-B20F-4B3F-BACA-5E918486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AD0-AD2A-4D5A-BB50-29E8F0AC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316-BA86-42CE-B1B4-2AE35DBD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90D3-19AA-4FE9-A7AE-ABB2D941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6C66-AE11-4AF4-AAC3-17A120D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1FF3-F52C-4E09-AE7C-3911E14B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FBF-7511-4E51-8848-A88D4E9B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A152-BFFF-4431-9F9C-31C4121C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A510-B646-463E-99C6-3DD3310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6B8A-F136-4EAA-B91C-EC738C73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A6B-4AB2-4136-A9D4-FD84130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C02-4908-4C20-99DC-2069077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7C75-EF4E-43BE-807F-DC22FD6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885-14A6-4096-8D48-AEAF832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8CF5-6255-4C42-87E3-D1161FB9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A82-C6EF-4DB8-82E9-30BCEDF0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5AA94-337F-444D-A6EC-19FC3DBD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213D7-380F-4368-B9A8-A77BBC7F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1E8C2-B076-41B1-8B26-E8E8C23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3CC5B-D418-4AA9-9F5C-566A6A8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7D1EF-52BB-43D1-BF67-51F47193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AF2-BD79-44F6-B01E-EF86419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7AECD-8B0C-4F4E-AB44-21FF8C9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C3CBE-BDB4-4163-B605-487754B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466BD-39DB-4C57-9EE7-92D0256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C9EA9-931B-4803-90C7-BF4A5EA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9E5FC-C075-4995-9452-61927F5D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63786-7BFF-4E4E-A917-23933861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E9751-9491-4344-9EE2-9152A08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16E0-EC89-4A85-8F3C-5A8A736A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FFCB-19A4-4E85-82C1-E21178A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29CE-5AF0-483B-9828-F139698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75B-F9BD-4735-9DE6-652C996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722E-7353-4E2B-9EC2-53BE5E3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AD1F-8168-4B56-A9CF-184EEA56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96CD-9C11-494C-A422-2B9ECE8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2752-6DA0-47F5-8B45-5D564A5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7338-9F48-4DBF-A5C2-CBB6937B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4A99-DC9C-485D-8C3D-09BB017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F829-071A-477E-8313-A61629C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0D51-F4C3-4027-B32E-970E033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3444-B909-4469-9B30-52C1A77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FAE90-A4DE-41F4-B310-A22480B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993-BE5E-43F0-82E3-DA0FE10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86A45-234E-4E18-826A-A6CDC173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4FE38-EB06-4633-9A4E-A1A1E10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D177B-0179-4FA3-961D-F57DFA6E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7148F-4D7C-44B1-996A-D8F6AF0E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26985-B062-4371-A17E-512DD54E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D196C-1FDF-4CBB-A5F6-3F965AC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AB139-BB2E-4981-B207-3A46EBC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8C435-A9E3-413D-B54F-A4C1F22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5EE8E-004F-48A7-AEC3-64CBE5E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51600-8244-4253-BF2C-8085648C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A7D-BBC2-49C6-A2FA-AC54ABE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20DEA-8360-40DF-A901-E3571098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24DEE-3F4E-47D6-B1C0-F741BB5F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CCB18-D4E3-41BC-B339-F8688EE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82832-6D74-4439-BE54-2297DE36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159CF-0248-49F0-8136-39E1D6E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6E74A-84A0-473A-A0BF-EDE981B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13DC5-0C50-4B71-B0A1-A9775531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985B5-2A09-44ED-A9C0-3A658728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431EE-8D39-4946-AFF1-A90025C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F8D7D-E5DB-48C9-A7D4-63B1D4C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380-1A74-4D5E-9288-F535963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A0901-9ED7-4D3E-A0FD-3538121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0F7A7-9C06-40EE-9630-A3F4E93E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34993-1AB2-4682-8E30-B5951C23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88A3F-588C-4468-97E4-EB88F4A4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9624A-782B-47A2-A56B-37085A99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550B7-F547-43E0-8240-74ED2B3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C2B7E-BC51-4047-9A42-F50236D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1C27C-BAF7-4580-A2BB-3AB7B8C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08EEA-92F5-41F8-B1FB-C9E6D53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FF63E-5515-4579-AF8A-367D2F2C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8F2-47EA-4D62-AADA-C9C8292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7394C-A78A-4017-B5E7-76EB63E5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37846-F929-4A77-B126-F9161C8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2E0DA-3FF6-4276-821A-C956F5D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EA79A-76C2-4538-8AED-03375604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E087E-86B3-4465-BB8C-F04A1DD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3F5-F31C-4E85-95E3-B157063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3F7-2236-46FF-9D82-629E6299E4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594-5E17-421D-90F1-FE259243EB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D69-2073-4D02-BBE2-E5A9AC4C9B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09F-1DB3-4A04-88C7-6D18670C5B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34EE-DEC6-42AD-AAE3-46682427E0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DA5-59BB-4735-8929-3995E6F718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AD2-DDD3-4768-BB78-282ED24293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 САМОАКТУАЛИЗ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ребенке существует потребность в актуализации своих интеллектуальных, коммуникативных, художественных и физи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55640" y="3211560"/>
            <a:ext cx="4056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ПРИНЦИП ИНДИВИДУАЛЬНОСТ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39640" y="1413000"/>
            <a:ext cx="746784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здание условий для формирования индивидуальности личности ребенка и педагога - это главная задача образовательной организации. Необходимо не только учитывать  индивидуальные особенности ребенка или взрослого, но и всячески содействовать их дальнейшему развитию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608800" y="3187800"/>
            <a:ext cx="3017520" cy="301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426960" y="3213000"/>
            <a:ext cx="30718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5:59Z</dcterms:modified>
  <cp:revision>14</cp:revision>
  <dc:subject/>
  <dc:title>ЛИЧНОСТНО-ОРИЕНТИРОВАННАЯ ТЕХНОЛОГИЯ</dc:title>
</cp:coreProperties>
</file>