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DF8-62F6-450E-9A9C-5E5A514B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EBC-88E9-417E-B559-287F558B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ABE-1E4A-48E2-A77B-988F34A6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DE7-2ACA-4D5B-92CF-7F6AAF96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FE97-CA6E-4B25-9A04-27CC9FA0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AACC-F86F-4BAB-9F18-A5DE538B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C4AE-69E0-4F78-AE4D-8C63A77E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F145-6899-4842-9301-AA74B2A8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C53F-967E-4313-91B9-20E9B872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349B-B901-4B8D-ACC9-4649611D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C35D-77B2-49CA-BB03-02A5C587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B5B-A1FC-4F34-980A-01F949CE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7E27-29AB-4271-A019-A14A663C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E888-1B18-46A1-86B0-24CF73DF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8972-4EE7-4F3E-B009-E302D2CE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4DE3-0C65-493F-A05A-6B028C28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B541-0351-4333-AD9B-B3522729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ED2A2-26A6-496E-84C8-C70DC070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A458D-68FA-4F69-9FCC-F6C4E3CC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B09FF-9EB4-4EAE-9A6A-E4CDD76C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BB0A0-F95F-4785-8092-869E8EF1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1B4ED-C8D7-4881-B673-EAB4A1F4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690-FFF0-450D-B03D-1866C486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B253F-0E7A-4790-845B-5930AD2B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96099-FE10-4C77-BE41-42C675AD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82F7C-9569-4EF7-83A3-7A03A544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4F5B2-1617-4AFC-82B3-75C7740E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9A2A7-759F-4AED-9060-F8A99683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4B101-8EB6-4DF1-B9A7-B29DF93F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1785C-0241-49CD-A269-95199121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99B6A-AFED-4153-8B9A-46B59384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701C6-D1AE-4ABA-B6FD-09EFD771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0F9A6-5A7E-40CC-B559-46C164EA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525-CA53-4CFA-B442-F598EA8B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FE6C6-4594-4669-8FD0-756CC174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6E300-6F89-4D46-B8EB-98112C31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22ACB-3DEF-45D8-AE1D-2430E566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E7987-A16C-415B-9FD8-DF186255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E1B4C-4DD5-4733-AB6A-26A3447F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28F46-D3D7-41F8-AAA0-8DA34773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9F381-6687-4470-8239-B3B06EC5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5F25B-8970-4A36-9F13-2CCEADCC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CB37A-420D-41F4-8535-529B1856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AA748-D129-4E0D-B3BD-6F8D0FFD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06E-12DC-466B-B1F4-23485575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F65E51-D69B-44D9-B279-C9389194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01A46-9FD1-4F89-B337-98CD0FE1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BA148-C740-491F-9F3C-ECCFB09B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6007E-5FDB-4986-9826-8A9EBD88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95A8D-321C-4650-9839-0A32C6FF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272ED-6D01-44F3-A1D1-0051E0E2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B00D30-F527-4D1B-A231-C64AAC1E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4D362-6DF8-4722-9E9D-C741F4A5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E87EA-7312-4AFA-9806-02F53333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4B061-5A42-44E4-9414-5B5955B0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8A6-9A55-4A66-8435-8420423F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25D0AA-576C-4BC6-A84A-CDE1E202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CA856-711A-44F3-81BE-2782B80D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F839E-F592-4A58-95A9-0C7E9164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75352-458D-4524-9A84-9245A9DA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2DE58-004B-4CBB-A4B9-E088929C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28BF5-02EC-4F48-BA00-CDAEABBF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F9908-C024-450E-A09C-A0322934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6D2E3-6E20-4019-AEBE-B8331CA6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AF3AAE-9A6E-4F5B-9AF2-9146DB7F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19EE6-45A0-4218-87C3-E94E1BBC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E71-6624-4367-A86C-604E13E4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9BF89-211B-4957-A94E-8666F68F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17032-BB26-4568-BE10-10E09977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7F88DB-BEF6-497D-B270-7E00225F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3B39E-6B82-47D4-AF18-1AAA1E73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FC8886-02E2-487B-A708-FF1115A4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66B44C-C2C1-41F9-B957-AD5178B8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4718DB-9C35-45DC-B8FE-AF8A7687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01775-1D23-479F-9A3B-20076200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E33A23-A0F5-4896-8428-61522470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8E5D3D-833C-473C-A66A-88A86E3C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31B-3762-453E-8F18-2B1FA7CC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F96746-FAEC-4C01-893B-97914B10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EB62C-23C1-46B0-9FDB-D2D83E23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048B2C-4A6E-4F41-A635-36ECF631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74782-FE94-4A84-BCF4-F8D49418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27168-32E8-4B74-AA06-5B396401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C67-C191-4DCE-A699-7427499E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A3A6-2A64-491C-880F-371F8698A86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C7D0-F204-4C48-9640-82CD0C53BC1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FD6C-F0C6-4606-835E-0D4D9546034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AD39-FD57-4171-BB6A-C643E5B4D8A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D062-A43A-449A-9CB2-9D42525EE7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1687-BED9-415A-AE07-BF2FE49DBE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0C8A-C092-486E-B2C4-8B8E3196F2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Schoolbook"/>
              </a:rPr>
              <a:t>ПРИНЦИП САМОАКТУАЛИЗАЦИ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каждом ребенке существует потребность в актуализации своих интеллектуальных, коммуникативных, художественных и физических способност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755640" y="3211560"/>
            <a:ext cx="40561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entury Schoolbook"/>
              </a:rPr>
              <a:t>ПРИНЦИП ИНДИВИДУАЛЬНОСТ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39640" y="1413000"/>
            <a:ext cx="746784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здание условий для формирования индивидуальности личности ребенка и педагога - это главная задача образовательной организации. Необходимо не только учитывать  индивидуальные особенности ребенка или взрослого, но и всячески содействовать их дальнейшему развитию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5608800" y="3187800"/>
            <a:ext cx="3017520" cy="301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426960" y="3213000"/>
            <a:ext cx="30718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3:28:42Z</dcterms:created>
  <dc:creator>1</dc:creator>
  <dc:description/>
  <dc:language>en-US</dc:language>
  <cp:lastModifiedBy>1</cp:lastModifiedBy>
  <dcterms:modified xsi:type="dcterms:W3CDTF">2015-01-31T16:55:59Z</dcterms:modified>
  <cp:revision>14</cp:revision>
  <dc:subject/>
  <dc:title>ЛИЧНОСТНО-ОРИЕНТИРОВАННАЯ ТЕХНОЛОГИЯ</dc:title>
</cp:coreProperties>
</file>