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247-C6BF-41D0-B6A3-7EC01A59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1B6-C089-4DD0-9F4B-CF42BBC6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AC4-73D8-4014-82C1-AA2BE08B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178-EA41-4D06-B795-24D6145C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20A-E686-4AAD-BF1F-4CC0BAB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6795-861E-4003-8C77-74C885EE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2C8-7239-46FC-88E9-CD03429A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1156-7FBA-4FFB-A77A-A72659B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309D-7243-48B3-B13C-915155DA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1B9-F707-418B-A8F4-67D2A18F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A74F-4980-4BE4-8E49-5E93B3E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BF5-2096-4277-98FE-CB61D920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709F-0AD0-4754-8F59-FAC8891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EBAF-D20A-4634-8C21-DF7C14A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AE60-23A1-40E1-986D-A9B2482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1CCD-4D28-4A9E-988B-288842B4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F14B-0A84-48C8-BF30-BEC950FC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A3020-4FE9-4A94-886C-2F196277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30057-F841-47B5-9AC5-0EDDAE3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5FBE7-690D-42CF-A3EF-58876C97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1E716-B24C-470E-8967-84D8587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EB2BA-91A4-4D02-A830-2D0211DE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703-6074-421E-9F17-A96D4E0D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89312-2DB4-4ECD-8D18-35C69C36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8DFCD-BDEB-4483-A5B8-6F550C3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D303A-F60C-40FB-99B9-B0FA281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C45C4-2400-4232-9289-A59C024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3D8E8-504D-4BC2-B106-6C0D2992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9BF32-C6E4-4086-9CDF-88CB230D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2E3D4-A3FE-42E7-816D-EC23E5E2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BCA2-4F53-4BAB-BA90-804822E5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982C-5CC9-486A-94D7-356C0876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6A0B-CC6F-4BBD-9230-7D0FA5C3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A7E-8B30-4CC8-9B24-698E228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476B-330B-48B6-8169-917C56E5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AF09-54C0-40A9-B3DF-EDCC2F2B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4AA1-657D-4694-9753-40788F72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2816-4CBA-492A-89C8-77374E5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CCCB-C438-42EC-89DD-7742FB2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7AB3-2122-4320-A355-BC957A1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E636-6B96-4774-AE25-03686C0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7D3BE-F4EF-482C-9ECA-BCE2A803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DF76-8B53-4A44-8EE4-DE7BD9E3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BEFC6-1E14-4329-92A2-009C8422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AF0-CAEF-4E7D-B213-8DE7D904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9BA4F-4407-4DA3-8D4A-C1ABDE7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698AE-D16C-4EDB-9FD3-CF62ACE4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1A514-B4F0-4816-83C1-67DBF05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0404A-6B34-4E6A-9CF6-4CA1182B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C6CDF-B91F-4AE4-939F-5DAFF2FB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2155F-080D-4355-BE53-DCE8AD9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1FA04-E06F-43CE-9C11-184B21F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36A32-63EE-4DD6-9811-A3E084FB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13F2A-B7FD-4C2C-877A-98AE04A9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19AF4-0069-481E-A4D4-8F74CC57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570-C8C5-41C6-A8DB-1E8D11C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C9F72-C395-4A86-8D28-27F29E0D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DFE6C-1FBF-4C5C-9B1D-301E95D0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A96B2-D1CA-4D2A-BBA0-C5DB1A9C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A436B-0270-4617-9744-6FD7ACE9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EBFF4-B55F-4C83-AE34-8882B42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D7E1E-23AD-46FF-9ECE-BD2C30FD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595D9-F57A-4E3E-AC21-F3665450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A5D1C-0180-40F1-99F8-F7A1399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9F9D7-DA2D-4793-9831-058E1AFB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0A863-77D8-4256-A0E9-13FFDD7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B4D-FCFC-4696-9985-2F0D5284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BFC7D-1C1C-4346-9537-04D35C34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949BE-86F6-4DD2-86F8-B62BE868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19CD5-3B9F-4D46-A7F0-29C04D16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8FB61-CD31-49DE-8972-9ED7CC6D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8551A-84CF-41A9-A02C-80E52A62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82D6D-3FA9-404B-AB81-8FEE5E3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919E3-0ACE-40DB-9AE4-161A0EA0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71974-C017-4673-AB5E-2398F4F8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27E8C-153F-45FC-8F19-3AEC2A7C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73F41-756E-429D-9AA3-3C0D0A5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F64-544E-4D44-90F4-96FF9102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DE7FE-8AE2-4033-9F98-8A5C074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6CC59-2756-4927-9417-6820CF2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03418-A4AE-4783-B566-327FE724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D6AB7-58B6-4981-97EC-0CBB4592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41E5A-F7D6-4873-9BF2-309BFED0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01D-E756-4A14-B1FE-F9F6882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F6B-5B58-4412-9199-A9EBA79177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D2A1-3996-49B5-97E0-0154367592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C682-04A1-49B0-B72A-28BA6D8EA1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3783-3EB0-4BE6-87EE-B1A28652FA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742F-2415-47C8-8E24-15B731AA1B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D02A-2179-40E1-B943-85E548A9DE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AD1B-BFFE-457C-8587-069F79FF53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5c01"/>
                </a:solidFill>
                <a:latin typeface="Century Schoolbook"/>
              </a:rPr>
              <a:t>ПРИНЦИП ВЫБОР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 выбора невозможно развитие индивидуальности и самоактуализации способностей ребенка. Педагогически целесообразно, чтобы ребенок жил и воспитывался в условиях постоянного выбора, обладал субъектными полномочиями в выборе цели, содержания, фор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3438360" cy="2365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4427640" y="4192560"/>
            <a:ext cx="3767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РИНЦИП</a:t>
            </a:r>
            <a:br>
              <a:rPr sz="3600"/>
            </a:b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 ТВОРЧЕСТВА И УСПЕХ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ая и коллективная творческая деятельность позволяет определять и развивать индивидуальные особенности ребенка. Благодаря творчеству ребенок выявляет свои способности, узнает о «сильных» сторонах своей личности. Достижение успеха в том или ином виде деятельности способствует  формированию позитивной Я - концепции личности ребе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39720" y="4218120"/>
            <a:ext cx="3584520" cy="2463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4529160" y="4248000"/>
            <a:ext cx="3120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58:00Z</dcterms:modified>
  <cp:revision>14</cp:revision>
  <dc:subject/>
  <dc:title>ЛИЧНОСТНО-ОРИЕНТИРОВАННАЯ ТЕХНОЛОГИЯ</dc:title>
</cp:coreProperties>
</file>