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97C0-3AB0-4445-B27B-5B0A12825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C8C5-B6DF-4717-ABD5-C2F161D1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659B-D74B-44AA-8C46-4A06BE6ED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EABE-1EC7-4AD1-B603-D9FAB88A8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33A2-5976-4DB3-8F4B-6F7F1216A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0F28-80CE-4FD6-A662-31404A6E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32CB-F6E0-4970-BFB7-719EB7CB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F568-C292-49FE-842F-91461978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F585-C9FD-41F8-B302-711050C3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37D6-D892-4F21-9422-E3A07330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78929-F2D1-4603-BE4B-4CE8F86C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6953-842C-4A1F-8AD2-72BF81D5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8DDC2-D130-40B7-A79C-89D18C66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C358-0E85-4939-991A-5ADF54DC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EE1D-B9CB-4D87-94FA-BBFD56F5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893C-ED73-407C-8766-297E5A776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160D-52A8-4477-96F1-9E747143D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8221E4-A9DE-4CA6-A091-E54BD6FFF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078BC6-65C5-4CB6-A29E-17BF1BFD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701E06-5B32-468F-82EA-B5887D86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5BF1E5-EDA8-46C1-BFAF-ED48641B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4BC93B-9A98-4A74-82A0-54D3ED0C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D474-36F6-452B-BE9C-84158FDB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DA6309-6566-4779-9F89-A5BD77B2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2578CA-E41F-4931-9980-585B92A0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DCB828-C481-469A-B7A0-755F5891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B077B8-D786-4706-8D44-8FB1239C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25BE0B-4C15-47B9-A3A0-ABF72042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871BB4-1FA1-4932-9F50-EABE8CD58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C01E56-659F-41CA-A7FA-F5D8643A2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DC447-A67E-426F-B3E8-ADD905102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9D2B3-F439-4F3C-AD16-65BFDFC0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95D81-7B2D-426A-966B-187C318C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BC09-67B3-4459-8D2E-9ED99BDF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6FAC6-DF52-465E-9064-7A9C50FD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FACE5-E4F1-4EB0-9E6F-C27FE61F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86E8E-B281-44A9-8042-775A234F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7E7C9-104B-4D8B-BD51-9369A6E0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7884C-843A-48A3-9470-0027F4A7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D1C14-52BF-411D-A29B-B0084E1B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9F921-24BA-48C4-B481-11C65D81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26A49-7F23-4258-86C7-F80A655B7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6B6DF-B6E0-47BD-9C49-DB3A8D08E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00C8D8-9581-460C-A4C1-4990DB0E2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D8D5-2B7B-4EC8-9BAE-4A87E77A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EEDD74-E29B-40A2-BC83-8A23116E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0037B6-752C-41BA-9E59-1046322C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757B90-4451-40CE-9825-B1BA4C07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19A972-8316-4656-A567-7A0EAA15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C405E2-63D8-4D4D-A475-5BA8ACCD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960CA6-4377-4AC3-A254-22206105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0A0928-78E3-45A7-ACD9-2125C718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B10C44-7561-4AB2-BCB8-B4684BBF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0BEA53-28A2-44F1-B92C-6FBC20DE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35E86B-FB5E-4DDD-8B94-03436222A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CD80-4DD9-430F-8771-AB109728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82B7F2-83C2-4456-B4D6-875BE15F3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6DD021-A925-42AE-9789-80A9802DB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2BACB4-7DE5-49AA-BA46-6D5C946C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2493A9-F45B-483B-B945-02EAC838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950BC4-3971-4B9D-AB18-30A19C91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C6529E-453F-44FB-94ED-910C8924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6B00B1-9731-45B7-BF21-CD2DC951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E47098-0C8B-4B15-BF19-FE3D58E3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FE3FB7-F6DF-423F-B65A-A929E97C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21F194-15C0-4021-9849-9DEDBEC9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20F9-2FB1-4951-B77E-E6C86D17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DA4691-59CB-465A-A268-12156A2C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BC909A-7452-48CC-AA82-F40C9D420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8425EF-92B5-4CE6-8798-8EB20B4C4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0D260F-6BE9-473B-8A4E-9C977DC78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873F03-3A3E-42AE-8D00-37013B5E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F9921F-7D8E-4AA9-939C-F5EC9B02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E990DA-2600-41C0-B339-25066F77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798192-03D6-4BCF-A81E-580E4F06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315B5B-C3C1-41D9-956E-B30CBABC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CD2AAE-C129-445F-A450-687B6E64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F16B-FBEC-4B61-B0D9-B6E23363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85758B-6B95-4BD1-B584-6404A1D6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983DB9-0F98-4ABD-A141-3EDB0D12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F1E938-B88C-408E-AAB1-5307DE36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C88B74-7290-46EC-A5C5-D1961A7D2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170EAD-C51C-467E-97AF-B5C8C63B7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F02D-DC80-4FDA-90A3-062498AA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DB61-CE27-4BF1-A981-70BCC792C74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ED66-C268-4A80-93A9-0743007975F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F84A-6429-4932-8B51-3774B92C314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CCC1-535B-4E40-82F1-AB6CFAACC34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E182-A633-44EE-B35E-AC595EB2F31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8500-D772-42CD-897F-DCBA7728B61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724B-0E90-4FD8-994E-2F3DBC786FE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75c01"/>
                </a:solidFill>
                <a:latin typeface="Century Schoolbook"/>
              </a:rPr>
              <a:t>ПРИНЦИП ВЫБОРА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ез выбора невозможно развитие индивидуальности и самоактуализации способностей ребенка. Педагогически целесообразно, чтобы ребенок жил и воспитывался в условиях постоянного выбора, обладал субъектными полномочиями в выборе цели, содержания, форм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684360" y="4221000"/>
            <a:ext cx="3438360" cy="23655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" descr=""/>
          <p:cNvPicPr/>
          <p:nvPr/>
        </p:nvPicPr>
        <p:blipFill>
          <a:blip r:embed="rId2"/>
          <a:stretch/>
        </p:blipFill>
        <p:spPr>
          <a:xfrm>
            <a:off x="4427640" y="4192560"/>
            <a:ext cx="37670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75c01"/>
                </a:solidFill>
                <a:latin typeface="Century Schoolbook"/>
              </a:rPr>
              <a:t>ПРИНЦИП</a:t>
            </a:r>
            <a:br>
              <a:rPr sz="3600"/>
            </a:br>
            <a:r>
              <a:rPr b="1" lang="ru-RU" sz="3600" spc="-1" strike="noStrike">
                <a:solidFill>
                  <a:srgbClr val="e75c01"/>
                </a:solidFill>
                <a:latin typeface="Century Schoolbook"/>
              </a:rPr>
              <a:t> ТВОРЧЕСТВА И УСПЕХА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800244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ндивидуальная и коллективная творческая деятельность позволяет определять и развивать индивидуальные особенности ребенка. Благодаря творчеству ребенок выявляет свои способности, узнает о «сильных» сторонах своей личности. Достижение успеха в том или ином виде деятельности способствует  формированию позитивной Я - концепции личности ребен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639720" y="4218120"/>
            <a:ext cx="3584520" cy="24638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"/>
          <p:cNvPicPr/>
          <p:nvPr/>
        </p:nvPicPr>
        <p:blipFill>
          <a:blip r:embed="rId2"/>
          <a:stretch/>
        </p:blipFill>
        <p:spPr>
          <a:xfrm>
            <a:off x="4529160" y="4248000"/>
            <a:ext cx="312084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5T13:28:42Z</dcterms:created>
  <dc:creator>1</dc:creator>
  <dc:description/>
  <dc:language>en-US</dc:language>
  <cp:lastModifiedBy>1</cp:lastModifiedBy>
  <dcterms:modified xsi:type="dcterms:W3CDTF">2015-01-31T16:58:00Z</dcterms:modified>
  <cp:revision>14</cp:revision>
  <dc:subject/>
  <dc:title>ЛИЧНОСТНО-ОРИЕНТИРОВАННАЯ ТЕХНОЛОГИЯ</dc:title>
</cp:coreProperties>
</file>