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10D-7494-425D-B32D-D1BBDB73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29C-481B-4E1E-AD15-1B42D37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132-F1C7-45F5-B50C-4D14AF8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AC2-69D3-4E90-B8DD-BCEC6EE9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439F-21D0-42DF-A6D7-386CE3BE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1C90-5C88-4BC3-84D4-AB7878A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54F-F62C-410F-8F6A-0484B11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93BF-B797-498F-871F-0E7BA5A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C8FC-DFCE-49FA-A906-B25E27B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E033-6A00-4418-BC39-E8F104DA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62D-D03F-410F-B8FF-3DF6FDD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C11-51A4-4F2D-806E-4EBFB32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AB8F-4B02-4F01-B69C-64B5A6C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970E-23B8-4CB7-A5B1-BF0E8D9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C1B-232B-4AD8-891B-099458A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3393-23DD-437F-A99B-1E45ECDD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A5B-66CD-40F7-AB14-5E4520FB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D12AF-7EF7-4018-8047-20C7FD80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8261E-05B8-40E1-A5DE-B786FFB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25E37-1EA3-4E6B-8DC4-4CC019F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21E6D-A30C-44D8-957B-AB01FE4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DCF20-BC2A-44AD-8118-A8E7812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61E-8110-4879-85DF-C191664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E7BC4-0911-4718-B969-C3A62742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8B61C-0E9C-4B03-8F74-A630405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50635-DB6C-4C89-AFC8-282F7CA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A4695-661C-4EBE-90DE-781E340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DC056-8191-421D-BF64-BC8F3F8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DB538-6EAD-4A0A-9341-07D8D754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B68E1-22B0-4845-93D6-6B60A9A8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5ADC-30C4-4A56-95B3-E2E30BC2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FCBD-8660-4E8C-9B14-85C0401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CADD-01F1-4F4C-B6A2-18C92C1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3C7-52A3-4993-BFA8-5EF49E1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38D3-31AE-4643-B07F-FADB8337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865E-4B03-4FD3-8571-DE5FF95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DA5B-C111-4199-974F-6B3518C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3DEE-8732-478C-96B3-CEE19CA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DB60-D140-4F32-A424-DA82C6D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67F0-BBD2-4C70-843D-565A307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9C6A-F58B-46EA-AA2B-590DD3FE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293F-34DC-458A-B838-C4318B0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20FF-7171-472A-9172-412FDF89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66E98-24EA-4D9E-A3F7-291FFF32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26C-6CFA-4305-948C-C6DE905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9E6FF-7672-4EC2-8E46-645A59F3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71ECC-60DF-43FF-B135-2DD7EEC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3E496-456A-47BB-AFA7-3E24446E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5497F-9FC1-4B18-B91E-7DB2BBA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01814-A333-4CAF-AD58-EB8EEE9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40EFE-DA16-4A4C-BAD0-4A18DFF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21A4F-163F-4769-882A-9315B34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89ACB-00A1-4F6D-9F66-E8D38AC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A09E3-588C-4D4D-A4B5-5254E4BA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750A6-3738-437C-BF7A-98A06FCD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652-96D1-4E10-B92F-DA2C3DC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5B0AA-6777-4C7B-8F8B-E4DE9F3C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2801A-F472-458E-BD33-314697EC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ADD76-C3FA-4F13-BB8F-6C9B30F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50E20-971A-4ECB-A41B-616317F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5133D-EB60-4FC8-89FE-E47E5FA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CE808-3E47-45A2-8D99-3BBD436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7B6F5-64AE-4E5B-BD1F-E421F0B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EE935-F797-4233-8FA1-1A9EE0E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96D8C-4644-4D44-8F23-605FD1F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06B81-F639-4660-A42C-449B997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C7F-2BC9-4052-9520-9C8ED64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5A11C-40C7-420D-854D-E608355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190B0-340B-42F7-AEF8-60A60C16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0BBD2-9CCA-4AC1-B852-C5A31DAD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58AB4-5220-4A41-B2FE-7041FE01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631ED-CBE6-4B58-A47F-398876B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6AE0B-E352-4532-A477-52AEA551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E2BCF-1F1A-4BBF-B78A-B43EB818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ED205-A428-44D8-AE0D-F8287AE9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C9A86-C12A-4701-87FE-12F22EB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F98E9-07AF-4FDD-9266-08C4342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B1D-7E3E-4FDF-AB85-E89B8A9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B94D2-CF53-4821-832D-E97E5A2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7B8A5-0EE9-45A8-8B5C-F405BC8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E1CDD-EE63-4A75-AE56-1D2149F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B8B99-ECEA-4771-A961-15543EE4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82333-F760-46DF-9143-6D8380C6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10E-C7D3-411F-9F4F-C66CDF7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DA6-A92D-4475-AD1F-E1B5A8E625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FF9-D328-45FF-8680-0301486EA2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762C-CDEE-455B-9C3E-C234FD09B8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993-CDE8-4336-870A-7D2CE55282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EC52-90D6-41E6-8A0D-CFC82E352E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68F-39A3-4487-A64F-F6C1B0096B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D0B2-0615-41A2-91A0-F63FEF56EB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ПРИНЦИП </a:t>
            </a:r>
            <a:br>
              <a:rPr sz="3200"/>
            </a:br>
            <a:r>
              <a:rPr b="1" lang="ru-RU" sz="3200" spc="-1" strike="noStrike">
                <a:solidFill>
                  <a:srgbClr val="e75c01"/>
                </a:solidFill>
                <a:latin typeface="Century Schoolbook"/>
              </a:rPr>
              <a:t>ДОВЕРИЯ И ПОДДЕРЖ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а в ребенка, доверие ему, поддержка его устремлений к самореализации и самоутверждению должны прийти на смену излишней требовательности и чрезмерного контро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33560" y="3573360"/>
            <a:ext cx="2601720" cy="2606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3998880" y="3552840"/>
            <a:ext cx="3813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75c01"/>
                </a:solidFill>
                <a:latin typeface="Century Schoolbook"/>
              </a:rPr>
              <a:t>ЛИЧНОСТНО-ОРИЕНТИРОВАННЫЕ ТЕХНОЛОГИ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000" y="2060640"/>
            <a:ext cx="7467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главу процесса должны ставиться интересы и потребности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ервые семь лет жизни ребенок приобретает самый главный навык – способность к обучен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льзя откладывать занятия с ребенком «на потом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3:28:42Z</dcterms:created>
  <dc:creator>1</dc:creator>
  <dc:description/>
  <dc:language>en-US</dc:language>
  <cp:lastModifiedBy>1</cp:lastModifiedBy>
  <dcterms:modified xsi:type="dcterms:W3CDTF">2015-01-31T16:57:49Z</dcterms:modified>
  <cp:revision>14</cp:revision>
  <dc:subject/>
  <dc:title>ЛИЧНОСТНО-ОРИЕНТИРОВАННАЯ ТЕХНОЛОГИЯ</dc:title>
</cp:coreProperties>
</file>