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A30-A4CA-4A1F-8F3D-3861248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C4D-CC82-4FED-9044-D0B91D3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DA9-A9C0-4BB9-8BDC-BC27E006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1F9-AA41-4191-B421-BB92AAC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623-8DD3-4D5B-A673-285B647C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A27-4EEF-46AE-ADA0-58F46F99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EF6-407E-40BC-BA23-831870A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A23-0FBB-45A5-9398-A28B642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B812-D268-4C0B-B33C-04D1138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F45-FB44-4F9E-9690-64928BF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40A-3F7E-47D8-A15C-5066E27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DDB-757C-4EED-A20D-7B993956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66A-28D7-4202-9242-0B221C7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CF7B-0BBC-443C-88C7-3C8042E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A24-1FB7-44A1-A4C6-8F79B711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251-3DFD-4ADA-AD89-93AF7D7F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A0D-2BA7-4270-8799-BF742253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26D25-1963-4D8A-AF4F-17299121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B3545-CED2-4BE6-A1F5-9542701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D6CA7-E080-40E5-9F18-21E7EF5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F9127-4EA2-4673-87FE-07822AC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B9D6D-EFF6-42A3-872B-DF39F25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EA7-E01F-402B-87AB-3AF9EA0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55C4-6FBB-4F33-B26C-D8F6799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BB587-D828-402E-B5E1-2CE6FC2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21F91-B90D-474F-A44E-9AC8589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6A7BF-8E65-4FBC-9AF8-4168331A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8D907-1571-4A8B-8EE4-4224419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57342-6ED4-4BC8-9425-087A83DA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D57E6-7688-4826-BEC9-E726330F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8681-D603-4994-B58E-8BC1B109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F1C6-E1BD-4D79-8C2E-9DED0E7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7B91-F7C6-4CCE-9432-07AB0575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CA2-81B5-4D9C-A30F-ADD1AC75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19A3-EB69-471A-8D64-A2B8391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1DA8-CD46-44B8-9AD4-FD316F11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C8A5-9D33-4D89-B2A2-7AEF0A40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EEC1-A7F3-4D76-9AA5-2D57EFD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67E6-BF04-4093-BC16-704A3D5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E8DD-B033-4631-B23B-A508FB1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D216-61FF-4844-A362-E43E3B67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E5D0-CDCF-41AD-BC12-ADE9B8FB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B35E-1056-47F2-940B-084BBA3F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01F4B-5C57-45E5-8FA5-4EBEBFA1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460-4FCF-4851-AE62-6FC112DE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46B68-90FE-4D10-9E9D-E6DDB0A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06BDF-5C99-40AC-A1F8-DC97C84E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ABA5E-DC45-4325-A8C9-52CB93C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FA7E7-8911-440A-9F55-082F8005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22716-1F98-45DE-9B33-E6C8C09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3F02F-6500-4FAB-9B80-E5D227D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6EC24-1D62-485F-BF47-D1DA9F4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1AFF7-C25A-4C80-9147-3C973E3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D8C92-9354-4970-89B0-5F474F31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0CB27-5BCD-4FBF-8DD7-98391A67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2A6-7E38-46DD-BECB-7733843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24DC5-31D4-413D-BFB3-E8FD96CC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19EB8-F7A8-4E2E-9A2C-82B99739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C8930-D982-43E1-8D62-327647FB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76E50-8E68-4F56-B1F4-4C254A9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28E3D-04EF-4DB3-B80A-826AAB1C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0DDBE-09C8-4457-9080-DC0DCD70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4521F-EA47-40C0-8A7F-DEF3D750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00ACC-0BB7-4EEC-8F7A-A39A0E9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48098-7B7A-4D30-94A9-48078828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2BDF3-928B-495B-B43A-C066B75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FCF-87B1-4722-A429-8659BAC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82492-2722-463A-B317-7A07F6C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68B64-4B0F-46A1-963F-166C8507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6765B-3747-4936-855D-30BED779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D771B-AAB5-4FE7-935B-9201DDCD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7D6F1-DDC2-4787-B76A-B8C0AA9F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B3081-E5E1-471D-9CFB-32C8EE5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62EEF-18A9-419F-BCA1-BD8AC690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D001D-8ECE-4BC7-87F6-D9D2040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75FC0-4286-4B0C-BCF1-C04BEBBC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55211-22A5-4FED-A775-27D63E8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26E-757F-410A-96C4-36649CC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B7D9A-970D-4D51-BA99-CED69F02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11069-6172-4AA7-A112-45C4AFA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9CF07-030D-4E53-91B1-2A40792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EDC72-2B06-4D75-BEA9-D33C2E51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2630C-AC4C-42D4-9290-50CA9A0F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FCE-A1B9-4BAC-8DFE-80D5CE6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799C-57A9-48F7-BFF3-E97C67E25C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F6EA-224F-45C4-80B6-899054641B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7AE-5DFC-4915-B782-7080AE4A2E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475D-C011-4432-8AA0-0205BCFD45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C74-069F-4F4C-B2BF-4A05D64EA7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517-420C-4742-978E-4BC60A34AC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76C-156F-4B70-9293-BC3FE5391E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ПРИНЦИП </a:t>
            </a:r>
            <a:br>
              <a:rPr sz="3200"/>
            </a:b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ДОВЕРИЯ И ПОДДЕРЖ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а в ребенка, доверие ему, поддержка его устремлений к самореализации и самоутверждению должны прийти на смену излишней требовательности и чрезмерного контро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33560" y="3573360"/>
            <a:ext cx="2601720" cy="2606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3998880" y="3552840"/>
            <a:ext cx="3813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ЫЕ ТЕХНОЛОГИ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000" y="2060640"/>
            <a:ext cx="7467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главу процесса должны ставиться интересы и потребности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ервые семь лет жизни ребенок приобретает самый главный навык – способность к обучен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льзя откладывать занятия с ребенком «на потом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7:49Z</dcterms:modified>
  <cp:revision>14</cp:revision>
  <dc:subject/>
  <dc:title>ЛИЧНОСТНО-ОРИЕНТИРОВАННАЯ ТЕХНОЛОГИЯ</dc:title>
</cp:coreProperties>
</file>