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C29-6C5B-41B0-AABA-FFFEB1DC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92D-7CFA-4869-B7B7-99CAE211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C07-1F76-4ADC-B5ED-AC42F969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805-AAF7-4E22-8ED3-92AEA657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85C3-54E7-49D4-9913-0E2F30B7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6CDB-9800-4187-8E5C-B5BD7C86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5EEE-B2DB-48BC-8FC6-CFECD85E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A149-9AC9-431C-AEE4-2848ACB9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555D-A651-499F-A496-0BC65762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B1AC-36FA-4840-B268-CDB1ED4D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A8A4-A737-4530-BA00-132F959D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AB9-356D-4C73-889C-7FD045C0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6C9E-4895-46E4-A335-3D5A3910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773F-E029-49FF-9D4F-CE2E8C54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C70E-0AED-4EB5-8E8F-B3C53B1C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1C4A-E71B-4421-B912-CCA963BF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EA79-AE96-4751-9398-796B86BF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7DA-98A3-4169-B546-96692089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9CF-EBBC-4434-B11E-E71C3478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D89-A489-4784-98B8-310B54AE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178-689D-4EE9-B7F8-5C58AA62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277-85C0-47BA-A047-6772F0C3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7BA-D3D3-4C45-A605-077ED341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62F-2CDF-45AF-9864-9A13D7DA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271F-A917-4573-BB79-E9DA9433B6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CEE8-A189-43A0-8CE7-44C881DEB2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1413000"/>
            <a:ext cx="7677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the   Capit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of  the  U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132000" y="189000"/>
            <a:ext cx="57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falgar Squar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642924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 rot="670200">
            <a:off x="477360" y="4624200"/>
            <a:ext cx="640872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140360" y="6283440"/>
            <a:ext cx="469584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635280" y="6093000"/>
            <a:ext cx="5200920" cy="765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284720" y="0"/>
            <a:ext cx="46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705040" y="3544920"/>
            <a:ext cx="64389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рот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укингемского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ворц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24720" cy="555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908000" y="5950080"/>
            <a:ext cx="522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314600" cy="645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 rot="19615800">
            <a:off x="5011560" y="4784400"/>
            <a:ext cx="427536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t. Paul's Cathedral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61920" y="5589720"/>
            <a:ext cx="9250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mic Sans MS"/>
              </a:rPr>
              <a:t>Главные ворота Гайд Парка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92360" y="105264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0" y="5300640"/>
            <a:ext cx="410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Hyde Park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63840"/>
            <a:ext cx="851040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476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don is the capital of Great Britain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one of the largest cities in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a very old 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two thousand years 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out  9 million  people  live in Lond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don  is  a  big  po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situated  on  the  river Tham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3 parts  in  Lond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City, the West   and  the  East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50920" y="0"/>
            <a:ext cx="47512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Bank of England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24160"/>
            <a:ext cx="5219640" cy="363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00760" y="1197000"/>
            <a:ext cx="26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720" y="4797360"/>
            <a:ext cx="34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Univers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-1251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95280" y="333360"/>
            <a:ext cx="532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tock Exchange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741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8137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5480" y="546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508640"/>
            <a:ext cx="399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The Hous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of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Parliament</a:t>
            </a: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81240" y="252360"/>
            <a:ext cx="65008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1436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3968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252360"/>
            <a:ext cx="7846920" cy="4651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340000" y="5157720"/>
            <a:ext cx="47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wer Bri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132000" y="5950080"/>
            <a:ext cx="57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falgar Squar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5:59:40Z</dcterms:created>
  <dc:creator>Einshtein</dc:creator>
  <dc:description/>
  <dc:language>en-US</dc:language>
  <cp:lastModifiedBy>LAN_OS</cp:lastModifiedBy>
  <dcterms:modified xsi:type="dcterms:W3CDTF">2013-04-28T15:24:12Z</dcterms:modified>
  <cp:revision>24</cp:revision>
  <dc:subject/>
  <dc:title>Слайд 1</dc:title>
</cp:coreProperties>
</file>