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9CD-63B2-4720-A918-AB8A4862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616-B4A8-4BD3-9966-2D20053E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ECF-FB5A-4C80-87E3-963215D2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65D-6856-4144-85BF-E449BDA8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D2C1-F360-4DBB-B1F5-A405B41B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F177-B846-43B0-9BE3-1433FE0D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E395-C0BB-405E-855D-B39D62DD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1459-1A74-4E14-95DA-02D34364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CA4E-8274-4A24-8138-88D2CD89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1E5D-A69B-4D4B-9267-5E1B604E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636E-A8CA-4437-ABCB-1ACF44A1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5034-3F97-4BE7-B5DB-45F1CC20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F201-CE74-4C27-9298-BCA49465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9C11-6095-47AC-89EF-55304A95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F838-D803-4589-A6A6-743A2201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DD44-1543-46F3-9C4A-F82AC4DE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9A17-9377-4883-99F8-14D7AB24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D7F8-0801-4EC8-ADD2-F688244B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C51-7741-465E-B0AA-5F72EF09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473-C041-4D79-9CB2-998A7F72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5F6-525F-4612-A446-B339AFD3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ECB-20B0-410F-BDEC-245542B9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4A2-692B-4C20-9006-899F1703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58B-80CE-4EAD-B7BC-B791C61B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B883-A1DD-49C4-8BF8-4D94594CD8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F670-0CB5-4839-9B80-3C653A7163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1413000"/>
            <a:ext cx="7677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Londo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the   Capita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of  the  U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132000" y="189000"/>
            <a:ext cx="576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afalgar Squar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95640" y="404640"/>
            <a:ext cx="642924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 rot="670200">
            <a:off x="477360" y="4624200"/>
            <a:ext cx="640872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140360" y="6283440"/>
            <a:ext cx="469584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635280" y="6093000"/>
            <a:ext cx="5200920" cy="765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uckingham Palace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284720" y="0"/>
            <a:ext cx="46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British Museum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705040" y="3544920"/>
            <a:ext cx="64389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рота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укингемского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ворца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24720" cy="5550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908000" y="5950080"/>
            <a:ext cx="522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ritish Museum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4314600" cy="6453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 rot="19615800">
            <a:off x="5011560" y="4784400"/>
            <a:ext cx="427536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t. Paul's Cathedral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61920" y="5589720"/>
            <a:ext cx="9250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omic Sans MS"/>
              </a:rPr>
              <a:t>Главные ворота Гайд Парка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492360" y="105264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0" y="5300640"/>
            <a:ext cx="410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Hyde Park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364500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63840"/>
            <a:ext cx="8510400" cy="2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476280"/>
            <a:ext cx="8540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don is the capital of Great Britain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 is one of the largest cities in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 is  a very old c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 is  two thousand years o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out  9 million  people  live in Lond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don  is  a  big  por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 is  situated  on  the  river Tham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3 parts  in  Lond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 City, the West   and  the  East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50920" y="0"/>
            <a:ext cx="47512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Bank of England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3224160"/>
            <a:ext cx="5219640" cy="3633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900760" y="1197000"/>
            <a:ext cx="26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d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720" y="4797360"/>
            <a:ext cx="340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Universit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-1251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95280" y="333360"/>
            <a:ext cx="532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Stock Exchange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741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8137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95480" y="5460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4508640"/>
            <a:ext cx="399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DS Note"/>
              </a:rPr>
              <a:t>The Hous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DS Note"/>
              </a:rPr>
              <a:t>of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DS Note"/>
              </a:rPr>
              <a:t>Parliament</a:t>
            </a:r>
            <a:r>
              <a:rPr b="0" lang="en-US" sz="4400" spc="-1" strike="noStrike">
                <a:solidFill>
                  <a:srgbClr val="ffffff"/>
                </a:solidFill>
                <a:latin typeface="DS Note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81240" y="252360"/>
            <a:ext cx="65008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914360" y="5759280"/>
            <a:ext cx="430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The Tow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39680" y="5759280"/>
            <a:ext cx="430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The Tow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252360"/>
            <a:ext cx="7846920" cy="4651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340000" y="5157720"/>
            <a:ext cx="47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wer Brid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132000" y="5950080"/>
            <a:ext cx="576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afalgar Squar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5:59:40Z</dcterms:created>
  <dc:creator>Einshtein</dc:creator>
  <dc:description/>
  <dc:language>en-US</dc:language>
  <cp:lastModifiedBy>LAN_OS</cp:lastModifiedBy>
  <dcterms:modified xsi:type="dcterms:W3CDTF">2013-04-28T15:24:12Z</dcterms:modified>
  <cp:revision>24</cp:revision>
  <dc:subject/>
  <dc:title>Слайд 1</dc:title>
</cp:coreProperties>
</file>