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3B6-60DF-49C1-BC81-71C1BFCF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A2F-A3C7-4E04-A9C4-4C503723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02B-67FA-4455-B3A4-59CE1C16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A13-6989-4023-927E-33DA9EA7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F3B6-6F31-466E-927F-BCE4542F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0BF1-5DB4-4BF8-B480-3DDF4C00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9920-1557-4522-B0DD-039A4A8C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24FC-BAB4-4F80-BDD1-06C84F96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2976-76E7-418C-93C1-F0038D12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0B7E-EEA9-4DA5-B7C0-221E589C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BA87-DDC4-4A03-A9A2-3C5EF115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C45-48C9-4A30-BA63-548782B4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485F-260A-49E3-93FD-162430EA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FFD5-CCF1-402A-86B3-6F6A79B1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24CC-F01D-45E5-9BEB-03BBCC95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8C18-41A6-4FC0-933C-332F5F8D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AFD2-42A1-4112-83EB-021B4519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C6C-6188-4574-B1D1-A6361184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807-0B4C-40E9-B416-4DFA355B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5E6-BD94-476C-8314-AD28B614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911-819A-4637-89BE-8EF406F8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00A-EF24-4AC7-B6DF-F73EA129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01A-EB51-42F7-9331-9FE80A5C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BA1-F131-4E96-BBAD-A902A894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4023-43FF-4DA1-B697-BC1A726A25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194A-C003-43E2-B7D2-E69E5053F2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1413000"/>
            <a:ext cx="7677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Londo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the   Capita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of  the  U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132000" y="189000"/>
            <a:ext cx="576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afalgar Squar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95640" y="404640"/>
            <a:ext cx="642924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 rot="670200">
            <a:off x="477360" y="4624200"/>
            <a:ext cx="640872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140360" y="6283440"/>
            <a:ext cx="469584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635280" y="6093000"/>
            <a:ext cx="5200920" cy="765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284720" y="0"/>
            <a:ext cx="46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ritish Museum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705040" y="3544920"/>
            <a:ext cx="64389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рот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укингемского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ворц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24720" cy="5550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908000" y="5950080"/>
            <a:ext cx="522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ritish Museum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4314600" cy="6453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 rot="19615800">
            <a:off x="5011560" y="4784400"/>
            <a:ext cx="427536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t. Paul's Cathedral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61920" y="5589720"/>
            <a:ext cx="9250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omic Sans MS"/>
              </a:rPr>
              <a:t>Главные ворота Гайд Парка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492360" y="105264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0" y="5300640"/>
            <a:ext cx="410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Hyde Park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364500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63840"/>
            <a:ext cx="851040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476280"/>
            <a:ext cx="8540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don is the capital of Great Britain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 is one of the largest cities in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 is  a very old c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 is  two thousand years o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out  9 million  people  live in Lond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don  is  a  big  por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 is  situated  on  the  river Tham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3 parts  in  Lond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 City, the West   and  the  East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50920" y="0"/>
            <a:ext cx="47512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Bank of England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3224160"/>
            <a:ext cx="5219640" cy="3633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900760" y="1197000"/>
            <a:ext cx="26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d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720" y="4797360"/>
            <a:ext cx="340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Universi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-1251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95280" y="333360"/>
            <a:ext cx="532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Stock Exchange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741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8137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95480" y="5460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4508640"/>
            <a:ext cx="399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DS Note"/>
              </a:rPr>
              <a:t>The Hous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DS Note"/>
              </a:rPr>
              <a:t>of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DS Note"/>
              </a:rPr>
              <a:t>Parliament</a:t>
            </a:r>
            <a:r>
              <a:rPr b="0" lang="en-US" sz="4400" spc="-1" strike="noStrike">
                <a:solidFill>
                  <a:srgbClr val="ffffff"/>
                </a:solidFill>
                <a:latin typeface="DS Note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81240" y="252360"/>
            <a:ext cx="65008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914360" y="5759280"/>
            <a:ext cx="430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The Tow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39680" y="5759280"/>
            <a:ext cx="430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The Tow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252360"/>
            <a:ext cx="7846920" cy="4651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340000" y="5157720"/>
            <a:ext cx="47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wer Brid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132000" y="5950080"/>
            <a:ext cx="576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afalgar Squar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5:59:40Z</dcterms:created>
  <dc:creator>Einshtein</dc:creator>
  <dc:description/>
  <dc:language>en-US</dc:language>
  <cp:lastModifiedBy>LAN_OS</cp:lastModifiedBy>
  <dcterms:modified xsi:type="dcterms:W3CDTF">2013-04-28T15:24:12Z</dcterms:modified>
  <cp:revision>24</cp:revision>
  <dc:subject/>
  <dc:title>Слайд 1</dc:title>
</cp:coreProperties>
</file>