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CB8A-726E-4702-A1DC-DFABAA70A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BAF9-71CC-4A61-8F63-28F730AAB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752B-86EA-455B-A4C8-3EBF40F08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690E-FC12-42C5-9198-6486863BB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6F065-8BC6-49B1-8F67-A35C3C99E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9733C-622A-4690-B811-F6035E6CB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5A0B6-C535-42D1-ADF1-8C1B420F4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FE00F-01CC-4375-BBCC-1907D0F12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101C6-3D69-4D30-B8E8-F28CC7478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40821-5A47-4FAC-A7EB-6F54BD9E1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D6F6B-39EB-4E0D-9F47-DF70D18A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648F-F12F-40DF-9E8B-580B45AC0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A2DBE-A286-4A7F-90E0-DA3DBB17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E721E-30AE-430E-B837-70883E2A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348BF-362D-417A-859E-230B09903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8101F-F805-475B-A83F-2514B788C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496EE-146E-4150-B765-241F9A9A2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886A-D2D6-45A1-88BB-133A66011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BB96-E89D-4A25-BD21-70DD05D4F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9AEF-0E0C-424C-9561-DBC308499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70F8-DC1A-4900-BC4D-886972F22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FC1C-E14F-492F-8950-3211454FC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2D2E-5BDD-4A91-AACC-720B53EB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E20C-487F-4699-A447-669377EC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B5551-8C0B-4210-8CE2-C35E7DCA876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8D0CE-47DF-4538-8B30-62B72218122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4360" y="1413000"/>
            <a:ext cx="7677000" cy="43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London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ahoma"/>
              </a:rPr>
              <a:t>i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ahoma"/>
              </a:rPr>
              <a:t>the   Capital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ahoma"/>
              </a:rPr>
              <a:t>of  the  UK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3132000" y="189000"/>
            <a:ext cx="57610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rafalgar Square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195640" y="404640"/>
            <a:ext cx="6429240" cy="41148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 rot="670200">
            <a:off x="477360" y="4624200"/>
            <a:ext cx="6408720" cy="134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Trafalgar Square</a:t>
            </a:r>
            <a:endParaRPr b="0" lang="en-US" sz="1800" spc="1" strike="noStrike">
              <a:ln w="9360">
                <a:solidFill>
                  <a:srgbClr val="333333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8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140360" y="6283440"/>
            <a:ext cx="4695840" cy="574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Buckingham Palac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3635280" y="6093000"/>
            <a:ext cx="5200920" cy="765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Buckingham Palace</a:t>
            </a:r>
            <a:endParaRPr b="0" lang="en-US" sz="1800" spc="1" strike="noStrike">
              <a:ln w="9360">
                <a:solidFill>
                  <a:srgbClr val="ff0066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77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" dur="770" fill="hold"/>
                                        <p:tgtEl>
                                          <p:spTgt spid="1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9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1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284720" y="0"/>
            <a:ext cx="4643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British Museum</a:t>
            </a:r>
            <a:endParaRPr b="0" lang="en-US" sz="1800" spc="1" strike="noStrike">
              <a:ln w="9360">
                <a:solidFill>
                  <a:srgbClr val="ff0066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77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0" dur="770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2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4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77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9" dur="770" fill="hold"/>
                                        <p:tgtEl>
                                          <p:spTgt spid="1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1" dur="77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3" dur="77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4286160" cy="5715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2705040" y="3544920"/>
            <a:ext cx="643896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орота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Букингемского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дворца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8424720" cy="55501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1908000" y="5950080"/>
            <a:ext cx="52200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British Museum</a:t>
            </a:r>
            <a:endParaRPr b="0" lang="en-US" sz="1800" spc="1" strike="noStrike">
              <a:ln w="9360">
                <a:solidFill>
                  <a:srgbClr val="ff0066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11280" y="189000"/>
            <a:ext cx="4314600" cy="6453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 rot="19615800">
            <a:off x="5011560" y="4784400"/>
            <a:ext cx="4275360" cy="87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St. Paul's Cathedral</a:t>
            </a:r>
            <a:endParaRPr b="0" lang="en-US" sz="1800" spc="1" strike="noStrike">
              <a:ln w="9360">
                <a:solidFill>
                  <a:srgbClr val="660033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-61920" y="5589720"/>
            <a:ext cx="9250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omic Sans MS"/>
              </a:rPr>
              <a:t>Главные ворота Гайд Парка</a:t>
            </a:r>
            <a:endParaRPr b="0" lang="en-US" sz="5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4033800" cy="30258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3492360" y="1052640"/>
            <a:ext cx="5400720" cy="40510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4572000" y="5300640"/>
            <a:ext cx="410364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Hyde Park</a:t>
            </a:r>
            <a:endParaRPr b="0" lang="en-US" sz="1800" spc="1" strike="noStrike">
              <a:ln w="9360">
                <a:solidFill>
                  <a:srgbClr val="00ffff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179280" y="3645000"/>
            <a:ext cx="403380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663840"/>
            <a:ext cx="8510400" cy="2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7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1680" y="476280"/>
            <a:ext cx="854064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ndon is the capital of Great Britain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t  is one of the largest cities in the wor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t  is  a very old cit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t  is  two thousand years ol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bout  9 million  people  live in Lond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ndon  is  a  big  por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t  is  situated  on  the  river Tham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re are 3 parts  in  London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 City, the West   and  the  East E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469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250920" y="0"/>
            <a:ext cx="475128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The Bank of England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924360" y="3224160"/>
            <a:ext cx="5219640" cy="36338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256360" cy="39416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900760" y="1197000"/>
            <a:ext cx="263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Londo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70720" y="4797360"/>
            <a:ext cx="340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University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0" y="-1251000"/>
            <a:ext cx="9144000" cy="68677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395280" y="333360"/>
            <a:ext cx="5329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33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Stock Exchange</a:t>
            </a:r>
            <a:endParaRPr b="0" lang="en-US" sz="1800" spc="1" strike="noStrike">
              <a:ln w="12600">
                <a:solidFill>
                  <a:srgbClr val="333333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84360" y="981000"/>
            <a:ext cx="74167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55640" y="1484280"/>
            <a:ext cx="813744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895480" y="54608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0920" y="4508640"/>
            <a:ext cx="3995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DS Note"/>
              </a:rPr>
              <a:t>The House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DS Note"/>
              </a:rPr>
              <a:t>of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DS Note"/>
              </a:rPr>
              <a:t>Parliament</a:t>
            </a:r>
            <a:r>
              <a:rPr b="0" lang="en-US" sz="4400" spc="-1" strike="noStrike">
                <a:solidFill>
                  <a:srgbClr val="ffffff"/>
                </a:solidFill>
                <a:latin typeface="DS Note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181240" y="252360"/>
            <a:ext cx="6500880" cy="38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914360" y="5759280"/>
            <a:ext cx="4306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The Tower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639680" y="5759280"/>
            <a:ext cx="4306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The Tower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77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" dur="770" fill="hold"/>
                                        <p:tgtEl>
                                          <p:spTgt spid="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" dur="77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" dur="77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762120" y="252360"/>
            <a:ext cx="7846920" cy="46515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2340000" y="5157720"/>
            <a:ext cx="4753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ower Bridg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3132000" y="5950080"/>
            <a:ext cx="57610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rafalgar Square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1T15:59:40Z</dcterms:created>
  <dc:creator>Einshtein</dc:creator>
  <dc:description/>
  <dc:language>en-US</dc:language>
  <cp:lastModifiedBy>LAN_OS</cp:lastModifiedBy>
  <dcterms:modified xsi:type="dcterms:W3CDTF">2013-04-28T15:24:12Z</dcterms:modified>
  <cp:revision>24</cp:revision>
  <dc:subject/>
  <dc:title>Слайд 1</dc:title>
</cp:coreProperties>
</file>