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jpeg" ContentType="image/jpeg"/>
  <Override PartName="/ppt/media/image1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A52-A0AC-472E-AC9B-91A070CB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02A-A4CA-4224-867F-B4977A94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841-8FBC-40E5-BCC6-CD9EDAA1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FFF-A4A4-4613-9F42-213F1A7C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199-F814-42BD-B607-96651E31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D6D-B234-457C-AF1E-56DF0D42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13F-47D6-4908-8DD4-287E4953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530-0336-4A4D-A0DB-F1E8406A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105-295A-4269-A603-F6EF6A71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817-DC3E-41F7-ABF3-58FCD11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792-CE24-44CB-B408-69CF144E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BC1-C5CF-4557-A13B-59F1FF2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EA4C-A70A-46B8-B3EE-E26D32561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s42.radikal.ru/i096/1105/4b/044335a1ea4d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555560" y="2924280"/>
            <a:ext cx="7111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Математическая 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В гостях у мудрой сов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>
            <a:hlinkClick r:id="rId3" action="ppaction://hlinksldjump"/>
          </p:cNvPr>
          <p:cNvSpPr/>
          <p:nvPr/>
        </p:nvSpPr>
        <p:spPr>
          <a:xfrm>
            <a:off x="1617480" y="1915200"/>
            <a:ext cx="46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Разми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>
            <a:hlinkClick r:id="rId4" action="ppaction://hlinksldjump"/>
          </p:cNvPr>
          <p:cNvSpPr/>
          <p:nvPr/>
        </p:nvSpPr>
        <p:spPr>
          <a:xfrm>
            <a:off x="1474200" y="270756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Острый глаз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>
            <a:hlinkClick r:id="rId5" action="ppaction://hlinksldjump"/>
          </p:cNvPr>
          <p:cNvSpPr/>
          <p:nvPr/>
        </p:nvSpPr>
        <p:spPr>
          <a:xfrm>
            <a:off x="1475640" y="342828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Логическ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>
            <a:hlinkClick r:id="rId6" action="ppaction://hlinksldjump"/>
          </p:cNvPr>
          <p:cNvSpPr/>
          <p:nvPr/>
        </p:nvSpPr>
        <p:spPr>
          <a:xfrm>
            <a:off x="1617840" y="414900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Отгадай ребу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>
            <a:hlinkClick r:id="rId7" action="ppaction://hlinksldjump"/>
          </p:cNvPr>
          <p:cNvSpPr/>
          <p:nvPr/>
        </p:nvSpPr>
        <p:spPr>
          <a:xfrm>
            <a:off x="1615680" y="4867920"/>
            <a:ext cx="72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Математические бус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>
            <a:hlinkClick r:id="rId8" action="ppaction://hlinksldjump"/>
          </p:cNvPr>
          <p:cNvSpPr/>
          <p:nvPr/>
        </p:nvSpPr>
        <p:spPr>
          <a:xfrm>
            <a:off x="1618200" y="5588640"/>
            <a:ext cx="49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Сказоч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627280" y="404640"/>
            <a:ext cx="5688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ю викторины</a:t>
            </a:r>
            <a:endParaRPr b="1" lang="en-US" sz="40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AutoShape 13">
            <a:hlinkClick r:id="" action="ppaction://hlinkshowjump?jump=endshow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826920" y="1698480"/>
            <a:ext cx="806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коло столовой, где обедали лыжники, пришедшие из похода, стояли 20 лыж, а в снег было воткнуто 20 палок. Сколько лыжников ходило в пох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11280" y="3429000"/>
            <a:ext cx="8532720" cy="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826920" y="3427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д, баба, внучка, Жучка, кошка и мышка тянули-тянули репку и, наконец, вытянули. Сколько глаз смотрело на реп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611280" y="5229360"/>
            <a:ext cx="8532720" cy="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826920" y="53722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абушка вязала внукам шарфы и варежки. Всего она связала 3 шарфа и 6 варежек. Сколько внуков у бабуш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5652000" y="263700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10 лыж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6" descr="MC900232438[1]"/>
          <p:cNvPicPr/>
          <p:nvPr/>
        </p:nvPicPr>
        <p:blipFill>
          <a:blip r:embed="rId3"/>
          <a:stretch/>
        </p:blipFill>
        <p:spPr>
          <a:xfrm>
            <a:off x="3348000" y="1628640"/>
            <a:ext cx="1735200" cy="1852920"/>
          </a:xfrm>
          <a:prstGeom prst="rect">
            <a:avLst/>
          </a:prstGeom>
          <a:ln w="0">
            <a:noFill/>
          </a:ln>
        </p:spPr>
      </p:pic>
      <p:sp>
        <p:nvSpPr>
          <p:cNvPr id="62" name="WordArt 12"/>
          <p:cNvSpPr txBox="1"/>
          <p:nvPr/>
        </p:nvSpPr>
        <p:spPr>
          <a:xfrm>
            <a:off x="2771640" y="476280"/>
            <a:ext cx="446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минка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444720" y="4292640"/>
            <a:ext cx="16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12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Картинка 4 из 82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2360" y="328464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5"/>
          <p:cNvSpPr/>
          <p:nvPr/>
        </p:nvSpPr>
        <p:spPr>
          <a:xfrm>
            <a:off x="6156360" y="6278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7165440" y="609300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3 вн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9" descr="MC900353803[1]"/>
          <p:cNvPicPr/>
          <p:nvPr/>
        </p:nvPicPr>
        <p:blipFill>
          <a:blip r:embed="rId6"/>
          <a:stretch/>
        </p:blipFill>
        <p:spPr>
          <a:xfrm>
            <a:off x="2700360" y="5157720"/>
            <a:ext cx="2808360" cy="17002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0">
            <a:hlinkClick r:id="rId7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5"/>
          <p:cNvSpPr/>
          <p:nvPr/>
        </p:nvSpPr>
        <p:spPr>
          <a:xfrm rot="13460400">
            <a:off x="4858920" y="4149000"/>
            <a:ext cx="1800360" cy="18716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 rot="2690400">
            <a:off x="7451280" y="4149720"/>
            <a:ext cx="1814760" cy="18144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 rot="18861600">
            <a:off x="6156000" y="2852280"/>
            <a:ext cx="1814760" cy="18144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 rot="8110200">
            <a:off x="6156000" y="5444640"/>
            <a:ext cx="1814400" cy="181476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 rot="8080200">
            <a:off x="6156000" y="2852280"/>
            <a:ext cx="1814760" cy="18144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20"/>
          <p:cNvSpPr txBox="1"/>
          <p:nvPr/>
        </p:nvSpPr>
        <p:spPr>
          <a:xfrm>
            <a:off x="2411280" y="404640"/>
            <a:ext cx="51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рый глаз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1045440" y="2394000"/>
            <a:ext cx="395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кольк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нарисован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3"/>
          <p:cNvSpPr/>
          <p:nvPr/>
        </p:nvSpPr>
        <p:spPr>
          <a:xfrm>
            <a:off x="1041840" y="5084640"/>
            <a:ext cx="35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9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>
            <a:hlinkClick r:id="rId3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8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916360" y="404640"/>
            <a:ext cx="45352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гический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116000" y="1913400"/>
            <a:ext cx="666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то стар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ри брата - Ваня, Саша, Коля - учились в разных классах. Ваня был не старше Коли, а Саша – не старше Вани. Назовите имена старшего, среднего и младшего брат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MC900232452[1]"/>
          <p:cNvPicPr/>
          <p:nvPr/>
        </p:nvPicPr>
        <p:blipFill>
          <a:blip r:embed="rId3"/>
          <a:stretch/>
        </p:blipFill>
        <p:spPr>
          <a:xfrm>
            <a:off x="7308720" y="3429000"/>
            <a:ext cx="1440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MC900349097[1]"/>
          <p:cNvPicPr/>
          <p:nvPr/>
        </p:nvPicPr>
        <p:blipFill>
          <a:blip r:embed="rId4"/>
          <a:stretch/>
        </p:blipFill>
        <p:spPr>
          <a:xfrm>
            <a:off x="4211640" y="4149720"/>
            <a:ext cx="1241280" cy="250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MC900343323[1]"/>
          <p:cNvPicPr/>
          <p:nvPr/>
        </p:nvPicPr>
        <p:blipFill>
          <a:blip r:embed="rId5"/>
          <a:stretch/>
        </p:blipFill>
        <p:spPr>
          <a:xfrm>
            <a:off x="1187280" y="4724280"/>
            <a:ext cx="1403640" cy="1893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4"/>
          <p:cNvSpPr/>
          <p:nvPr/>
        </p:nvSpPr>
        <p:spPr>
          <a:xfrm>
            <a:off x="7524720" y="2637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К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4285800" y="3573360"/>
            <a:ext cx="11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1548000" y="41497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7">
            <a:hlinkClick r:id="rId6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2484360" y="476280"/>
            <a:ext cx="4967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ребус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4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4"/>
          <p:cNvSpPr/>
          <p:nvPr/>
        </p:nvSpPr>
        <p:spPr>
          <a:xfrm>
            <a:off x="6950880" y="5661000"/>
            <a:ext cx="13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Д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32000" y="1773360"/>
          <a:ext cx="4248000" cy="143964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2000" y="3357720"/>
          <a:ext cx="4248000" cy="172692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17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332000" y="5300640"/>
          <a:ext cx="4105080" cy="129708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52">
            <a:hlinkClick r:id="rId3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1405440" y="1773360"/>
            <a:ext cx="3858120" cy="1368360"/>
            <a:chOff x="1405440" y="1773360"/>
            <a:chExt cx="3858120" cy="1368360"/>
          </a:xfrm>
        </p:grpSpPr>
        <p:pic>
          <p:nvPicPr>
            <p:cNvPr id="100" name="Picture 59" descr="MC900052815[1]"/>
            <p:cNvPicPr/>
            <p:nvPr/>
          </p:nvPicPr>
          <p:blipFill>
            <a:blip r:embed="rId4"/>
            <a:stretch/>
          </p:blipFill>
          <p:spPr>
            <a:xfrm>
              <a:off x="2856600" y="1917720"/>
              <a:ext cx="1924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60"/>
            <p:cNvSpPr/>
            <p:nvPr/>
          </p:nvSpPr>
          <p:spPr>
            <a:xfrm>
              <a:off x="1405440" y="1989360"/>
              <a:ext cx="1370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Ч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1"/>
            <p:cNvSpPr/>
            <p:nvPr/>
          </p:nvSpPr>
          <p:spPr>
            <a:xfrm>
              <a:off x="4849560" y="1773360"/>
              <a:ext cx="41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,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62"/>
          <p:cNvGrpSpPr/>
          <p:nvPr/>
        </p:nvGrpSpPr>
        <p:grpSpPr>
          <a:xfrm>
            <a:off x="1837080" y="3357720"/>
            <a:ext cx="3098160" cy="1749240"/>
            <a:chOff x="1837080" y="3357720"/>
            <a:chExt cx="3098160" cy="1749240"/>
          </a:xfrm>
        </p:grpSpPr>
        <p:pic>
          <p:nvPicPr>
            <p:cNvPr id="104" name="Picture 63" descr="1685789288021624"/>
            <p:cNvPicPr/>
            <p:nvPr/>
          </p:nvPicPr>
          <p:blipFill>
            <a:blip r:embed="rId5"/>
            <a:stretch/>
          </p:blipFill>
          <p:spPr>
            <a:xfrm>
              <a:off x="2122560" y="3357720"/>
              <a:ext cx="201600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64"/>
            <p:cNvSpPr/>
            <p:nvPr/>
          </p:nvSpPr>
          <p:spPr>
            <a:xfrm>
              <a:off x="1837080" y="3573360"/>
              <a:ext cx="833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О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5"/>
            <p:cNvSpPr/>
            <p:nvPr/>
          </p:nvSpPr>
          <p:spPr>
            <a:xfrm>
              <a:off x="3997080" y="3573360"/>
              <a:ext cx="938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Ж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6"/>
            <p:cNvSpPr/>
            <p:nvPr/>
          </p:nvSpPr>
          <p:spPr>
            <a:xfrm>
              <a:off x="4138560" y="3789360"/>
              <a:ext cx="649440" cy="576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4138560" y="3862440"/>
              <a:ext cx="72072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8"/>
            <p:cNvSpPr/>
            <p:nvPr/>
          </p:nvSpPr>
          <p:spPr>
            <a:xfrm flipV="1">
              <a:off x="4138560" y="3862440"/>
              <a:ext cx="576360" cy="50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9"/>
            <p:cNvSpPr/>
            <p:nvPr/>
          </p:nvSpPr>
          <p:spPr>
            <a:xfrm flipV="1">
              <a:off x="4138560" y="3789000"/>
              <a:ext cx="649440" cy="64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0"/>
            <p:cNvSpPr/>
            <p:nvPr/>
          </p:nvSpPr>
          <p:spPr>
            <a:xfrm flipV="1">
              <a:off x="4138560" y="3789000"/>
              <a:ext cx="64944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74"/>
          <p:cNvGrpSpPr/>
          <p:nvPr/>
        </p:nvGrpSpPr>
        <p:grpSpPr>
          <a:xfrm>
            <a:off x="1765440" y="5300640"/>
            <a:ext cx="2374920" cy="1246320"/>
            <a:chOff x="1765440" y="5300640"/>
            <a:chExt cx="2374920" cy="1246320"/>
          </a:xfrm>
        </p:grpSpPr>
        <p:sp>
          <p:nvSpPr>
            <p:cNvPr id="113" name="Text Box 75"/>
            <p:cNvSpPr/>
            <p:nvPr/>
          </p:nvSpPr>
          <p:spPr>
            <a:xfrm>
              <a:off x="1765440" y="5445360"/>
              <a:ext cx="1477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Д ,,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6" descr="MC900441419[1]"/>
            <p:cNvPicPr/>
            <p:nvPr/>
          </p:nvPicPr>
          <p:blipFill>
            <a:blip r:embed="rId6"/>
            <a:stretch/>
          </p:blipFill>
          <p:spPr>
            <a:xfrm>
              <a:off x="3203640" y="5300640"/>
              <a:ext cx="936720" cy="12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 Box 78"/>
          <p:cNvSpPr/>
          <p:nvPr/>
        </p:nvSpPr>
        <p:spPr>
          <a:xfrm>
            <a:off x="6733440" y="2060640"/>
            <a:ext cx="19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9"/>
          <p:cNvSpPr/>
          <p:nvPr/>
        </p:nvSpPr>
        <p:spPr>
          <a:xfrm>
            <a:off x="6949080" y="3789360"/>
            <a:ext cx="165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д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2268360" y="476280"/>
            <a:ext cx="583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ческие бусы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7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1118880" y="1989000"/>
            <a:ext cx="587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з разных цифр я сделал бус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 в тех кружках, где чисел 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асставьте минусы и плюс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тоб данный получи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042920" y="3933720"/>
            <a:ext cx="6193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44 – 15 – 13 + 7 =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1042920" y="3933720"/>
            <a:ext cx="6193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44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  <a:ea typeface="Arial"/>
              </a:rPr>
              <a:t>○ 15 ○ 13 ○ 7 =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1042920" y="3933720"/>
            <a:ext cx="6193080" cy="7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1042920" y="5229360"/>
            <a:ext cx="6193080" cy="79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86 – 45 + 34 + 3 =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042920" y="5229360"/>
            <a:ext cx="6193080" cy="79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86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  <a:ea typeface="Arial"/>
              </a:rPr>
              <a:t>○ 45 ○ 34 ○ 3 =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1042920" y="5229360"/>
            <a:ext cx="619308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>
            <a:hlinkClick r:id="rId3" action="ppaction://hlinksldjump"/>
          </p:cNvPr>
          <p:cNvSpPr/>
          <p:nvPr/>
        </p:nvSpPr>
        <p:spPr>
          <a:xfrm>
            <a:off x="8317080" y="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09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2" y="18155"/>
                  <a:pt x="11674" y="18155"/>
                </a:cubicBezTo>
                <a:lnTo>
                  <a:pt x="10011" y="18155"/>
                </a:lnTo>
                <a:cubicBezTo>
                  <a:pt x="7244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3"/>
          <p:cNvSpPr txBox="1"/>
          <p:nvPr/>
        </p:nvSpPr>
        <p:spPr>
          <a:xfrm>
            <a:off x="3059280" y="549360"/>
            <a:ext cx="39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очный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4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822960" y="1843560"/>
            <a:ext cx="50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колько козлят бы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 многодетной коз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23680" y="3174120"/>
            <a:ext cx="519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колько бойцов бы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 Али-Баб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55640" y="481536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колько лет жил старик со старухой у моря в сказке А.С.Пушкина «Сказка о рыбаке и рыбк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684360" y="2997360"/>
            <a:ext cx="8459640" cy="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611280" y="4653000"/>
            <a:ext cx="8532720" cy="7128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Картинка 35 из 5144"/>
          <p:cNvPicPr/>
          <p:nvPr/>
        </p:nvPicPr>
        <p:blipFill>
          <a:blip r:embed="rId3"/>
          <a:stretch/>
        </p:blipFill>
        <p:spPr>
          <a:xfrm>
            <a:off x="3348000" y="1197000"/>
            <a:ext cx="2525760" cy="1655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6589440" y="1844640"/>
            <a:ext cx="23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ем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4" descr="Картинка 48 из 2763"/>
          <p:cNvPicPr/>
          <p:nvPr/>
        </p:nvPicPr>
        <p:blipFill>
          <a:blip r:embed="rId4"/>
          <a:stretch/>
        </p:blipFill>
        <p:spPr>
          <a:xfrm>
            <a:off x="1258920" y="2781360"/>
            <a:ext cx="3456000" cy="2016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5"/>
          <p:cNvSpPr/>
          <p:nvPr/>
        </p:nvSpPr>
        <p:spPr>
          <a:xfrm>
            <a:off x="6733440" y="342900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о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7" descr="Картинка 3 из 13988"/>
          <p:cNvPicPr/>
          <p:nvPr/>
        </p:nvPicPr>
        <p:blipFill>
          <a:blip r:embed="rId5"/>
          <a:stretch/>
        </p:blipFill>
        <p:spPr>
          <a:xfrm>
            <a:off x="1692360" y="4741920"/>
            <a:ext cx="3166920" cy="2116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8"/>
          <p:cNvSpPr/>
          <p:nvPr/>
        </p:nvSpPr>
        <p:spPr>
          <a:xfrm>
            <a:off x="5794200" y="5013360"/>
            <a:ext cx="283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Три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т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5:35:56Z</dcterms:created>
  <dc:creator>Сява</dc:creator>
  <dc:description/>
  <dc:language>en-US</dc:language>
  <cp:lastModifiedBy>Исаншина</cp:lastModifiedBy>
  <dcterms:modified xsi:type="dcterms:W3CDTF">2015-01-31T18:24:31Z</dcterms:modified>
  <cp:revision>15</cp:revision>
  <dc:subject/>
  <dc:title>Слайд 1</dc:title>
</cp:coreProperties>
</file>