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E4F9-A516-42D9-BB4B-3C0C8115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0E41-7DDC-45F9-9140-744E9DE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28ED-5DB3-42EC-A314-9010A6F1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00AB-E731-46BD-A369-DD60B171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BE8-5981-4A3D-9185-A48D238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5A5-004D-4B49-B89C-80CCF9D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C77E-D4A7-415D-AAE6-8DE9C200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BC6-0490-4560-98AE-D74BC25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82D-EE90-4C49-9C3C-53F0298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6B2-803E-48E6-9B8A-7999F81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B85C-71A8-4CB1-9BC1-12AD3419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8E1E-3907-4D13-93F8-2B9C42B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E542-5497-4C27-80E7-363B453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0D01-E10D-4FBF-AFF0-C3C1AE6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F00-9642-45CF-8E62-664F9C5C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635-5379-4405-9F70-6A65D066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11E-4FA4-4025-800D-14FC427B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3732-E6D4-4465-9E46-4BC035C1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C72C-83E1-404D-B0E4-25F3836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8CB9-838E-42A9-BF7C-3EEEEA52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7139-60E9-4A03-9F6F-F2AD822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E4F3-1B80-4F58-BA50-5DE1180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7C1D-F8BA-4595-A5FE-5C1246B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B905-72FC-47C5-B170-917DB92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130-8842-4111-9ECE-04C1C1F99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687-FB09-44FA-96ED-A8FB0ABE3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attik.ru/?p=3273" TargetMode="External"/><Relationship Id="rId2" Type="http://schemas.openxmlformats.org/officeDocument/2006/relationships/hyperlink" Target="http://nattik.ru/?p=3273" TargetMode="External"/><Relationship Id="rId3" Type="http://schemas.openxmlformats.org/officeDocument/2006/relationships/hyperlink" Target="http://nattik.ru/?p=3273" TargetMode="External"/><Relationship Id="rId4" Type="http://schemas.openxmlformats.org/officeDocument/2006/relationships/hyperlink" Target="http://ru.wikipedia.org/wiki/&#1050;&#1086;&#1083;&#1091;&#1084;&#1073;,_&#1061;&#1088;&#1080;&#1089;&#1090;&#1086;&#1092;&#1086;&#1088;" TargetMode="External"/><Relationship Id="rId5" Type="http://schemas.openxmlformats.org/officeDocument/2006/relationships/hyperlink" Target="http://ru.wikipedia.org/wiki/&#1054;&#1090;&#1082;&#1088;&#1099;&#1090;&#1080;&#1077;_&#1040;&#1084;&#1077;&#1088;&#1080;&#1082;&#1080;" TargetMode="External"/><Relationship Id="rId6" Type="http://schemas.openxmlformats.org/officeDocument/2006/relationships/hyperlink" Target="http://ru.wikipedia.org/wiki/&#1071;&#1081;&#1094;&#1086;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атематические головоло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Картинка 54 из 548"/>
          <p:cNvPicPr/>
          <p:nvPr/>
        </p:nvPicPr>
        <p:blipFill>
          <a:blip r:embed="rId2"/>
          <a:stretch/>
        </p:blipFill>
        <p:spPr>
          <a:xfrm>
            <a:off x="1187280" y="1628640"/>
            <a:ext cx="6772320" cy="440532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93880" y="1600200"/>
            <a:ext cx="3165480" cy="4533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Картинка 143 из 548"/>
          <p:cNvPicPr/>
          <p:nvPr/>
        </p:nvPicPr>
        <p:blipFill>
          <a:blip r:embed="rId3"/>
          <a:stretch/>
        </p:blipFill>
        <p:spPr>
          <a:xfrm>
            <a:off x="4572000" y="2708280"/>
            <a:ext cx="4002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Картинка 50 из 21664"/>
          <p:cNvPicPr/>
          <p:nvPr/>
        </p:nvPicPr>
        <p:blipFill>
          <a:blip r:embed="rId1"/>
          <a:stretch/>
        </p:blipFill>
        <p:spPr>
          <a:xfrm>
            <a:off x="1835280" y="333360"/>
            <a:ext cx="61912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Картинка 9 из 21665"/>
          <p:cNvPicPr/>
          <p:nvPr/>
        </p:nvPicPr>
        <p:blipFill>
          <a:blip r:embed="rId3"/>
          <a:stretch/>
        </p:blipFill>
        <p:spPr>
          <a:xfrm>
            <a:off x="4643280" y="1628640"/>
            <a:ext cx="4229280" cy="3886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Картинка 37 из 21663"/>
          <p:cNvPicPr/>
          <p:nvPr/>
        </p:nvPicPr>
        <p:blipFill>
          <a:blip r:embed="rId4"/>
          <a:stretch/>
        </p:blipFill>
        <p:spPr>
          <a:xfrm>
            <a:off x="539640" y="476280"/>
            <a:ext cx="3924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Желаем успехов в развитии дошкольник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Картинка 137 из 548"/>
          <p:cNvPicPr/>
          <p:nvPr/>
        </p:nvPicPr>
        <p:blipFill>
          <a:blip r:embed="rId2"/>
          <a:stretch/>
        </p:blipFill>
        <p:spPr>
          <a:xfrm>
            <a:off x="1547640" y="1484280"/>
            <a:ext cx="6323040" cy="469908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Картинка 22 из 537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16276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гры на воссоздание фигур-силуэтов из специальных наб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значение математических головолом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образного и логического мыш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смекалки и сообрази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сенсорных способ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практическим действиям, направленным на анализ сложной 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ривычки к умственному тр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Этапы работы с математическими головолом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этап – знакомство с деталями конструктора, выкладывание элементарных геометрических форм из деталей конструк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этап – предлагается образец, выполненный в том же масштабе, что и элементы игры, с указанием месторасположения частей (дети накладывают геометрические фигуры на образ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этап – составление фигуры по нерасчленённому образцу, с использованием цветового указания мест расположения ча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этап – составление фигуры по нерасчленённому образцу (масштаб такой же, как в игр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этап – составление фигур по схемам, не совпадающим по масштабу с элементами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этап – проявление творчества в составлении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1"/>
              </a:rPr>
              <a:t>Развивающая игра-конструктор _x000b__x000b_«</a:t>
            </a: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2"/>
              </a:rPr>
              <a:t>Колумбово</a:t>
            </a: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3"/>
              </a:rPr>
              <a:t>  яйц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о преданию, когда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4"/>
              </a:rPr>
              <a:t>Колумб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во время обеда у кардинала Мендосы рассказывал о том, как он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5"/>
              </a:rPr>
              <a:t>открывал Америку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, один из присутствующих сказал: «Что может быть проще, чем открыть новую землю?» В ответ на это Колумб предложил ему простую задачу: как поставить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6"/>
              </a:rPr>
              <a:t>яйцо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а стол вертикально? Когда ни один из присутствующих не смог этого сделать, Колумб, взяв яйцо, разбил его с одного конца и поставил на стол, показав, что это действительно было просто. Увидев это, все запротестовали, сказав, что так смогли бы и они. На что Колумб ответил: «</a:t>
            </a: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азница в том, Господа, что вы могли бы это сделать, а я сделал это на самом деле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4648320" y="1984320"/>
            <a:ext cx="4038480" cy="376416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75452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атематическая игра-конструктор «Колумбово яйцо» предназначена для детей 3-8 лет. В нее можно играть, составляя из частей Колумбова Яйца забавные фигурки всевозможных предметов, птиц и зверей. При этом нужно придерживаться простых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.      части конструктора должны соединяться таким образом, чтобы они не перекрывали друг другу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2.      в составленной фигурке должны быть использованы все части констру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Первы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1720" cy="34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363760" cy="36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700360" y="1557360"/>
            <a:ext cx="3771720" cy="45338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372360" y="4941720"/>
            <a:ext cx="166212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465720" cy="49543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8163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544840" cy="33400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351240" cy="377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284976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52:59Z</dcterms:created>
  <dc:creator>name</dc:creator>
  <dc:description/>
  <dc:language>en-US</dc:language>
  <cp:lastModifiedBy>dou84_2</cp:lastModifiedBy>
  <dcterms:modified xsi:type="dcterms:W3CDTF">2011-12-05T09:10:24Z</dcterms:modified>
  <cp:revision>5</cp:revision>
  <dc:subject/>
  <dc:title>   Развивающая игра-конструктор  «Колумбово яйцо»  </dc:title>
</cp:coreProperties>
</file>