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D01F-A9BE-496E-9ADA-47B51129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654A-5E70-4ED1-8E4F-47168E28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5FBC-B0A4-4955-92EA-050B391B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C3D9-ACE2-438E-9ED1-33E3EB43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7D83-4174-451E-BA3D-F817D5E9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9496-7700-49F0-B40C-B4BC2069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54B0-BB66-4C1F-AE1B-6C4F011F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BE2D-B93F-4022-A22D-8FAE0AE6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E563-4574-4E0E-8F0D-7F13235F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0DCB-3ECA-4CB2-A164-D21BA2F7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25DE-BB18-4D43-AC2C-D6C6CE75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D61D-04BA-4201-B308-4BA74A1A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3FF1-23CA-4A16-B6C9-EE45194A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3350-960F-469E-9A0C-8BA83941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739F-4824-4373-9438-CAB7BBF8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6614-7397-4A60-A716-9ED41346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B3B6-41FE-4C00-87FC-74945747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D03B-CC68-4242-B28D-6706D97F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9FAF-BB72-4081-A9CA-02CEF0D1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6CF4E-634F-47FC-880D-CF1DA5E6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C6EF-C3CB-47CA-B2D8-42E457A5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F244-5FC7-4F2A-9085-77CDAB37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DBEF-4722-4635-B934-D8B00A68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B45A-4CD7-4D67-96A9-FBC04C54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5775-E39E-4334-9458-B524AA4DCC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3D7E-07FA-4267-BD02-867A906103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attik.ru/?p=3273" TargetMode="External"/><Relationship Id="rId2" Type="http://schemas.openxmlformats.org/officeDocument/2006/relationships/hyperlink" Target="http://nattik.ru/?p=3273" TargetMode="External"/><Relationship Id="rId3" Type="http://schemas.openxmlformats.org/officeDocument/2006/relationships/hyperlink" Target="http://nattik.ru/?p=3273" TargetMode="External"/><Relationship Id="rId4" Type="http://schemas.openxmlformats.org/officeDocument/2006/relationships/hyperlink" Target="http://ru.wikipedia.org/wiki/&#1050;&#1086;&#1083;&#1091;&#1084;&#1073;,_&#1061;&#1088;&#1080;&#1089;&#1090;&#1086;&#1092;&#1086;&#1088;" TargetMode="External"/><Relationship Id="rId5" Type="http://schemas.openxmlformats.org/officeDocument/2006/relationships/hyperlink" Target="http://ru.wikipedia.org/wiki/&#1054;&#1090;&#1082;&#1088;&#1099;&#1090;&#1080;&#1077;_&#1040;&#1084;&#1077;&#1088;&#1080;&#1082;&#1080;" TargetMode="External"/><Relationship Id="rId6" Type="http://schemas.openxmlformats.org/officeDocument/2006/relationships/hyperlink" Target="http://ru.wikipedia.org/wiki/&#1071;&#1081;&#1094;&#1086;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Математические головолом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384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Картинка 54 из 548"/>
          <p:cNvPicPr/>
          <p:nvPr/>
        </p:nvPicPr>
        <p:blipFill>
          <a:blip r:embed="rId2"/>
          <a:stretch/>
        </p:blipFill>
        <p:spPr>
          <a:xfrm>
            <a:off x="1187280" y="1628640"/>
            <a:ext cx="6772320" cy="4405320"/>
          </a:xfrm>
          <a:prstGeom prst="rect">
            <a:avLst/>
          </a:prstGeom>
          <a:ln w="507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твёртый уровень слож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893880" y="1600200"/>
            <a:ext cx="3165480" cy="45338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38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Картинка 143 из 548"/>
          <p:cNvPicPr/>
          <p:nvPr/>
        </p:nvPicPr>
        <p:blipFill>
          <a:blip r:embed="rId3"/>
          <a:stretch/>
        </p:blipFill>
        <p:spPr>
          <a:xfrm>
            <a:off x="4572000" y="2708280"/>
            <a:ext cx="40021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Картинка 50 из 21664"/>
          <p:cNvPicPr/>
          <p:nvPr/>
        </p:nvPicPr>
        <p:blipFill>
          <a:blip r:embed="rId1"/>
          <a:stretch/>
        </p:blipFill>
        <p:spPr>
          <a:xfrm>
            <a:off x="1835280" y="333360"/>
            <a:ext cx="619128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384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3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Картинка 9 из 21665"/>
          <p:cNvPicPr/>
          <p:nvPr/>
        </p:nvPicPr>
        <p:blipFill>
          <a:blip r:embed="rId3"/>
          <a:stretch/>
        </p:blipFill>
        <p:spPr>
          <a:xfrm>
            <a:off x="4643280" y="1628640"/>
            <a:ext cx="4229280" cy="38862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Картинка 37 из 21663"/>
          <p:cNvPicPr/>
          <p:nvPr/>
        </p:nvPicPr>
        <p:blipFill>
          <a:blip r:embed="rId4"/>
          <a:stretch/>
        </p:blipFill>
        <p:spPr>
          <a:xfrm>
            <a:off x="539640" y="476280"/>
            <a:ext cx="39243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Желаем успехов в развитии дошкольник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384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Картинка 137 из 548"/>
          <p:cNvPicPr/>
          <p:nvPr/>
        </p:nvPicPr>
        <p:blipFill>
          <a:blip r:embed="rId2"/>
          <a:stretch/>
        </p:blipFill>
        <p:spPr>
          <a:xfrm>
            <a:off x="1547640" y="1484280"/>
            <a:ext cx="6323040" cy="4699080"/>
          </a:xfrm>
          <a:prstGeom prst="rect">
            <a:avLst/>
          </a:prstGeom>
          <a:ln w="507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Картинка 22 из 537"/>
          <p:cNvPicPr/>
          <p:nvPr/>
        </p:nvPicPr>
        <p:blipFill>
          <a:blip r:embed="rId1"/>
          <a:stretch/>
        </p:blipFill>
        <p:spPr>
          <a:xfrm>
            <a:off x="826920" y="907920"/>
            <a:ext cx="7620120" cy="5162760"/>
          </a:xfrm>
          <a:prstGeom prst="rect">
            <a:avLst/>
          </a:prstGeom>
          <a:ln w="50760">
            <a:solidFill>
              <a:srgbClr val="cc0000"/>
            </a:solidFill>
            <a:miter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Игры на воссоздание фигур-силуэтов из специальных наб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82296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Назначение математических головолом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пространственных представл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образного и логического мышл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смекалки и сообразите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сенсорных способнос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учение практическим действиям, направленным на анализ сложной фор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ование привычки к умственному тр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Этапы работы с математическими головолом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этап – знакомство с деталями конструктора, выкладывание элементарных геометрических форм из деталей конструкто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этап – предлагается образец, выполненный в том же масштабе, что и элементы игры, с указанием месторасположения частей (дети накладывают геометрические фигуры на образе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этап – составление фигуры по нерасчленённому образцу, с использованием цветового указания мест расположения час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этап – составление фигуры по нерасчленённому образцу (масштаб такой же, как в игр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этап – составление фигур по схемам, не совпадающим по масштабу с элементами иг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этап – проявление творчества в составлении фиг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47900"/>
                </a:solidFill>
                <a:uFillTx/>
                <a:latin typeface="Arial"/>
                <a:hlinkClick r:id="rId1"/>
              </a:rPr>
              <a:t>Развивающая игра-конструктор _x000b__x000b_«</a:t>
            </a:r>
            <a:r>
              <a:rPr b="0" lang="ru-RU" sz="2000" spc="-1" strike="noStrike" u="sng">
                <a:solidFill>
                  <a:srgbClr val="a47900"/>
                </a:solidFill>
                <a:uFillTx/>
                <a:latin typeface="Arial"/>
                <a:hlinkClick r:id="rId2"/>
              </a:rPr>
              <a:t>Колумбово</a:t>
            </a:r>
            <a:r>
              <a:rPr b="0" lang="ru-RU" sz="2000" spc="-1" strike="noStrike" u="sng">
                <a:solidFill>
                  <a:srgbClr val="a47900"/>
                </a:solidFill>
                <a:uFillTx/>
                <a:latin typeface="Arial"/>
                <a:hlinkClick r:id="rId3"/>
              </a:rPr>
              <a:t>  яйц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По преданию, когда </a:t>
            </a:r>
            <a:r>
              <a:rPr b="0" lang="ru-RU" sz="1400" spc="-1" strike="noStrike" u="sng">
                <a:solidFill>
                  <a:srgbClr val="a47900"/>
                </a:solidFill>
                <a:uFillTx/>
                <a:latin typeface="Arial"/>
                <a:hlinkClick r:id="rId4"/>
              </a:rPr>
              <a:t>Колумб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 во время обеда у кардинала Мендосы рассказывал о том, как он </a:t>
            </a:r>
            <a:r>
              <a:rPr b="0" lang="ru-RU" sz="1400" spc="-1" strike="noStrike" u="sng">
                <a:solidFill>
                  <a:srgbClr val="a47900"/>
                </a:solidFill>
                <a:uFillTx/>
                <a:latin typeface="Arial"/>
                <a:hlinkClick r:id="rId5"/>
              </a:rPr>
              <a:t>открывал Америку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, один из присутствующих сказал: «Что может быть проще, чем открыть новую землю?» В ответ на это Колумб предложил ему простую задачу: как поставить </a:t>
            </a:r>
            <a:r>
              <a:rPr b="0" lang="ru-RU" sz="1400" spc="-1" strike="noStrike" u="sng">
                <a:solidFill>
                  <a:srgbClr val="a47900"/>
                </a:solidFill>
                <a:uFillTx/>
                <a:latin typeface="Arial"/>
                <a:hlinkClick r:id="rId6"/>
              </a:rPr>
              <a:t>яйцо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на стол вертикально? Когда ни один из присутствующих не смог этого сделать, Колумб, взяв яйцо, разбил его с одного конца и поставил на стол, показав, что это действительно было просто. Увидев это, все запротестовали, сказав, что так смогли бы и они. На что Колумб ответил: «</a:t>
            </a:r>
            <a:r>
              <a:rPr b="1" i="1" lang="ru-RU" sz="1400" spc="-1" strike="noStrike">
                <a:solidFill>
                  <a:srgbClr val="003399"/>
                </a:solidFill>
                <a:latin typeface="Arial"/>
              </a:rPr>
              <a:t>Разница в том, Господа, что вы могли бы это сделать, а я сделал это на самом деле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7"/>
          <a:stretch/>
        </p:blipFill>
        <p:spPr>
          <a:xfrm>
            <a:off x="4648320" y="1984320"/>
            <a:ext cx="4038480" cy="3764160"/>
          </a:xfrm>
          <a:prstGeom prst="rect">
            <a:avLst/>
          </a:prstGeom>
          <a:ln w="50760">
            <a:solidFill>
              <a:srgbClr val="cc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684000" y="620280"/>
            <a:ext cx="75452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Математическая игра-конструктор «Колумбово яйцо» предназначена для детей 3-8 лет. В нее можно играть, составляя из частей Колумбова Яйца забавные фигурки всевозможных предметов, птиц и зверей. При этом нужно придерживаться простых прав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1.      части конструктора должны соединяться таким образом, чтобы они не перекрывали друг другу.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2.      в составленной фигурке должны быть использованы все части конструк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Первый уровень слож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871720" cy="34005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6372360" y="1268280"/>
            <a:ext cx="2363760" cy="3656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2700360" y="1557360"/>
            <a:ext cx="3771720" cy="453384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6372360" y="4941720"/>
            <a:ext cx="1662120" cy="16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торой уровень слож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3465720" cy="49543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4284720" y="1413000"/>
            <a:ext cx="381636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етий уровень слож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2544840" cy="334008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5580000" y="1557360"/>
            <a:ext cx="3351240" cy="37796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2771640" y="2997360"/>
            <a:ext cx="2849760" cy="31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52:59Z</dcterms:created>
  <dc:creator>name</dc:creator>
  <dc:description/>
  <dc:language>en-US</dc:language>
  <cp:lastModifiedBy>dou84_2</cp:lastModifiedBy>
  <dcterms:modified xsi:type="dcterms:W3CDTF">2011-12-05T09:10:24Z</dcterms:modified>
  <cp:revision>5</cp:revision>
  <dc:subject/>
  <dc:title>   Развивающая игра-конструктор  «Колумбово яйцо»  </dc:title>
</cp:coreProperties>
</file>