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159-B799-4D02-A3FF-4EA4B0CD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6FD-473F-4508-9450-C7EF8B1B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1AB78-8589-4057-B1B3-69BD5A4C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F9DF-DAD9-4311-9AF8-05720B90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7BEC8-ADAB-4BE8-A714-7E9E3480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AA9F5-D094-4BA4-ACC6-7EF6734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B289F-8703-4FEB-8DD8-2768542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555FE-7A1E-4CF9-AAB8-51F8470B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1865B-5C18-4225-BDE1-5C672D2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781AB-21D5-4EE5-B4CD-72A017A4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2DDAE-06B1-499C-9F68-32AD4B92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665B2-DFBE-423A-9FDB-D1B11C1B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DAD-652C-4019-A91A-3F642EE7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26577-C586-4F2A-980D-C8982891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77E16-C2A1-40BF-B5D1-1A3A6B8C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B96ED-29E6-4E9B-AC21-18CC1CB0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F9627-CB99-4D2D-A6F3-CB4EE454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1EAD3-F5A8-4CF9-B79F-EA050969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72371-5E2E-4A0B-B8A5-DD82C41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09F0C-8327-43B2-91CF-4444B47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0AE2F-596F-4BEB-A885-F0D7FB64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21DFC-35BE-4B6D-91A4-0FBDACE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218DE-2F19-45D6-BAAA-A585E6B6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08C-0144-4587-BD4C-BA8E404A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40BF9-8EC2-42DB-A545-9865BF51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5963B-02CF-4B54-8DB0-D29E7B71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9A85D-95DD-4B56-B689-C4E8C2DE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85C0B-9927-4579-9141-247E1B0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8B933-5148-4BDC-A5B8-B9ACDC06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C4977-1DE5-49AB-89B7-A83F6B41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7A548-184D-4BD1-A334-9B54DEAE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8E6AD-14C1-49DA-AA19-0A3C6DB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A8B38-E730-41D3-9638-A7B7A781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7BF25-5890-48C6-B76C-D7FF5409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93D8-B48E-45BE-8C5B-C8350906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7D773-BB4B-46CD-9D78-D725976B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73E0C-032F-4AC6-A5D5-1BDF27DC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C08B4-0FBA-4A81-AD32-D08ACE06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EFBC-C739-4702-A672-7C232E80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A7C0-8CED-439E-B4D8-A52AE59F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E4C7-994F-4563-8D6F-84BB1211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66EB-49F5-4BC0-9715-4159E6BD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D3DE-1FD4-4FDD-9D48-C10336A4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968B-F4C6-4C20-A42D-1B4387D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A98-95AC-4DB6-9BCF-03A9E5A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42A-02FF-4EC0-A990-777E77DD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CCE8-FE98-4193-A009-D74C472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6F3-0F97-4484-B23E-AB447E2B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E6A-700F-4E56-8E27-914D8B8D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FB22-2D3E-40A9-AA05-834815EB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87FAB-8E1D-4110-AE49-BA8FD167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9493A-56BB-4EFF-B5A8-D7CBDE2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7E228-EBA6-4F10-9903-3A95AEEE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19D25-F48E-474A-BA3B-935C114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B15C2-9545-40BC-9413-0960D703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2B1-3732-4998-8692-32FE1B94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EBE26-6509-488C-B28E-9182D9D1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83452-1CD3-4141-8401-600D36C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8FD5C-1537-437B-9304-8818C23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AF577-C84E-4A45-9FB8-B98C3E9D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5A656-864D-47C4-92D8-EB8A6CBF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C6825-28FD-47F6-9310-7F47A09C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54536-DD56-4CAA-B92C-AEFF98C7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2807-4DC3-4AC5-80A0-1E535EDA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2F42-677F-45AE-9123-4CCB8BD3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8910-6A42-4B8D-A4D4-30B94783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648-40E7-44B4-809A-86A23D51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BD07-9A88-4890-B0F8-1A044FA6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D650-D21C-4302-A151-E50AC798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3782-77F9-4897-A0AA-7BDE288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2EBC-A7B8-480F-9E65-5E8B3C6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05E1-07CC-49A9-9818-34170BCC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DAAB-4823-4C08-90C5-C85A99EB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E42A-1B2E-461A-9B17-DBAD0BE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6750-EA58-485C-8AA1-3B4245F0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4AC8-249C-4E89-84ED-7AA6D6E2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84E93-D5DA-4838-BED8-27011AE9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A40-5F8A-4BA9-A68B-6D044B66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0B076-9FB8-4B0D-91A9-118EB964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2B483-254A-4BA9-BA5D-692513D2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36E90-FB03-41AC-A839-62EA4B43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58673-F758-4195-9792-8E3D8AA8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CB345-B920-45D6-8908-AEE92633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024DB-FA09-4693-93F5-EB3A422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43FFE-83B6-4260-B446-849103C6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A3518-2CFF-41DD-92A2-54E137D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83F6F-8CEB-427D-92DD-9852082F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D22B0-185C-4AE3-9F5C-4CCCE068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E54-3FDF-4E01-ACFB-1B2895D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8B11B-1B86-4796-B0F6-35765329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1F883-B20F-42A8-9CA0-D89C7EFC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E7FE0A-5350-4B1C-A0D1-883E6122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9D913-E9E5-49F3-8EF9-49A1C857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C4290-14C3-42D7-847F-6D223F4B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53F10-1716-475D-BFF6-750C91CB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954F2-B7B2-47E8-B8CB-A48BD7EB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1AB76-F18E-44DA-81B9-0C76AA7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A7C6C-C928-4828-926C-009F416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A96EF-3743-4066-B73B-D1DC152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A57-4E14-4B17-8F80-0BCBBF7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F4DE4-E062-48AC-9829-DD371BD3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4BF60-3A54-4BB9-9896-90A7BF05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A5958-F124-4FBE-A87A-D1C6DE88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809FE-0F71-4EC9-8B73-B9586433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7C8E4-EF73-4D87-9838-57159E5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46535-5C5A-4414-87D3-21588D09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39BCC-361D-4FD6-89ED-497C98F4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B5B5F-A857-48E5-950E-FBB68E1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A5DE4-1A5B-46CE-AE20-627F265D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F8250-99E3-4952-8D63-F512126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594-0C05-46C3-B34C-89F30B4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1CBB0-6F1C-4CBE-BF11-72B57CE9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A7E45-934F-4D6D-9A22-9DDE03F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90BAC-7EAE-4160-AE02-7025F21B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C74A7-4CE3-4C8D-8549-A24212DF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AEBF2-9A7D-4855-A1D5-CF370A41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8CB2-3AEF-47CB-9C6D-4F7415E7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B0B6-C7DF-4DC3-92F7-2F34BD30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32927-DDE0-4E0E-9C45-BF3196A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61289-AC31-4793-A932-1B7DC87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1EE6E-9C2D-4E88-8E0D-87724EA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AAB-B236-4620-91C1-3780AC9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4A3F1-6346-4520-8BE8-FB542129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B8F69-E26B-434A-BD78-95E2B7F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E4414-119D-4A80-A89B-E75F6001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8FC2-E9EC-46E2-B80A-FD21552C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F0A08-8788-4CF2-84FB-9635FEA0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050C4-AEA3-4E0D-86ED-1A90F01F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5348C-8069-48E5-83FD-7ABE94B9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3DFD6-DCFD-45BE-80E6-D3EFE1AF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71196-D562-4FE5-A423-82D62335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321AD-63ED-4264-B69C-19D497B3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D198-10E2-49CC-B373-45052DB720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938B-FB23-4995-934B-6B9484F206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E5FC-E866-4438-8E98-E767CBF5D0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A2C4-5ECE-4C3E-91D4-CF2E38FB77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4D4-3215-4C60-8942-30B70AE686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F18E-24FC-4A64-A2D6-CE24F47B24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F70-3D2E-45C4-A6B3-F81D200F8A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1C6B-C2CA-4632-B2BB-32CE75448C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2966-EC6E-4CE5-8DF3-4DE923F017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5CED-8D93-46F6-A425-1F256E92FA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3BBA-BF36-49B1-8628-9AB637E78F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2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ЧТОБЫ СПОРИЛОСЬ ТРУДНОЕ ДЕЛО,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ЧТОБЫ В ЖИЗНИ НЕ ЗНАТЬ НЕУДАЧ.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МЫ С ТОБОЙ ОТПРАВЛЯЕМСЯ СМЕЛО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В МИР ЗАГАДОК И СЛОЖНЫХ ЗАДАЧ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5f6d"/>
                </a:solidFill>
                <a:latin typeface="Georgia"/>
              </a:rPr>
              <a:t>СПОСОБЫ ИЗМЕРЕНИЯ ПЛОЩАД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формул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помощью палетк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5" name="Picture 6" descr=""/>
          <p:cNvPicPr/>
          <p:nvPr/>
        </p:nvPicPr>
        <p:blipFill>
          <a:blip r:embed="rId1"/>
          <a:srcRect l="8934" t="4515" r="0" b="5507"/>
          <a:stretch/>
        </p:blipFill>
        <p:spPr>
          <a:xfrm>
            <a:off x="108000" y="2997360"/>
            <a:ext cx="2201760" cy="2879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"/>
          <p:cNvPicPr/>
          <p:nvPr/>
        </p:nvPicPr>
        <p:blipFill>
          <a:blip r:embed="rId2"/>
          <a:srcRect l="0" t="1886" r="7433" b="4988"/>
          <a:stretch/>
        </p:blipFill>
        <p:spPr>
          <a:xfrm>
            <a:off x="2484360" y="2924280"/>
            <a:ext cx="302436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7252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785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5f6d"/>
                </a:solidFill>
                <a:latin typeface="Georgia"/>
              </a:rPr>
              <a:t>СПОСОБЫ ИЗМЕРЕНИЯ ОБЪЕМ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1"/>
          <a:stretch/>
        </p:blipFill>
        <p:spPr>
          <a:xfrm>
            <a:off x="5072040" y="1428840"/>
            <a:ext cx="3000240" cy="20336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9"/>
          <p:cNvSpPr/>
          <p:nvPr/>
        </p:nvSpPr>
        <p:spPr>
          <a:xfrm>
            <a:off x="1403280" y="162864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 = a x b x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8"/>
          <p:cNvSpPr/>
          <p:nvPr/>
        </p:nvSpPr>
        <p:spPr>
          <a:xfrm flipV="1" rot="10800000">
            <a:off x="1142640" y="350136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Закон Архим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3" descr=""/>
          <p:cNvPicPr/>
          <p:nvPr/>
        </p:nvPicPr>
        <p:blipFill>
          <a:blip r:embed="rId2"/>
          <a:stretch/>
        </p:blipFill>
        <p:spPr>
          <a:xfrm>
            <a:off x="5072040" y="3571920"/>
            <a:ext cx="1943280" cy="2274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ТЕС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95280" y="981000"/>
            <a:ext cx="3889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  1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…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, 100,1,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)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…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0, 10, 1000, 10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)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м = …д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0, 10, 1,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2920" y="1052280"/>
            <a:ext cx="3961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4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a+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2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468360" y="3933720"/>
            <a:ext cx="4032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2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2a+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b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2b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9" descr=""/>
          <p:cNvPicPr/>
          <p:nvPr/>
        </p:nvPicPr>
        <p:blipFill>
          <a:blip r:embed="rId1"/>
          <a:stretch/>
        </p:blipFill>
        <p:spPr>
          <a:xfrm>
            <a:off x="2411280" y="4508640"/>
            <a:ext cx="2009880" cy="1323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495440" cy="1552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1"/>
          <p:cNvSpPr/>
          <p:nvPr/>
        </p:nvSpPr>
        <p:spPr>
          <a:xfrm>
            <a:off x="4788000" y="4076640"/>
            <a:ext cx="3960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2" descr=""/>
          <p:cNvPicPr/>
          <p:nvPr/>
        </p:nvPicPr>
        <p:blipFill>
          <a:blip r:embed="rId3"/>
          <a:stretch/>
        </p:blipFill>
        <p:spPr>
          <a:xfrm>
            <a:off x="6500880" y="4071960"/>
            <a:ext cx="1857240" cy="1571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ПРОВЕРЬ СЕБ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10920" y="1557000"/>
            <a:ext cx="4259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100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1000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м = 10 д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=2a+2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=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=2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382920" cy="350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6028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ворческое: написать реферат о старинным мерах измерения площади и объем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бник: стр. 119 № 781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р. 130 № 84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75f6d"/>
                </a:solidFill>
                <a:latin typeface="Georgia"/>
              </a:rPr>
              <a:t>ПЛОЩАД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5480" y="1915920"/>
            <a:ext cx="8751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2" name="Picture 14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7072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75f6d"/>
                </a:solidFill>
                <a:latin typeface="Georgia"/>
              </a:rPr>
              <a:t>ОБЪЕ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8000" y="157176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5" name="Picture 14" descr=""/>
          <p:cNvPicPr/>
          <p:nvPr/>
        </p:nvPicPr>
        <p:blipFill>
          <a:blip r:embed="rId1"/>
          <a:stretch/>
        </p:blipFill>
        <p:spPr>
          <a:xfrm>
            <a:off x="428760" y="2500200"/>
            <a:ext cx="8286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ТЕМА УРОКА: ПЛОЩАДЬ И ОБЪЕМ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5800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071440" y="3938760"/>
            <a:ext cx="6615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ь математики Шалькевич А.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610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ЦЕЛИ: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600200"/>
            <a:ext cx="7467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познакомиться с единицами измерения площади и объем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рассмотреть способы измерения площади и объем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прорешать задачи по изученно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ЧЕМ ИЗМЕРЯЕТСЯ ПЛОЩАДЬ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кв. километ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к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 000 000 кв. 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кв. мет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кв. дец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д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 000 кв. сант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с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кв. децимет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д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кв. сант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с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 000 кв. милли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м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гекта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г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а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 000 кв. 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 ар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= 100 кв. метров (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кв. 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СТАРИННЫЕ МЕРЫ ПЛОЩ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79280" y="1197000"/>
            <a:ext cx="885672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в.верс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250 000 кв.саженей = 1,138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десятин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2400  кв.саженей = 1,093 г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опн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0, 1 десятин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в.сажен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16 кв.аршинов = 4,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кв.аршин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= 0,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ЧЕМ ИЗМЕРЯЕТСЯ ОБЪ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6840" y="2428920"/>
            <a:ext cx="746748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куб.м (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= 1000 куб.дециметрам (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1000000 куб.сантиметрам (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куб.дециметр (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00 куб.сантиметрам (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литр = 1 куб.дециметру (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МЕРЫ ОБЪЁ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748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 ведро = 1/40 бочки = 10 круж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чка = 40 ведер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жаный мешок (бурдюк) = 60 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чага = 12 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садка = 2,5 вед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0" name="Picture 16" descr="http://www.beermachine-ural.ru/core/upl_images/katalog_product_imagebig_1066.png"/>
          <p:cNvPicPr/>
          <p:nvPr/>
        </p:nvPicPr>
        <p:blipFill>
          <a:blip r:embed="rId1"/>
          <a:stretch/>
        </p:blipFill>
        <p:spPr>
          <a:xfrm>
            <a:off x="6215040" y="0"/>
            <a:ext cx="2286000" cy="27478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" descr="http://malditovivant.files.wordpress.com/2012/04/odre.jpg"/>
          <p:cNvPicPr/>
          <p:nvPr/>
        </p:nvPicPr>
        <p:blipFill>
          <a:blip r:embed="rId2"/>
          <a:stretch/>
        </p:blipFill>
        <p:spPr>
          <a:xfrm>
            <a:off x="857160" y="4071960"/>
            <a:ext cx="2714760" cy="1808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0" descr="http://www.gonchary.narod.ru/expo-utvar/korchaga-05.jpg"/>
          <p:cNvPicPr/>
          <p:nvPr/>
        </p:nvPicPr>
        <p:blipFill>
          <a:blip r:embed="rId3"/>
          <a:stretch/>
        </p:blipFill>
        <p:spPr>
          <a:xfrm>
            <a:off x="4643280" y="40719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0:23:02Z</dcterms:created>
  <dc:creator>User</dc:creator>
  <dc:description/>
  <dc:language>en-US</dc:language>
  <cp:lastModifiedBy>Дом</cp:lastModifiedBy>
  <dcterms:modified xsi:type="dcterms:W3CDTF">2015-01-31T14:40:18Z</dcterms:modified>
  <cp:revision>20</cp:revision>
  <dc:subject/>
  <dc:title>Математика, друзья, Абсолютно всем нужна. На уроке работай старательно, И успех тебя ждет обязательно</dc:title>
</cp:coreProperties>
</file>