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D99-3FF4-4200-99C7-3F8B5973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783-875D-42EC-B960-DB9BC946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9B75D-DF66-4802-A086-43489862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A8019-BD22-40BA-8300-FEE29F8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4C637-D7C6-44E5-A6C1-39EF941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C0E6-11AD-4C52-ADCF-D321AEE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FD8FB-3C0B-4140-82E1-183DDE64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A5971-8AF1-4942-82CB-936E2EA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4D1D7-3087-4544-AB46-56833093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BD707-E7A7-4E2A-955C-889EE9F3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BA526-1346-41AF-9224-621DF6A5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5F924-9DB0-4CF1-9D9D-CEFA1CC7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3AC-CD41-4220-866D-061002C1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37936-4162-4285-834A-8E6B4491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62B9C-C4E2-4574-B12B-A873D57F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5B49E-5834-4F95-AE5A-2260C05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4AF8C-65BF-45C5-B44A-42C2E159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0B2AC-1FCA-454D-AE52-B06E0F2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AEF7F-D425-41C1-9D0A-5CBCDAC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F15C1-70E7-4F4A-BC13-F47E46F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B82CF-1550-4401-B5FD-E5E949D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1372B-81BF-4DAA-9E37-CE25308B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A0D6C-FE42-47E7-9838-B74FDB56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A28-CEC1-4EBD-B700-5CA8CB01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345B3-7908-4ABE-B77D-8BC67C4B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BB650-C6EB-4702-AB76-DF11E86C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4A8A-5010-4488-8818-6989E76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19114-5015-4BF4-94CE-7318D2B6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4F949-8CB3-4D13-958E-53ABD802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5B9A0-F5EE-4775-B4CC-9F4243F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49928-4417-4876-8565-07D109F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43BB-397E-47DF-9ED1-21B73A98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36648-8875-4896-816A-E0F0496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E9A1D-9097-439C-B4D5-6F637CA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1ACA-12F6-4599-B7DC-19A6989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43D7-5790-4C66-874B-BEA238D8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60E4A-BE86-4957-B2CA-8693546F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46296-B90F-457C-9B6B-B594ADB3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07B-8E91-4F4C-97FC-56B0CAF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2DF4-8F32-4A91-84F4-71FE9CB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2AE-4F3F-4B4B-A812-AE330BE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4613-7A02-4DA8-B9AC-9F495FC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889C-7378-4E30-B556-A7ABB69A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CC0-511B-440B-BBB0-D0652D77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1FE-29F7-4C23-BA5A-B57948A7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1190-888C-4700-AFC6-BEB3270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6537-B07D-4810-B379-8B3F1B0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E586-A3A1-4474-BCC0-D21E07EA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D21-E25D-4568-9B85-3ECAD9F2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9A0C-675F-4AC8-BC14-1AD287D1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F36B0-2D2B-481A-B406-66A6CBD3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76914-6683-4712-B3CC-B922529B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8C190-E420-4AA4-8E89-A5A9D96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EC940-4497-43DA-9A7F-4DB8F4B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A43A9-E54F-470F-8171-7001B6D2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115-1BF5-4DDF-9D87-CC0DD8A1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FF3DA-441E-4797-9C4F-BFF8C845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B4101-84C6-4FEE-AB8F-5EEFF53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C1BDF-B98B-4143-BFAC-532B3AF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631EA-B2AE-42A6-B2D1-9BF9C4A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CD5BA-14C5-4635-9155-62978FEC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17B27-3FC6-4822-824E-275B498D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4907A-8C44-428D-B620-267C14C8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B1F0-242D-44E5-905B-471D126C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E724-B135-4B8F-B419-ED37415A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0ABF-0611-4AC6-877F-376FB2F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98F-09D2-4119-85C8-64CE2AC4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1CBF8-A777-46D2-B39D-2609146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9BFA-8D61-416B-98A4-B09BB23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46AD-C228-4231-AB0B-90B69D9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4D73-00D4-4F5E-BB21-C8749D6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3A6B-029F-4658-BE35-83141BA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B0EE-D1C5-49EC-BEC1-38D825EF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BC67-7667-42CA-A8BC-047808F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4680-5247-46D9-959B-444564C2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56D2-8B9B-45E0-A6BE-CB62AA76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5979C-1C75-45CB-91B8-07D9EC8C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D84-9403-4373-A9AA-70AD39F7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62457-87E0-4712-B816-E15819E2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C44DE-E6FE-4560-8516-32792C90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B027D-7711-4F83-91AB-DD14C551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F623F-C82F-47FE-803E-646B91F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CCAA0-8AEF-40D8-9712-090F5C90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F3927-F167-45E2-A365-414F367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D6BE9-421B-4E33-AA46-739F681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A0ADC-CAE7-4EE5-B818-4AF6452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41AAB-E063-4423-803F-942F92A8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52EFA-4C77-430A-9721-FE2724B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167-2247-46EC-98D5-671A18F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7D1B9-E280-4E99-9A40-4DCA7926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FF5FD-1586-43E6-A9C0-CF78BAF8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A6D64-C81B-499B-828B-92536781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D421D-1389-40C2-8871-1D448DAB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AEA19-6DF5-440E-83B6-89F99DB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82F15-5A87-4BC1-9DC6-D067437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268C7-06AE-4B9B-B6EB-99F55814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24615-6526-450D-98DD-C15D5D3F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AC08C-7451-40BA-9C41-CF62260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0FEE2-EB3F-47F5-8EE5-444C692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FEF-4814-4422-9EBE-A15672B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4684E-84AE-450B-B494-0269C62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78D9D-8870-4C3E-89DE-CE3210C4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BDB64-1E62-4801-B68C-FB046465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07A0B-C987-4C59-9316-63CFE64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2CD74-CD74-4CC6-BD31-C6271ECF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D1CE6-B727-45F2-A99B-FFAB4B7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75C36-3FF1-4073-84B0-53A2346F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6F072-828B-473E-AA09-95266E1B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270CF-A9E2-4709-9FF3-077C3AC6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2AA42-CC41-489F-B659-68274AE9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67C-D7A6-44BB-91E1-A8584B7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8D92D-43F9-4262-9606-748742E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1F816-6051-4F99-8AEF-41FB6B5B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AFD6A-9D74-4E8E-8019-8B802649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A6BF2-7D00-466E-9B6D-1A008911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CF2D1-52B6-4B02-9617-BC31308A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BD273-C80A-47CC-9F1A-842D23B1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681F-4486-42E6-973D-69F9F3F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FA183-D85C-43A1-AA15-B7814B81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EA53-3016-4B99-93AA-B45595A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37184-F090-4224-830A-ED442F5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A4A-C5EF-440F-BB5F-86C75EE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448A8-4F4F-46C7-B120-E77A2D6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034CF-9273-4892-AE61-81532A1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73149-A8E1-4142-A744-9A4F381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ED805-03F7-411A-B158-0E79863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D1D4-268A-4C7B-9911-9038255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B2F9-9FA5-44D9-9B5C-97AC64A2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06C2-4278-4233-920D-55597DE0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2748D-9D45-41CF-B6DE-D6A5CAB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B4EAC-6457-4366-81DE-0EF7459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9A0C3-A3AE-47B1-A584-4E57F68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FE6-AE37-4DF6-9A7C-B97BE4D42A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ACD-98C8-465B-99C2-DE9399F777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6A04-47FE-4329-96DA-6F01522A88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9B9-16EE-4A17-BF4A-5E7DA6483C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D3E-0B0E-429B-A2E8-9523A06A96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F00D-5277-4B31-9E5A-6D9E65F560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53A-750E-4BB8-95ED-EAE8D9760E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A166-1D08-47D2-8738-2EB24C1197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7B37-DFEB-4080-A7F5-65F68581C1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E8D-807A-436E-9322-ACF79B40E1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B701-01A0-44D1-BD2E-B7AC370271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2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ЧТОБЫ СПОРИЛОСЬ ТРУДНОЕ ДЕЛО,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ЧТОБЫ В ЖИЗНИ НЕ ЗНАТЬ НЕУДАЧ.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МЫ С ТОБОЙ ОТПРАВЛЯЕМСЯ СМЕЛО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В МИР ЗАГАДОК И СЛОЖНЫХ ЗАДАЧ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СПОСОБЫ ИЗМЕРЕНИЯ ПЛОЩАД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формул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помощью палетк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5" name="Picture 6" descr=""/>
          <p:cNvPicPr/>
          <p:nvPr/>
        </p:nvPicPr>
        <p:blipFill>
          <a:blip r:embed="rId1"/>
          <a:srcRect l="8934" t="4515" r="0" b="5507"/>
          <a:stretch/>
        </p:blipFill>
        <p:spPr>
          <a:xfrm>
            <a:off x="108000" y="2997360"/>
            <a:ext cx="2201760" cy="2879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"/>
          <p:cNvPicPr/>
          <p:nvPr/>
        </p:nvPicPr>
        <p:blipFill>
          <a:blip r:embed="rId2"/>
          <a:srcRect l="0" t="1886" r="7433" b="4988"/>
          <a:stretch/>
        </p:blipFill>
        <p:spPr>
          <a:xfrm>
            <a:off x="2484360" y="2924280"/>
            <a:ext cx="302436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7252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785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5f6d"/>
                </a:solidFill>
                <a:latin typeface="Georgia"/>
              </a:rPr>
              <a:t>СПОСОБЫ ИЗМЕРЕНИЯ ОБЪЕМ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"/>
          <a:stretch/>
        </p:blipFill>
        <p:spPr>
          <a:xfrm>
            <a:off x="5072040" y="1428840"/>
            <a:ext cx="3000240" cy="20336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9"/>
          <p:cNvSpPr/>
          <p:nvPr/>
        </p:nvSpPr>
        <p:spPr>
          <a:xfrm>
            <a:off x="1403280" y="162864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 = a x b x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8"/>
          <p:cNvSpPr/>
          <p:nvPr/>
        </p:nvSpPr>
        <p:spPr>
          <a:xfrm flipV="1" rot="10800000">
            <a:off x="1142640" y="350136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Закон Архим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3" descr=""/>
          <p:cNvPicPr/>
          <p:nvPr/>
        </p:nvPicPr>
        <p:blipFill>
          <a:blip r:embed="rId2"/>
          <a:stretch/>
        </p:blipFill>
        <p:spPr>
          <a:xfrm>
            <a:off x="5072040" y="3571920"/>
            <a:ext cx="1943280" cy="2274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ТЕС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95280" y="981000"/>
            <a:ext cx="388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  1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…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, 100,1,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)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…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0, 10, 1000, 10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)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м = …д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0, 10, 1,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2920" y="1052280"/>
            <a:ext cx="3961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4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a+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2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468360" y="3933720"/>
            <a:ext cx="4032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2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2a+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b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2b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9" descr=""/>
          <p:cNvPicPr/>
          <p:nvPr/>
        </p:nvPicPr>
        <p:blipFill>
          <a:blip r:embed="rId1"/>
          <a:stretch/>
        </p:blipFill>
        <p:spPr>
          <a:xfrm>
            <a:off x="2411280" y="4508640"/>
            <a:ext cx="2009880" cy="1323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495440" cy="1552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1"/>
          <p:cNvSpPr/>
          <p:nvPr/>
        </p:nvSpPr>
        <p:spPr>
          <a:xfrm>
            <a:off x="4788000" y="4076640"/>
            <a:ext cx="3960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2" descr=""/>
          <p:cNvPicPr/>
          <p:nvPr/>
        </p:nvPicPr>
        <p:blipFill>
          <a:blip r:embed="rId3"/>
          <a:stretch/>
        </p:blipFill>
        <p:spPr>
          <a:xfrm>
            <a:off x="6500880" y="4071960"/>
            <a:ext cx="1857240" cy="157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ПРОВЕРЬ СЕБ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10920" y="1557000"/>
            <a:ext cx="4259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100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100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м = 10 д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=2a+2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=2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382920" cy="350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6028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ворческое: написать реферат о старинным мерах измерения площади и объем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бник: стр. 119 № 781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р. 130 № 84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75f6d"/>
                </a:solidFill>
                <a:latin typeface="Georgia"/>
              </a:rPr>
              <a:t>ПЛОЩАД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5480" y="1915920"/>
            <a:ext cx="8751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2" name="Picture 14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7072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75f6d"/>
                </a:solidFill>
                <a:latin typeface="Georgia"/>
              </a:rPr>
              <a:t>ОБЪЕ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8000" y="157176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5" name="Picture 14" descr=""/>
          <p:cNvPicPr/>
          <p:nvPr/>
        </p:nvPicPr>
        <p:blipFill>
          <a:blip r:embed="rId1"/>
          <a:stretch/>
        </p:blipFill>
        <p:spPr>
          <a:xfrm>
            <a:off x="428760" y="2500200"/>
            <a:ext cx="8286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ТЕМА УРОКА: ПЛОЩАДЬ И ОБЪЕ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580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071440" y="3938760"/>
            <a:ext cx="6615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математики Шалькевич А.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610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ЦЕЛИ: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600200"/>
            <a:ext cx="7467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познакомиться с единицами измерения площади и объем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рассмотреть способы измерения площади и объем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прорешать задачи по изуче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ЧЕМ ИЗМЕРЯЕТСЯ ПЛОЩАДЬ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кв. километ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к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 000 000 кв. 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кв. мет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кв. дец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д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 000 кв. сант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с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кв. децимет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д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кв. сант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с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 000 кв. милл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м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гекта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г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а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 000 кв. 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а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кв. 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СТАРИННЫЕ МЕРЫ ПЛОЩ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79280" y="1197000"/>
            <a:ext cx="885672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в.верс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250 000 кв.саженей = 1,138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десятин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2400  кв.саженей = 1,093 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опн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0, 1 десятин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в.сажен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16 кв.аршинов = 4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в.аршин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0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ЧЕМ ИЗМЕРЯЕТСЯ ОБЪ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6840" y="2428920"/>
            <a:ext cx="746748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куб.м (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= 1000 куб.дециметрам (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1000000 куб.сантиметрам (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куб.дециметр (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00 куб.сантиметрам (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литр = 1 куб.дециметру (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МЕРЫ ОБЪЁ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748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 ведро = 1/40 бочки = 10 круж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чка = 40 веде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жаный мешок (бурдюк) = 60 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чага = 12 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садка = 2,5 вед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0" name="Picture 16" descr="http://www.beermachine-ural.ru/core/upl_images/katalog_product_imagebig_1066.png"/>
          <p:cNvPicPr/>
          <p:nvPr/>
        </p:nvPicPr>
        <p:blipFill>
          <a:blip r:embed="rId1"/>
          <a:stretch/>
        </p:blipFill>
        <p:spPr>
          <a:xfrm>
            <a:off x="6215040" y="0"/>
            <a:ext cx="2286000" cy="27478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" descr="http://malditovivant.files.wordpress.com/2012/04/odre.jpg"/>
          <p:cNvPicPr/>
          <p:nvPr/>
        </p:nvPicPr>
        <p:blipFill>
          <a:blip r:embed="rId2"/>
          <a:stretch/>
        </p:blipFill>
        <p:spPr>
          <a:xfrm>
            <a:off x="857160" y="4071960"/>
            <a:ext cx="2714760" cy="1808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0" descr="http://www.gonchary.narod.ru/expo-utvar/korchaga-05.jpg"/>
          <p:cNvPicPr/>
          <p:nvPr/>
        </p:nvPicPr>
        <p:blipFill>
          <a:blip r:embed="rId3"/>
          <a:stretch/>
        </p:blipFill>
        <p:spPr>
          <a:xfrm>
            <a:off x="4643280" y="40719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0:23:02Z</dcterms:created>
  <dc:creator>User</dc:creator>
  <dc:description/>
  <dc:language>en-US</dc:language>
  <cp:lastModifiedBy>Дом</cp:lastModifiedBy>
  <dcterms:modified xsi:type="dcterms:W3CDTF">2015-01-31T14:40:18Z</dcterms:modified>
  <cp:revision>20</cp:revision>
  <dc:subject/>
  <dc:title>Математика, друзья, Абсолютно всем нужна. На уроке работай старательно, И успех тебя ждет обязательно</dc:title>
</cp:coreProperties>
</file>